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gif" ContentType="image/gif"/>
  <Override PartName="/ppt/media/image25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82C-EEB0-4730-8FE6-952D3FC9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76D-C926-4306-80AB-EF980FED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8D0C-6BF5-4F0B-9856-CB8418A4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42BFB-7DB1-4DC4-8359-CE7AA79E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992EC-E838-456C-9AB9-732269F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FEC2D-E94F-49B4-8FB3-44BB6F4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3A9E6-4C32-4455-85EA-BE5E325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72203-ABAF-42C7-B6A6-72EC839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1BCA-2605-4BFF-B01B-E57730F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5206A-2C45-43BD-9869-0656AE6A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65FED-EA6F-42E7-98F6-A121E1B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4C05F-DFDF-4D3F-8054-970720D8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73-94A0-48FB-9EF4-E914D1B1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51EBF-985F-4333-8BA8-A782C85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39497-7BB3-4973-B47E-13B0CA5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023CD-8837-4FD2-9DD5-44AC57CA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6AEA-B530-417B-91D9-48C635B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67B2F-C3BC-4DC4-80DA-37A487C4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622F-3B79-4AB1-808E-49E14D9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3EBE6-68D0-4F18-B48F-1FDB2F5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F74C8-E6ED-4953-80C4-940B3D6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C1AED-B145-4552-92C2-12E9CAC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79AFB-5246-41DA-9EBE-C1B0049E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B69-3DB0-4CBA-88E2-0949BFBC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22EEC-A2E8-434E-B605-4D1E7757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EB9A-8293-4CDF-8CEB-3CB99B5F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9ADEE-4F77-4A08-BFC3-31E11F9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4824B-6F27-4A8F-98AB-607A73B6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CBF36-0420-420B-BA64-BA2319A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07AA-A214-4261-A213-9FB98FF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200D-5989-418F-B41A-42021BD5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3CAE5-F241-4500-A7E7-9C4893D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1F1A3-7055-4CF7-8FC0-BFA8B5F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0E398-F189-4D95-96C7-D05C24C9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226-EC66-4A96-8C5D-B945036C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E086C-8EE7-4311-9B84-7408A2C7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61BE-DC8C-487F-A058-7059461C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126F1-D9AD-4B73-ADB0-D883765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5D603F-381C-47E9-AFB4-77152BB1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683547-875B-4756-93DB-B491791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44AC2C-22F0-41E3-86C8-0E92E3E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20DF88-F7B9-401A-B9BB-8A1281D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4C142B-252F-44B0-8271-218CE61B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30F887-C7D9-4D71-B285-DFA6B516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CB4781-4BDB-4CCC-ADF1-62F0DFD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D9F7-AAE4-4758-827D-8B0A4B3F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CBF902-2FDF-48FA-BB77-ABEEECF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40ED05-FAC9-4667-81A3-F63168D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913277-83FA-4D9E-AFC5-74AE5389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9BAA5F-DB2B-4B5E-9F7C-7DC997D4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6B90DD-A8CC-4277-BE46-1812A63A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D84EF-4A2F-48E7-9245-B6963572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95DBE-3A47-4897-8CE3-900D3DC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34C7D-BEC1-4118-8513-A5E02A1E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8D621-ABC2-4D10-AA1B-D56869D6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DFA15-4539-43D4-9EEA-A735534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C2A5-B5CF-4BB7-B31D-F6B5AF83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4A14A-6C20-4D68-B51B-FE59A6D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924B4-F0A1-4400-B270-7DCA208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60AC1-F40C-42B5-BD7A-CCA9257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D6300-D43C-4A3B-A0D9-91A0D1B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31BAB-F3FF-4E40-810F-D0150AFC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09E27-7025-4AD2-B6F5-D418AAF7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DCD8E-BF58-4B71-8B39-54683749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F4F168-D179-41D6-AE1F-B285D929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ED3EEE-A935-447D-979B-577FFC1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9B51D7-F22E-4BC3-8BCA-9EFD2484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C4CA-BEAD-4A0A-90F0-B9D0CF7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88F5DD-0531-4BB9-AC72-451716E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23E6CD-13E5-476E-9AC7-1D1439F9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CB900A-8AAC-4B1A-9D7E-0DCDDD5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360583-D0AE-4656-90FB-725FE0F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AB15E5-51DD-4302-AAC1-81E83C4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29FA07-9CBD-4089-8223-039B686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9CE00E-A61F-444E-AF8C-FA400B9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B89811-A445-4D1C-A4F9-380E4D10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7BBC47-5ED8-4407-9BC7-DED0BBC4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8DD188-37F5-400E-81A3-220B2AF8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62D4-B819-4CDB-B12A-3C9F3E9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824654-86E7-4D6D-8374-BFA54C0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12BE24-F74A-496B-9022-47D5414E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C9D39-0769-4AC4-898E-C19431CF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65C0CF-63C5-4FA4-A49F-81356CD3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14540C-D63E-4856-8263-7DF85A42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202CF5-FA32-4E01-B2C8-BEE1645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84447F-35EC-417F-A985-4252149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961478-F06A-4EE2-A0CD-C051114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333719-2AEA-43E6-BA67-3393BEA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F58C7-EE49-414D-80EB-6821E9B7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BFF7-49D5-4615-9718-AA21DBF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BC7233-75AC-494C-97E7-BC35B06B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A09B3-540C-43CA-AD3E-33E6D40C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A8DC8-A3CA-4C25-985B-6D9770D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81DB1-2887-4BFA-A5B2-5FE50C2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DFE48-6D66-45EB-A970-1B67CE8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162BB-7893-448B-9ACB-B0FDF92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310BC-9519-4DAC-AAE1-14F7363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64DBC-73FA-494B-B897-CC66C1E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A9E8C-A06C-490E-BAEF-8382190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8699F-A18E-43F9-9362-9A06718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F3DA-6AE6-4377-ADBB-90270C8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459B9-9959-45BD-AABE-A470F504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A75EC-43FB-4492-87E0-87452A96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B211B-2ADD-425E-8F77-48C243D0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35E25-9919-4162-BAEC-EB1EB3C0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C8C52-2972-4EBA-B47F-9978773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8D1A9-A42F-4A6E-8239-D09C22C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0501B-537D-4F15-9DD1-C427767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C4AA2-B6EB-4819-B258-E0C09A4F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8508D-932F-4980-9687-D19D2490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4086F-4F07-439B-9398-418E1D4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EC5-4741-4EB7-BD14-F6799D5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424-9596-4057-9DBA-5349C5C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DE23B-771E-40DF-8972-620B944F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127FC-A6D3-4F8D-9F43-0133022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ABEE6-6C69-48A5-867A-D030129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4CCAB-E52F-4F9D-86DF-FEF98AEC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86333-56AB-4802-92A4-9E5E9A6B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C5F38-CF6F-4F02-AA7F-5BC80CB8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651B9-34AD-4899-B33B-60E85C0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2EE4A-F513-4AA0-86E9-0C5F829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0002A-9CB3-423C-8A64-42B813F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B5DCC-B4E6-4217-8270-7C4CD79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556-1C2F-4B56-9842-BF2D5E6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F280D-01A9-46C5-A15D-39C0C2F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5501E-405A-48D2-8F69-A6063EE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E122C-6A05-4830-BA8D-B7C4D63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20D1F-0AE9-45F5-8E9F-F589D0D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97EB1-B9CE-4866-A9BB-6795B68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C1877-9048-449F-AE7C-6E30381F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C4985-E483-447C-B839-1E56E640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123AB-0EAD-418B-851E-DBCFB4E1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EE948-D1AB-4356-B153-243B7BB6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7CE1F-1ADF-4043-9C9F-90F3EAF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2F5-4045-4C50-A0A2-6C22DE0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627F1-00EC-4AD5-9BC7-C61758C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660B5-BFD4-41D1-A64D-8E83D60E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C635C-6BD1-4568-B704-753A5D72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CDB73-6BF1-47AE-80A3-A9D59C1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BDCD8-2B91-45A2-8CE7-A216531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53F7B-520F-4C14-9467-E37255A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40525-422C-4D53-8F0F-8B3ED82E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DDCC1-4B3C-4792-A067-ED9CA16F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8ACDB-1459-4E57-81BB-E36F6C4E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65F5F-C457-4340-9382-1C85EA8E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5C6-D699-4E53-8843-1DAE04DA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1EB1F-5BDB-4FFE-9023-331A26D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7F92F-3E24-47D8-A8DD-FAA474F7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956C7-573E-46BB-B111-21AC248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806AE-3840-4913-8607-8A10B51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1E069-113C-477B-8E87-619B9B6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FC179-A639-4495-BE25-B7B1755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6A306-C21C-4044-8632-93A3134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7E80F-0ED7-4CB5-8BF4-A93761A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76A41-17B9-49B3-8C11-A1DEDAF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40CB9-FF04-4EAB-8B8C-1E6E5033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5362-25D8-438D-9A3C-008FA3D7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F4879-4575-405A-91A9-E33F343B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F093D-BF3D-43D9-BD5F-FD7C50D8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659FC-6F01-49B0-9157-22A3F42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BC757-9B8C-4AF9-9156-923F1EA0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81A91-FF73-4876-9E0F-27DBCD2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CB629-9520-487C-B624-E4B9FD11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45A11-8160-4B33-841A-1884A6AE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E4CAC-1484-434E-8995-07B5180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0A8C8-C46E-4A96-A580-7272BAC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CC921-6F4E-4C8E-9944-8C24028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E46E-666A-4AD8-BB31-A7C959A0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CF838-6EB1-43BA-ADBD-C0E6B357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BBAAB1-6E6E-4B1D-87A6-7DE938DF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E9B19-834F-4003-AC7E-5F3C84C1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3B507-A95B-44A3-B7F5-FDD33484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2CFAE-F1B2-4EC7-BA10-5E6E6915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C848E-B0D0-43E7-B7F8-6083BA2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B7C26D-B947-4F13-BA2A-BC0E582D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EDE63-E200-44EB-BB77-85129C8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C2F66-30DF-4EE5-BF36-2BFD2C1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F0FF1-E830-49A9-9712-56C4F82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C8BF-2A41-4D96-94F9-A3E1845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A0DCCA-41BB-400D-A819-5EEF58B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C8346B-C620-4474-8AF3-BF81FE2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A9087-8116-46D9-8D07-14D5CBC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720A0-3CED-4A11-8DCF-1D72E566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4080E-60D6-4A0B-A068-4D830C3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2C44C-66E8-44B2-AC5C-8D582E14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4789A-8C4E-40BA-9436-A082F38C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07E72-5FCC-4589-8C6E-A67EE4B8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C084C0-0755-40DB-9B7B-EAB9D2F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38F676-5200-4A7D-8339-BB21ED2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313A-79BA-4232-B87A-93C8121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3F50B2-77A6-4961-A5DF-8D53B26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8AEE49-AEC8-4560-A6C0-AC6A3AA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E336B-59B3-4D25-B317-88F21A1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5A89C0-F5CA-4C4C-9C32-CEC1004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40EC81-6AAA-4CEE-9A6C-802AB91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0A2D1-F122-4BA9-9B93-E73BFD87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8D277E-7137-44DF-BD4E-CDDA3575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FC86E-6185-4AA3-A703-AC35871F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E88B9-D02D-47FA-B533-E21C8A74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7C2AF-AE37-499E-8BF8-AF72D16E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ADA9-0951-42D5-AB66-E2D6C09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79169-7344-4FBA-A972-910DBD5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D9A4B-D557-4160-8413-F2CF2045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E1B3E5-FBD0-4053-90AD-A207BF00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AC3BE-F1BF-4F93-A548-1FCC634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FD1B63-D02C-4E14-85F3-D36A9C5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45890-976D-4DC8-B411-52FCEBA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6AEDF-0B4D-4E8F-B704-18258EA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782365-B81F-4DEC-8D00-72E8B303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FA9B59-B009-47E7-93B9-F8800616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B97763-7738-4395-A131-43465929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04F7-35EE-4531-A667-1ECA6E7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00D4F0-335B-4E48-9C57-6B4E8CC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D858BF-99C2-4FF3-99C7-DCE0647A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356C9-CBFC-45F2-BE6E-AC25643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18B17-111D-4F01-9B81-6C980DD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75555E-0270-4AD1-9602-1627220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A9E11-6B44-4AFF-9571-D601E1B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9C54A-8519-4ECA-8D90-ECF27BD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38B18C-85BA-4AB9-81CC-4C52EEE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F492BC-C9AA-4FA1-9F3F-13C7603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C327EB-40DC-4520-B805-231B0F6B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082-4381-4BB6-A7D2-469E71B8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C370-FC8F-4A84-BC95-726EC93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52AF0E-E52A-4724-B95B-BBB8E6D9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6E59-C510-4449-85A8-2F351FD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0598-2B94-4D50-AEB4-3DE26D62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05D7-BA9D-404E-A380-9C592D4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8F08-1218-4F90-9D90-AC262514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7CA0-4FF5-4792-8008-CA924B7F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03BC-12C2-45F3-BB2E-19A2251C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7093-43AA-4BD2-934C-1B160F6B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5715-028F-412B-91E4-67CEA336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37FE-3099-4F30-8604-DD232FC3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16F-DAB6-4BE9-BDC3-100CE68B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A31B-EAD1-493F-87D4-2F19B3DE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ED0D-0A39-42E0-9AF3-FC3764E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7B07-6DC5-44FC-8CA4-0268045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4C41-7437-4B60-9078-1C293E1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7E1B-858C-4F7B-B646-B43C6168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423F-DBAD-4487-A2C5-7105536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B738-C55B-404A-B71B-BDC7343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CF37-40C3-410B-B2C6-3EE89BFF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6B40-1AE2-4985-BD55-D8DB33F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040E-4B17-4DA1-BFAA-2D4D2AC6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A43-0CD7-4FEE-8113-E13DF83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68EF-058A-4515-8D33-88DCFDE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65A1-FE61-45F4-9D78-D49EC74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C735-A3BF-47E4-A44B-260B2B9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B01A9-1908-4201-99F6-1C1FEF7B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E966-0AFA-4596-B74E-64E5CA9B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8F29-025B-4FEA-8FA5-873637D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34A1-96F8-4F29-963E-5FA1CDC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89AD-0BC3-4F64-B07B-C0D9C56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55D9-727F-4B6C-A2CB-22F1B17D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4CD3-3160-4484-A55C-3AE07C3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F9D-BAEB-4863-BAE1-998A606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064F-AAE9-46B0-A7C6-8487A2D8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F6C14-FD7C-4A28-99EF-7E7E8C75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18731-C30C-42A8-BB76-1457EFB5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E905-3D9A-46EC-8045-14547AA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355AB-2586-49C5-8A0E-F395DCD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9D06-F650-471C-934F-E3BD557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B5DC-E71D-4918-A932-E7169336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0546-7723-4E05-81FA-0AB241F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370D1-8F02-4B6D-A339-88C104E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E250-B8A0-4E02-A85E-2855C872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E85-8534-491B-85D6-AAE7746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5795-ADEB-4FCB-89C0-A63284D1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6C6B-F495-421E-A6EB-51504710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A5D3-8045-41CC-8254-9B515BB1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7B63-BA1B-4A8C-83C6-E2BB60E4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C0E71-56C2-4327-945C-451FA769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41EA-BE66-4AB1-8967-D36C297A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6503-4AC1-4C41-B40E-335D65A6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CB73-1ADB-4D9F-A20B-98A8A4A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1E87-4AFF-4C1D-A8EE-F0FB655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90DA-91B8-4E47-ABCB-0148CB9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76C-AC1F-4BD5-BEC6-8B6A21D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B2B9-032A-4AD2-AD03-92EDBA6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D330-69C5-4D6A-AC69-B6F65CE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86AE6-4A46-4CAE-AC66-2009DBC5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2AC2E-DB2B-4F60-ACF6-DBEB62A5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0CF8-3F7D-4EB4-9096-1B64AA27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4EF4-C466-47E6-9F1E-43771D68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22EC-82D3-41D8-9591-F90C58A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4E39-A05F-479C-988C-70786FA1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E1529-FFD3-4FBC-B9BB-829FE13F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8822-C49E-4676-AEA1-DC6CE6EE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696-19F9-4A03-A8E9-424CE79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B8EDF-D2A0-4C13-8F3D-31F3A08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9221-C112-4A36-8414-5CFC30D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0185-D175-4E3D-B82B-99F79FD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4F54-E867-4F59-BFFF-519250F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7C939-5F4B-4C42-91BE-876F92B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C993B-2240-4FD8-B208-ECC312A8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99F2-BEF3-4330-BF91-354718DA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356A7-9D80-40AD-B53E-B2BDA55F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CAEEC-C5E8-49ED-A77E-93E4FD7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42C57-146B-4086-A8AD-4C608CF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5097-1B03-45F0-B64C-23BE3AD1F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4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4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4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8" name="Line 10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401-C4DF-4AAA-9EB6-985B6B9913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1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3A9B-9593-4CE1-B03C-B4B49AE4C5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7F7-58FF-43AC-89AF-17C7FDD7B7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81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82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83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4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5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6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8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7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9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7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8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09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0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1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2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3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4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5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6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7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8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9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0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1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2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3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36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7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8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9" name="Arc 62"/>
              <p:cNvSpPr/>
              <p:nvPr/>
            </p:nvSpPr>
            <p:spPr>
              <a:xfrm flipH="1" rot="16200000">
                <a:off x="664560" y="135612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641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2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3" name="Arc 66"/>
              <p:cNvSpPr/>
              <p:nvPr/>
            </p:nvSpPr>
            <p:spPr>
              <a:xfrm rot="5400000">
                <a:off x="8080920" y="530316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841-3F93-47FC-9BD7-13B24067235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AD4-E6DA-4E1C-A14D-E8AC526D94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66C-8791-4623-9E6E-69664DFC0F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F4C1-0145-45E8-BD2C-DBFAE24D74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6D19-98D5-4EFC-B137-F47838F26E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EF28-7AFC-4317-AEE8-27CB3DAD1B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B7D-44E7-480C-B98F-11A60E0EB6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8EEC-C234-4B8B-A7EB-D0991B0979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54E9-2E65-45CB-BBBC-732646B722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0B6-9F61-4788-A6B3-71C6369686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564-962F-4A83-98B8-92EC718D4A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55DB-9738-43F3-AED9-AC2A1DDB6A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454-565E-4FFD-8C6C-EFA918AB12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F62F-D338-42D5-A4BA-CBA98F833A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2950-9D30-446E-BA51-A59BF17B08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未知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702B-1A03-4942-8172-70C29ED223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7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7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8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0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2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3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5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5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7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3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3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126-2CD5-4880-B37B-91F5472F3B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011-DFD4-4987-A0D0-80E05776F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61D-8CFF-4847-8CF0-4763A4257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1A13-BE54-4A2D-A904-59E92F66A7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7471-A99E-4BCB-A129-66E1231070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2" descr="《清明上河图》原作局部欣赏1"/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" descr="《清明上河图》原作局部欣赏2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19447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" descr="《清明上河图》原作局部欣赏3"/>
          <p:cNvPicPr/>
          <p:nvPr/>
        </p:nvPicPr>
        <p:blipFill>
          <a:blip r:embed="rId4"/>
          <a:stretch/>
        </p:blipFill>
        <p:spPr>
          <a:xfrm>
            <a:off x="0" y="472428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5"/>
          <p:cNvSpPr/>
          <p:nvPr/>
        </p:nvSpPr>
        <p:spPr>
          <a:xfrm>
            <a:off x="522360" y="2125800"/>
            <a:ext cx="8099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  </a:t>
            </a:r>
            <a:r>
              <a:rPr b="1" i="1" lang="zh-CN" sz="66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一幅名扬中外的画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4000" spc="-1" strike="noStrike">
                <a:solidFill>
                  <a:srgbClr val="cccc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3" descr="20080831_129b8e861c972b3a371f2FFisVYdaXNS[1]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3" descr="24147b3dcca0e20270cf6c8b[1]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张择端像"/>
          <p:cNvPicPr/>
          <p:nvPr/>
        </p:nvPicPr>
        <p:blipFill>
          <a:blip r:embed="rId1"/>
          <a:stretch/>
        </p:blipFill>
        <p:spPr>
          <a:xfrm>
            <a:off x="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3"/>
          <p:cNvSpPr/>
          <p:nvPr/>
        </p:nvSpPr>
        <p:spPr>
          <a:xfrm>
            <a:off x="4267080" y="380880"/>
            <a:ext cx="4572000" cy="1169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作者张择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北宋画家，字正道，东武（今山东诸城）人。早年游学汴京（今河南开封），后习绘画。宋徽宗时供职翰林图画院。专工界画宫室，尤擅绘舟车、市肆、桥梁、街道、城郭。存世作品《清明上河图》卷，描绘当年汴京近郊在清明时节社会各阶层的生活景象，真实生动，是一件具有重要历史价值的优秀风俗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6" name="Picture 4" descr="button104"/>
          <p:cNvPicPr/>
          <p:nvPr/>
        </p:nvPicPr>
        <p:blipFill>
          <a:blip r:embed="rId2"/>
          <a:stretch/>
        </p:blipFill>
        <p:spPr>
          <a:xfrm>
            <a:off x="868680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作者简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2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539640" y="1916280"/>
            <a:ext cx="74898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汴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梁    保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存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撑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船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摊 贩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吏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毛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驴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悠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闲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拽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住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态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各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971640" y="1484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字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2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5" name="Text Box 3"/>
          <p:cNvSpPr/>
          <p:nvPr/>
        </p:nvSpPr>
        <p:spPr>
          <a:xfrm>
            <a:off x="611280" y="2060640"/>
            <a:ext cx="7489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bi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n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    ch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ē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g       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ā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汴 梁    保 存     撑 船    摊 贩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     lǘ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    y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u          zh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吏    毛 驴     悠 闲    拽 住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o            t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态各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6" name="Rectangle 4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7" name="Text Box 5"/>
          <p:cNvSpPr/>
          <p:nvPr/>
        </p:nvSpPr>
        <p:spPr>
          <a:xfrm>
            <a:off x="1332000" y="1052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字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0" name="Text Box 3"/>
          <p:cNvSpPr/>
          <p:nvPr/>
        </p:nvSpPr>
        <p:spPr>
          <a:xfrm>
            <a:off x="1384200" y="2209680"/>
            <a:ext cx="68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1" name="Text Box 4"/>
          <p:cNvSpPr/>
          <p:nvPr/>
        </p:nvSpPr>
        <p:spPr>
          <a:xfrm>
            <a:off x="539640" y="2133720"/>
            <a:ext cx="8280360" cy="46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ō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作坊）   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ū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溜达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溜</a:t>
            </a:r>
            <a:r>
              <a:rPr b="0" lang="zh-CN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ò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作业）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0" lang="zh-CN" sz="2800" spc="-1" strike="noStrike">
                <a:solidFill>
                  <a:srgbClr val="010199"/>
                </a:solidFill>
                <a:latin typeface="Arial"/>
              </a:rPr>
              <a:t>ù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一溜烟）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zh-CN" sz="2800" spc="-1" strike="noStrike">
                <a:solidFill>
                  <a:srgbClr val="010199"/>
                </a:solidFill>
                <a:latin typeface="Arial"/>
              </a:rPr>
              <a:t>é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车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乘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zh-CN" sz="2800" spc="-1" strike="noStrike">
                <a:solidFill>
                  <a:srgbClr val="010199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sh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ng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一乘轿子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2" name="AutoShape 5"/>
          <p:cNvSpPr/>
          <p:nvPr/>
        </p:nvSpPr>
        <p:spPr>
          <a:xfrm>
            <a:off x="2340000" y="2924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3" name="AutoShape 6"/>
          <p:cNvSpPr/>
          <p:nvPr/>
        </p:nvSpPr>
        <p:spPr>
          <a:xfrm>
            <a:off x="2987640" y="5373720"/>
            <a:ext cx="554040" cy="625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4" name="AutoShape 7"/>
          <p:cNvSpPr/>
          <p:nvPr/>
        </p:nvSpPr>
        <p:spPr>
          <a:xfrm>
            <a:off x="2411280" y="2924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5" name="AutoShape 8"/>
          <p:cNvSpPr/>
          <p:nvPr/>
        </p:nvSpPr>
        <p:spPr>
          <a:xfrm>
            <a:off x="270036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6" name="AutoShape 9"/>
          <p:cNvSpPr/>
          <p:nvPr/>
        </p:nvSpPr>
        <p:spPr>
          <a:xfrm>
            <a:off x="111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7" name="AutoShape 10"/>
          <p:cNvSpPr/>
          <p:nvPr/>
        </p:nvSpPr>
        <p:spPr>
          <a:xfrm>
            <a:off x="1116000" y="45086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8" name="AutoShape 11"/>
          <p:cNvSpPr/>
          <p:nvPr/>
        </p:nvSpPr>
        <p:spPr>
          <a:xfrm>
            <a:off x="579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9" name="Text Box 12"/>
          <p:cNvSpPr/>
          <p:nvPr/>
        </p:nvSpPr>
        <p:spPr>
          <a:xfrm>
            <a:off x="2340360" y="1019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正确读出下列多音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字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16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北宋时候，有位画家叫张择端。他画了一幅名扬中外的画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——《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清明上河图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。这幅画长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2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高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4.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画的是北宋都城汴梁热闹的场面。这幅画已经有八百多年的历史了，现在还完整地保存在北京故宫博物院里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课文第一自然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4"/>
          <p:cNvSpPr/>
          <p:nvPr/>
        </p:nvSpPr>
        <p:spPr>
          <a:xfrm>
            <a:off x="684360" y="119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光是画上的人物，就有五百多个：有从乡下来的农民，有撑船的船工，有做各种买卖的生意人，有留着长胡子的道士，有走江湖的医生，有摆小摊的摊贩，有官吏和读书人……三百六十行，哪一行的人都画在上面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8172360" y="580536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自然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0" name="Picture 4" descr="tu2"/>
          <p:cNvPicPr/>
          <p:nvPr/>
        </p:nvPicPr>
        <p:blipFill>
          <a:blip r:embed="rId1"/>
          <a:stretch/>
        </p:blipFill>
        <p:spPr>
          <a:xfrm>
            <a:off x="-3040200" y="0"/>
            <a:ext cx="12184200" cy="6858000"/>
          </a:xfrm>
          <a:prstGeom prst="rect">
            <a:avLst/>
          </a:prstGeom>
          <a:ln w="0">
            <a:noFill/>
          </a:ln>
        </p:spPr>
      </p:pic>
      <p:sp>
        <p:nvSpPr>
          <p:cNvPr id="1241" name="AutoShape 5"/>
          <p:cNvSpPr/>
          <p:nvPr/>
        </p:nvSpPr>
        <p:spPr>
          <a:xfrm>
            <a:off x="8101080" y="5877000"/>
            <a:ext cx="503280" cy="288720"/>
          </a:xfrm>
          <a:custGeom>
            <a:avLst/>
            <a:gdLst>
              <a:gd name="textAreaLeft" fmla="*/ 207360 w 503280"/>
              <a:gd name="textAreaRight" fmla="*/ 295920 w 5032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3"/>
          <p:cNvSpPr/>
          <p:nvPr/>
        </p:nvSpPr>
        <p:spPr>
          <a:xfrm>
            <a:off x="1042920" y="24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4" name="Text Box 4"/>
          <p:cNvSpPr/>
          <p:nvPr/>
        </p:nvSpPr>
        <p:spPr>
          <a:xfrm>
            <a:off x="971640" y="981000"/>
            <a:ext cx="698508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画面的街市可热闹了。街上有挂着各种招牌的店铺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作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ō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坊、酒楼、茶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··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Arial"/>
              </a:rPr>
              <a:t>····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Arial"/>
              </a:rPr>
              <a:t>走在街上的，是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Arial"/>
              </a:rPr>
              <a:t>来来往往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形态各异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的人：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骑着马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挑着担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赶着毛驴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推着独轮  车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悠闲地在街上溜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zh-CN" sz="3200" spc="-1" strike="noStrike">
                <a:solidFill>
                  <a:srgbClr val="000099"/>
                </a:solidFill>
                <a:latin typeface="Tahoma"/>
              </a:rPr>
              <a:t>li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ū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达。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面上的这些人，有的不到一寸，有的甚至只有黄豆那么大。别看画上的人 小，每个人在干什么，都能看得清清楚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5" name="AutoShape 5"/>
          <p:cNvSpPr/>
          <p:nvPr/>
        </p:nvSpPr>
        <p:spPr>
          <a:xfrm>
            <a:off x="8028000" y="6165720"/>
            <a:ext cx="216000" cy="14292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6" name="Text Box 6"/>
          <p:cNvSpPr/>
          <p:nvPr/>
        </p:nvSpPr>
        <p:spPr>
          <a:xfrm>
            <a:off x="1908000" y="12682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7" name="Line 7"/>
          <p:cNvSpPr/>
          <p:nvPr/>
        </p:nvSpPr>
        <p:spPr>
          <a:xfrm>
            <a:off x="1763640" y="1484280"/>
            <a:ext cx="367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8" name="未知"/>
          <p:cNvSpPr/>
          <p:nvPr/>
        </p:nvSpPr>
        <p:spPr>
          <a:xfrm>
            <a:off x="1116000" y="-811080"/>
            <a:ext cx="7728120" cy="5848200"/>
          </a:xfrm>
          <a:custGeom>
            <a:avLst/>
            <a:gdLst/>
            <a:ahLst/>
            <a:rect l="l" t="t" r="r" b="b"/>
            <a:pathLst>
              <a:path w="4868" h="3689">
                <a:moveTo>
                  <a:pt x="0" y="3311"/>
                </a:moveTo>
                <a:cubicBezTo>
                  <a:pt x="1739" y="3285"/>
                  <a:pt x="3478" y="3259"/>
                  <a:pt x="4173" y="3266"/>
                </a:cubicBezTo>
                <a:cubicBezTo>
                  <a:pt x="4868" y="3273"/>
                  <a:pt x="4649" y="3689"/>
                  <a:pt x="4173" y="3356"/>
                </a:cubicBezTo>
                <a:cubicBezTo>
                  <a:pt x="3697" y="3023"/>
                  <a:pt x="1784" y="1610"/>
                  <a:pt x="1315" y="1270"/>
                </a:cubicBezTo>
                <a:cubicBezTo>
                  <a:pt x="846" y="930"/>
                  <a:pt x="1429" y="1496"/>
                  <a:pt x="1361" y="1315"/>
                </a:cubicBezTo>
                <a:cubicBezTo>
                  <a:pt x="1293" y="1134"/>
                  <a:pt x="990" y="362"/>
                  <a:pt x="907" y="181"/>
                </a:cubicBezTo>
                <a:cubicBezTo>
                  <a:pt x="824" y="0"/>
                  <a:pt x="786" y="46"/>
                  <a:pt x="862" y="227"/>
                </a:cubicBezTo>
                <a:cubicBezTo>
                  <a:pt x="938" y="408"/>
                  <a:pt x="1149" y="839"/>
                  <a:pt x="1361" y="12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9" name="未知"/>
          <p:cNvSpPr/>
          <p:nvPr/>
        </p:nvSpPr>
        <p:spPr>
          <a:xfrm>
            <a:off x="1116000" y="4437000"/>
            <a:ext cx="6551640" cy="1800"/>
          </a:xfrm>
          <a:custGeom>
            <a:avLst/>
            <a:gdLst/>
            <a:ahLst/>
            <a:rect l="l" t="t" r="r" b="b"/>
            <a:pathLst>
              <a:path w="4127" h="1">
                <a:moveTo>
                  <a:pt x="0" y="0"/>
                </a:moveTo>
                <a:cubicBezTo>
                  <a:pt x="1719" y="0"/>
                  <a:pt x="3439" y="0"/>
                  <a:pt x="41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1258920" y="3246480"/>
            <a:ext cx="35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ahoma"/>
              </a:rPr>
              <a:t>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ahoma"/>
              </a:rPr>
              <a:t>﹏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2" name="Text Box 12"/>
          <p:cNvSpPr/>
          <p:nvPr/>
        </p:nvSpPr>
        <p:spPr>
          <a:xfrm>
            <a:off x="6805440" y="3443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3" name="Text Box 13"/>
          <p:cNvSpPr/>
          <p:nvPr/>
        </p:nvSpPr>
        <p:spPr>
          <a:xfrm>
            <a:off x="1908000" y="544500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自然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欣赏名画要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、认真观察，想一想你都观察到什么？你有什么感受或者你最感兴趣的内容是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、欣赏之后，你对这幅画你有什么想问的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3" descr="24147b3dcca0e20270cf6c8b[1]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活情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50760" y="1485720"/>
            <a:ext cx="766152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最有意思的是桥北头的情景：一个人骑着马，正往桥下走。因为人太多，眼看就要碰上对面来的一乘轿子。就在这个紧急时刻，那个牧马人一下字拽住了马笼头，这才没碰上那乘轿子。不过，这么一来，倒把马右边的两头小毛驴吓得又踢又跳。站在桥栏杆边欣赏风景的人，被小毛驴惊扰了，连忙回过头来赶小毛驴……你看，张择端画的画，是多么传神啊！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2" name="Picture 4" descr="9608ef8ba0364b1fc8fc7a2a"/>
          <p:cNvPicPr/>
          <p:nvPr/>
        </p:nvPicPr>
        <p:blipFill>
          <a:blip r:embed="rId1"/>
          <a:srcRect l="221" t="0" r="0" b="0"/>
          <a:stretch/>
        </p:blipFill>
        <p:spPr>
          <a:xfrm>
            <a:off x="-4565520" y="0"/>
            <a:ext cx="1523664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4" name="Picture 3" descr="KE)4E4`EN[(XYU5_UJY`OSF"/>
          <p:cNvPicPr/>
          <p:nvPr/>
        </p:nvPicPr>
        <p:blipFill>
          <a:blip r:embed="rId1"/>
          <a:stretch/>
        </p:blipFill>
        <p:spPr>
          <a:xfrm>
            <a:off x="0" y="0"/>
            <a:ext cx="9144000" cy="7570800"/>
          </a:xfrm>
          <a:prstGeom prst="rect">
            <a:avLst/>
          </a:prstGeom>
          <a:ln w="0">
            <a:noFill/>
          </a:ln>
        </p:spPr>
      </p:pic>
      <p:sp>
        <p:nvSpPr>
          <p:cNvPr id="12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-316080" y="404640"/>
            <a:ext cx="10001520" cy="16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张择端的画是多么传神啊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8930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ff"/>
                </a:solidFill>
                <a:latin typeface="宋体"/>
              </a:rPr>
              <a:t>       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我们看到了八百年以前的古都风貌，看到了当时普通老百姓的生活情景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2"/>
          <p:cNvSpPr/>
          <p:nvPr/>
        </p:nvSpPr>
        <p:spPr>
          <a:xfrm>
            <a:off x="324000" y="4581360"/>
            <a:ext cx="68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对照图画自读课文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然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9" name="Picture 3" descr="d4538854a235fd77564e001e"/>
          <p:cNvPicPr/>
          <p:nvPr/>
        </p:nvPicPr>
        <p:blipFill>
          <a:blip r:embed="rId1"/>
          <a:stretch/>
        </p:blipFill>
        <p:spPr>
          <a:xfrm>
            <a:off x="250920" y="189000"/>
            <a:ext cx="3995640" cy="422100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4" descr="a635a8ac4b7388f37cd92a90"/>
          <p:cNvPicPr/>
          <p:nvPr/>
        </p:nvPicPr>
        <p:blipFill>
          <a:blip r:embed="rId2"/>
          <a:stretch/>
        </p:blipFill>
        <p:spPr>
          <a:xfrm>
            <a:off x="4284720" y="189000"/>
            <a:ext cx="4537080" cy="422100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5"/>
          <p:cNvSpPr/>
          <p:nvPr/>
        </p:nvSpPr>
        <p:spPr>
          <a:xfrm>
            <a:off x="755640" y="5229360"/>
            <a:ext cx="63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组讨论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课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——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然段描写了画面上的哪些内容？你是从哪些句子知道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459000" y="404280"/>
            <a:ext cx="853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词、句赏析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250920" y="1700280"/>
            <a:ext cx="8208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百六十行，哪一行的人都画在这上面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4" name="Text Box 4"/>
          <p:cNvSpPr/>
          <p:nvPr/>
        </p:nvSpPr>
        <p:spPr>
          <a:xfrm>
            <a:off x="395280" y="278136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画面上的这些人，有的不到一寸，有的甚至只有黄豆那么大。别看画上的人小，每个人在干什么，都能看得清清楚楚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0" y="5084640"/>
            <a:ext cx="7129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你看张择端的画是多么传神啊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6" name="Text Box 6"/>
          <p:cNvSpPr/>
          <p:nvPr/>
        </p:nvSpPr>
        <p:spPr>
          <a:xfrm>
            <a:off x="5076720" y="148428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7" name="Text Box 7"/>
          <p:cNvSpPr/>
          <p:nvPr/>
        </p:nvSpPr>
        <p:spPr>
          <a:xfrm>
            <a:off x="4427640" y="429264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8" name="Line 8"/>
          <p:cNvSpPr/>
          <p:nvPr/>
        </p:nvSpPr>
        <p:spPr>
          <a:xfrm>
            <a:off x="4356000" y="436572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55800" y="51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为什么被称为一幅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名扬中外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的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539640" y="162864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《清明上河图》为什么被称为一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名扬中外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的画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1" name="Text Box 5"/>
          <p:cNvSpPr/>
          <p:nvPr/>
        </p:nvSpPr>
        <p:spPr>
          <a:xfrm>
            <a:off x="539640" y="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我知道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内容概括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283" name="Picture 4" descr="50.gif (2508 字节)"/>
          <p:cNvPicPr/>
          <p:nvPr/>
        </p:nvPicPr>
        <p:blipFill>
          <a:blip r:embed="rId1"/>
          <a:stretch/>
        </p:blipFill>
        <p:spPr>
          <a:xfrm>
            <a:off x="8626320" y="5943600"/>
            <a:ext cx="517680" cy="51768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5"/>
          <p:cNvSpPr/>
          <p:nvPr/>
        </p:nvSpPr>
        <p:spPr>
          <a:xfrm>
            <a:off x="990720" y="2590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艺术价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5" name="Text Box 6"/>
          <p:cNvSpPr/>
          <p:nvPr/>
        </p:nvSpPr>
        <p:spPr>
          <a:xfrm>
            <a:off x="3346560" y="25909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内  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5638680" y="251460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特点及评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7" name="Line 8"/>
          <p:cNvSpPr/>
          <p:nvPr/>
        </p:nvSpPr>
        <p:spPr>
          <a:xfrm>
            <a:off x="2666880" y="2819520"/>
            <a:ext cx="6098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8" name="Line 9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9" name="Line 10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0" name="Text Box 11"/>
          <p:cNvSpPr/>
          <p:nvPr/>
        </p:nvSpPr>
        <p:spPr>
          <a:xfrm>
            <a:off x="1523880" y="419112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珍贵代表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文化遗产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1" name="Line 12"/>
          <p:cNvSpPr/>
          <p:nvPr/>
        </p:nvSpPr>
        <p:spPr>
          <a:xfrm>
            <a:off x="419112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2" name="Text Box 13"/>
          <p:cNvSpPr/>
          <p:nvPr/>
        </p:nvSpPr>
        <p:spPr>
          <a:xfrm>
            <a:off x="3352680" y="396252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市郊景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汴河码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市区街道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3" name="Line 14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4" name="Text Box 15"/>
          <p:cNvSpPr/>
          <p:nvPr/>
        </p:nvSpPr>
        <p:spPr>
          <a:xfrm>
            <a:off x="4876920" y="40384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规模宏大  场面繁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笔笔精到  一丝不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ahoma"/>
              </a:rPr>
              <a:t>生动明确  惟妙惟肖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5" name="Text Box 16"/>
          <p:cNvSpPr/>
          <p:nvPr/>
        </p:nvSpPr>
        <p:spPr>
          <a:xfrm>
            <a:off x="632448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6" name="AutoShape 17"/>
          <p:cNvSpPr/>
          <p:nvPr/>
        </p:nvSpPr>
        <p:spPr>
          <a:xfrm>
            <a:off x="7391520" y="3200400"/>
            <a:ext cx="838080" cy="3200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559800 h 3200400"/>
              <a:gd name="textAreaBottom" fmla="*/ 2320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7" name="WordArt 18" descr=""/>
          <p:cNvPicPr/>
          <p:nvPr/>
        </p:nvPicPr>
        <p:blipFill>
          <a:blip r:embed="rId2"/>
          <a:stretch/>
        </p:blipFill>
        <p:spPr>
          <a:xfrm>
            <a:off x="2286000" y="5583240"/>
            <a:ext cx="3998880" cy="1152360"/>
          </a:xfrm>
          <a:prstGeom prst="rect">
            <a:avLst/>
          </a:prstGeom>
          <a:ln w="0">
            <a:noFill/>
          </a:ln>
        </p:spPr>
      </p:pic>
      <p:sp>
        <p:nvSpPr>
          <p:cNvPr id="1298" name="WordArt 19"/>
          <p:cNvSpPr txBox="1"/>
          <p:nvPr/>
        </p:nvSpPr>
        <p:spPr>
          <a:xfrm>
            <a:off x="2781360" y="62064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清明上河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3" descr="920a4d80661b4993bd3e1e77[1]"/>
          <p:cNvPicPr/>
          <p:nvPr/>
        </p:nvPicPr>
        <p:blipFill>
          <a:blip r:embed="rId1"/>
          <a:stretch/>
        </p:blipFill>
        <p:spPr>
          <a:xfrm>
            <a:off x="109440" y="262080"/>
            <a:ext cx="8929800" cy="6481800"/>
          </a:xfrm>
          <a:prstGeom prst="rect">
            <a:avLst/>
          </a:prstGeom>
          <a:ln w="0">
            <a:noFill/>
          </a:ln>
        </p:spPr>
      </p:pic>
      <p:sp>
        <p:nvSpPr>
          <p:cNvPr id="1187" name="Text Box 4"/>
          <p:cNvSpPr/>
          <p:nvPr/>
        </p:nvSpPr>
        <p:spPr>
          <a:xfrm>
            <a:off x="2057040" y="6350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《清明上河图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3" descr="20080831_129b8e861c972b3a371f2FFisVYdaXNS[1]"/>
          <p:cNvPicPr/>
          <p:nvPr/>
        </p:nvPicPr>
        <p:blipFill>
          <a:blip r:embed="rId1"/>
          <a:stretch/>
        </p:blipFill>
        <p:spPr>
          <a:xfrm>
            <a:off x="181080" y="117360"/>
            <a:ext cx="8928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3" descr="b7736cf0225b7223dcc4742c[1]"/>
          <p:cNvPicPr/>
          <p:nvPr/>
        </p:nvPicPr>
        <p:blipFill>
          <a:blip r:embed="rId1"/>
          <a:stretch/>
        </p:blipFill>
        <p:spPr>
          <a:xfrm>
            <a:off x="0" y="-17640"/>
            <a:ext cx="914544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3" descr="20080831_4bed74fcfa31d7a386c2jvk57fYCJvze[1]"/>
          <p:cNvPicPr/>
          <p:nvPr/>
        </p:nvPicPr>
        <p:blipFill>
          <a:blip r:embed="rId1"/>
          <a:stretch/>
        </p:blipFill>
        <p:spPr>
          <a:xfrm>
            <a:off x="0" y="44280"/>
            <a:ext cx="9180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3" descr="f8b22ed0c187dc08960a16e0[1]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3" descr="6b3f54117c0c1f29b8127b3b[1]"/>
          <p:cNvPicPr/>
          <p:nvPr/>
        </p:nvPicPr>
        <p:blipFill>
          <a:blip r:embed="rId1"/>
          <a:stretch/>
        </p:blipFill>
        <p:spPr>
          <a:xfrm>
            <a:off x="0" y="144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9" name="Picture 3" descr="2f71b331dc76d87aac4b5f90[1]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3:58:31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cp:lastPrinted>1899-12-30T00:00:00Z</cp:lastPrinted>
  <dcterms:modified xsi:type="dcterms:W3CDTF">2015-01-21T03:19:06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