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6.gif" ContentType="image/gif"/>
  <Override PartName="/ppt/media/image5.gif" ContentType="image/gif"/>
  <Override PartName="/ppt/media/image4.jpeg" ContentType="image/jpeg"/>
  <Override PartName="/ppt/media/image2.png" ContentType="image/png"/>
  <Override PartName="/ppt/media/glass.wav" ContentType="audio/x-wav"/>
  <Override PartName="/ppt/media/image1.jpeg" ContentType="image/jpeg"/>
  <Override PartName="/ppt/media/image20.jpeg" ContentType="image/jpeg"/>
  <Override PartName="/ppt/media/ZR916.WAV" ContentType="audio/x-wav"/>
  <Override PartName="/ppt/media/image19.png" ContentType="image/png"/>
  <Override PartName="/ppt/media/image18.png" ContentType="image/png"/>
  <Override PartName="/ppt/media/ZR279.WAV" ContentType="audio/x-wav"/>
  <Override PartName="/ppt/media/image14.gif" ContentType="image/gif"/>
  <Override PartName="/ppt/media/image17.png" ContentType="image/png"/>
  <Override PartName="/ppt/media/SndDefault.WAV" ContentType="audio/x-wav"/>
  <Override PartName="/ppt/media/MTA_023.WAV" ContentType="audio/x-wav"/>
  <Override PartName="/ppt/media/image16.png" ContentType="image/png"/>
  <Override PartName="/ppt/media/chimes.wav" ContentType="audio/x-wav"/>
  <Override PartName="/ppt/media/cashreg.wav" ContentType="audio/x-wav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71C-E61F-4309-A9A5-AA1FD581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493-53BF-414E-95E8-553079A8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C884D-19C6-4E91-A777-BE3484BF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ECB47-D5B3-46E8-A647-F18A5699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47228-E3D8-4C37-AAEB-C1A6D6A6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A26AF-7E0F-4F89-B7B8-8DFDC78B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2AFF1-4EBE-44D8-8A89-307A98C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1F00-E56F-4A29-8B54-7CE681D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565D-8B9F-4484-9847-2B3F0CC2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E8B7-6998-4A2F-BF57-195222E1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894B9-D3EB-41C7-A5D2-F2F2F2DE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76BC9-7A8B-41DE-9A1A-3CEDAD8B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0B6-0049-40B1-99F8-448C9489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CDCF5-1758-43A8-8597-A43153F9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044C7-7501-4B57-94C0-7AB01626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62A54-52EA-4850-BFF2-287FE0B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FA6A5-3022-4D50-BBAD-A70AC48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8D609-D9AA-4A51-9DBE-EA85F4A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23CB8-757A-4ACC-8E1B-B5B6F2D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A47D7-880D-4E8B-B2C2-B16C657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7ED7A-A9F1-4E88-93A3-08534B5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B75DF-9139-4AF2-9ECA-C79DD3B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EF45-AE92-4353-8E3E-FEF8BB52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09A-61F6-4D14-94B2-3DCAD418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D0DC-FF12-476D-BC1E-DE351F71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FD430-C6C7-4AA2-B941-4261540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77F73-0AD2-4032-98C8-45B9E3B2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761A-27BB-4418-B011-E4043E9F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AA1C3-5438-4A2D-A04B-3A211EA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F35A-23B8-4883-A561-6C226A4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22093-309A-4080-B76B-CAA11F66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1CA90-CC1E-47E0-8157-D5AD20C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7C442-7352-4BCF-96F0-33D689D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E3F6-2C33-4F40-B3BF-3574725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533-9045-4379-B7C8-72F7F949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B75B-10FF-4921-9389-9F71F6A9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515F8-C7DE-4CA0-9522-A0E3E22D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CE1AF-558E-400D-918F-E0761B06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D577A-C7FE-4355-B22E-3C5E4270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084C4-02A4-4042-ABD1-E50CFBC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F428D-FE8C-4B96-8C78-DA4C317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B9A2-D270-4656-9C56-66793A6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E1549-5D5B-4C04-A0AE-56B5971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69148-295B-4EB6-BDE7-225E79C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DCE55-6C4D-4304-B126-0C59BF9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EC7C-A5C1-4A9B-9977-9D7BD14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1979A-66E1-49C8-9AF1-EACBEB1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D673B-4973-4041-9EFD-5F45154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FB6D7-42B3-46C5-A296-A387B1B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D617-C1BB-486C-9BCA-EC837159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6F115-3949-4EF2-AC8E-EB187F1A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B78C-D795-463A-9584-33444246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52B7-F7A2-4A6F-B15D-5E54A872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DB3F-45AC-44D3-99FE-70CEF1D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41F7-45EC-4F29-9361-CDEBA32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6D4A-24CA-4581-85D3-8AA48A0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06D-D497-492C-A000-8D3122C5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C76-773B-4273-8CEB-39D58FD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C8D-FC5F-44DF-B2D3-E05339B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6961-570C-4FBE-B0BA-3F1FD5DA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5CB-F3D9-44B1-9CB2-60EFF6B2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AAC-3793-4A5D-A92D-EF99EC80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A510-3E1E-46F4-BABE-8533B206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3776-F947-4094-9942-0D1BC91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F613-2953-41FF-A68C-1A52BB0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DEAA-E6D8-468B-9029-848CCF36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402D-6D7B-4D01-B40B-0F93C0D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7F5-F87B-4F84-B25E-4AA0C6A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91AC-B0EA-4A46-81D2-6400266E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5B9C-5DBB-461A-B831-7B5FB26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D07A-E8F1-4AE2-A434-90F08D8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9CE9-94EC-42EF-8986-466A12D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349C-4540-464C-9AC3-8D53E337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2A2D-342B-4F48-9BDF-63832044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898E-5CAA-4FF4-93C0-07216CC4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9A77-933D-47CE-AA39-65856367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5CF4-0849-405B-B4E3-6E5B8D7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90B5-CA0D-446F-BA6C-1C68039C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00C-9B55-4686-9838-7307E06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BA3C-082E-4623-9486-A2843F9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421C-240D-481B-A3B5-059B2EC9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051D-B62F-4FBB-BE26-1CF8CD8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55F7-958E-4234-88A9-0F9C053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82E4-EEC1-4CBE-9E70-52B9D72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EFCA-D0B1-4311-9053-F356D21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F5C8-50E6-420C-825F-AE070994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E71F-470B-4251-81AA-96F90288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0BB6-7885-4E84-9ECC-65848DD5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DF8AC-C62B-42EA-8F38-00B7135E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EE5-41CB-4A44-8AF9-C3FA70A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7919-B1D4-45E7-AE8D-6297D75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EAA2-5007-4667-91AF-DBCD6B22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9D7E-53FB-4930-9CC1-9617124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7798-F8B4-4EEB-9749-6A49457D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CDFA-7401-4781-A463-020E469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D8513-FD10-48E4-9FD9-D883A8F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68BB-257A-4051-A9EB-037FE8D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C1B8-AC97-49E4-90C3-707C0DD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7CDA0-6602-4A0A-938E-607C5356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C6C5D-FCA1-429F-AE8F-A0928460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7A4-C525-457E-8DA3-B21C1EDD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F532-138A-44BC-BCF7-DF9D946F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06D9-7A5F-42E8-B5A8-6FC71E0A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4CA4E-F619-48B7-B7F1-6F7C719C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8B370-9400-47C1-AB82-EB55A76F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EC05-A7FE-409B-8C71-790E44A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211F-7E89-4B9D-AC57-B0D43A7B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D575A-3704-46D9-8A40-A70491E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8BD8-5D01-48B1-9A01-0656A0B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2C59-8EEF-474F-9577-230171D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7B18-D0E8-4291-A436-ED36B5B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F05-F6F9-4D07-8E54-8E2554F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26A6-E53B-4C39-94E9-081428A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C26B-4494-4BA5-AEF5-6D74C58E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871E-B460-46E8-93BF-42A2485C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20D2-68E7-4D6E-8978-A6D38D4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EEC71-2B7E-4A85-959E-434545B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8969-EB3F-4CAB-8922-9BEB1D4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01663-9C5A-422B-88B9-7C386811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0345-1D7E-4CC9-950E-092A0DC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090F-0F9E-4939-A851-6090CE7A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9148-2914-4DB5-9C7B-66387BC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72D-987A-4D9A-9C2B-01FDF12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E3B3-1C2B-4FF9-8A02-BF6A6D4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7A82-7925-43A5-87FC-A833F2F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7B3D-AA73-4754-BCD3-8FF2DA2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7F26-377D-4C91-B2AE-55B228D7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4E4A-FB84-417C-9D38-609690C7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B6B3-267D-4177-9C0C-ABC398DA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B83E0-A5F2-4DEC-9E2C-15E316C8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2685-1844-40E2-8A3E-BC283CB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A679D-38AD-45A7-8299-C7DCB75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DE1B2-8166-4200-A564-A0E112D1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53A-67A9-4D15-B618-A40B961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33B5-B793-41D9-9887-D3E56DE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F179-1CB0-467D-8360-040BCB6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B82E-2B9D-41E3-A2DD-4E8D086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8740D-2230-4DF9-9A4A-9CD8566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49B2A-5EF8-4C78-922D-D358B25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58C22-0A18-43A5-8B9D-EA22C7EB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2B67-5B29-453B-A13E-788D9593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54F26-801B-4C05-88E4-3A4BD0AF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07655-6E23-4517-8909-77392737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41B0E-E230-44A0-AC57-3C8FF55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230-BB92-44FA-9614-71E5C934D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44E-1982-4C1C-8995-4153ED4B8C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71B7-B2D3-4188-A9C1-60D97FC44D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B42-F03C-4CBA-8118-2E75E0870A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14A-7F05-4328-91AD-4361DFB965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75D-E952-4AD0-B0D3-A34966C3D5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00CF-CEED-4344-9DF3-0567F67BE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A32-76E5-4C96-B6D4-284C519313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27B5-01C3-4243-92A4-A0587E336D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46E0-A5B2-49B6-B1D5-EA6CEA3920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8D2A-1B8A-4E7D-8F97-36DF452435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A43-1246-4B62-AA3B-B3AEF76CD3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MTA_023.WAV"/><Relationship Id="rId4" Type="http://schemas.openxmlformats.org/officeDocument/2006/relationships/audio" Target="../media/cashreg.wav"/><Relationship Id="rId5" Type="http://schemas.openxmlformats.org/officeDocument/2006/relationships/audio" Target="../media/SndDefault.WAV"/><Relationship Id="rId6" Type="http://schemas.openxmlformats.org/officeDocument/2006/relationships/audio" Target="../media/ZR279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SndDefault.WAV"/><Relationship Id="rId2" Type="http://schemas.openxmlformats.org/officeDocument/2006/relationships/audio" Target="../media/ZR279.WAV"/><Relationship Id="rId3" Type="http://schemas.openxmlformats.org/officeDocument/2006/relationships/audio" Target="../media/ZR916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小摄影师"/>
          <p:cNvPicPr/>
          <p:nvPr/>
        </p:nvPicPr>
        <p:blipFill>
          <a:blip r:embed="rId1"/>
          <a:stretch/>
        </p:blipFill>
        <p:spPr>
          <a:xfrm>
            <a:off x="-396720" y="-458640"/>
            <a:ext cx="10287000" cy="78483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755640" y="5181480"/>
            <a:ext cx="77724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WordArt 2" descr="白色大理石"/>
          <p:cNvPicPr/>
          <p:nvPr/>
        </p:nvPicPr>
        <p:blipFill>
          <a:blip r:embed="rId2"/>
          <a:stretch/>
        </p:blipFill>
        <p:spPr>
          <a:xfrm>
            <a:off x="1530360" y="5357880"/>
            <a:ext cx="61815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026"/>
          <p:cNvSpPr/>
          <p:nvPr/>
        </p:nvSpPr>
        <p:spPr>
          <a:xfrm>
            <a:off x="914400" y="2209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高尔基为什么不接受记者摄影却要接受小男孩的摄影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027" descr="草"/>
          <p:cNvPicPr/>
          <p:nvPr/>
        </p:nvPicPr>
        <p:blipFill>
          <a:blip r:embed="rId1"/>
          <a:stretch/>
        </p:blipFill>
        <p:spPr>
          <a:xfrm>
            <a:off x="6324480" y="4800600"/>
            <a:ext cx="2457720" cy="17874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28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来告诉老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900000" y="1052640"/>
            <a:ext cx="7488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读了这篇课文，你对高尔基有那些了解？你有哪些体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900000" y="29257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这种对少年儿童的关心、爱护，从课文的哪些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可以看出来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833400" y="4149720"/>
            <a:ext cx="75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高尔基热爱少年儿童，关怀少年儿童，把对未来的希望寄托在下一代身上，相信小男孩一定回再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cf9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04920" y="213372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小声读课文，找找哪些句子能看出高尔基喜爱小男孩，用“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—— ”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勾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把自己勾的句子多读几遍，一边读一边想：这个句子是怎样写出高尔基对男孩的喜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600200" y="533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第一关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我会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457200"/>
            <a:ext cx="83844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1" y="378375"/>
                </a:moveTo>
                <a:lnTo>
                  <a:pt x="320166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5"/>
                </a:lnTo>
                <a:lnTo>
                  <a:pt x="579179" y="612222"/>
                </a:lnTo>
                <a:lnTo>
                  <a:pt x="678117" y="990597"/>
                </a:lnTo>
                <a:lnTo>
                  <a:pt x="419100" y="756746"/>
                </a:lnTo>
                <a:lnTo>
                  <a:pt x="160083" y="990597"/>
                </a:lnTo>
                <a:lnTo>
                  <a:pt x="259021" y="612222"/>
                </a:lnTo>
                <a:lnTo>
                  <a:pt x="1" y="378375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5" descr="hua01"/>
          <p:cNvPicPr/>
          <p:nvPr/>
        </p:nvPicPr>
        <p:blipFill>
          <a:blip r:embed="rId1"/>
          <a:stretch/>
        </p:blipFill>
        <p:spPr>
          <a:xfrm>
            <a:off x="71629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hua01"/>
          <p:cNvPicPr/>
          <p:nvPr/>
        </p:nvPicPr>
        <p:blipFill>
          <a:blip r:embed="rId2"/>
          <a:stretch/>
        </p:blipFill>
        <p:spPr>
          <a:xfrm>
            <a:off x="5867280" y="594360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858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914400" y="25146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我勾的句子在第几自然的哪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我会把勾的句子读正确，读通顺，读流利，还能做到声音洪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905120" y="7621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第二关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5"/>
          <p:cNvSpPr/>
          <p:nvPr/>
        </p:nvSpPr>
        <p:spPr>
          <a:xfrm>
            <a:off x="685800" y="685800"/>
            <a:ext cx="83808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1" y="378375"/>
                </a:moveTo>
                <a:lnTo>
                  <a:pt x="320166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5"/>
                </a:lnTo>
                <a:lnTo>
                  <a:pt x="579179" y="612222"/>
                </a:lnTo>
                <a:lnTo>
                  <a:pt x="678117" y="990597"/>
                </a:lnTo>
                <a:lnTo>
                  <a:pt x="419100" y="756746"/>
                </a:lnTo>
                <a:lnTo>
                  <a:pt x="160083" y="990597"/>
                </a:lnTo>
                <a:lnTo>
                  <a:pt x="259021" y="612222"/>
                </a:lnTo>
                <a:lnTo>
                  <a:pt x="1" y="378375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hua01"/>
          <p:cNvPicPr/>
          <p:nvPr/>
        </p:nvPicPr>
        <p:blipFill>
          <a:blip r:embed="rId1"/>
          <a:stretch/>
        </p:blipFill>
        <p:spPr>
          <a:xfrm>
            <a:off x="5867280" y="56386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hua01"/>
          <p:cNvPicPr/>
          <p:nvPr/>
        </p:nvPicPr>
        <p:blipFill>
          <a:blip r:embed="rId2"/>
          <a:stretch/>
        </p:blipFill>
        <p:spPr>
          <a:xfrm>
            <a:off x="6781680" y="594360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82880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第三关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说体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762120" y="1676520"/>
            <a:ext cx="78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从哪个词语，哪句话体会到了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是这样体会到的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我还想到了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仿宋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609480" y="457200"/>
            <a:ext cx="838440" cy="990720"/>
          </a:xfrm>
          <a:custGeom>
            <a:avLst/>
            <a:gdLst/>
            <a:ahLst/>
            <a:rect l="l" t="t" r="r" b="b"/>
            <a:pathLst>
              <a:path w="838200" h="990600">
                <a:moveTo>
                  <a:pt x="1" y="378375"/>
                </a:moveTo>
                <a:lnTo>
                  <a:pt x="320166" y="378377"/>
                </a:lnTo>
                <a:lnTo>
                  <a:pt x="419100" y="0"/>
                </a:lnTo>
                <a:lnTo>
                  <a:pt x="518034" y="378377"/>
                </a:lnTo>
                <a:lnTo>
                  <a:pt x="838199" y="378375"/>
                </a:lnTo>
                <a:lnTo>
                  <a:pt x="579179" y="612222"/>
                </a:lnTo>
                <a:lnTo>
                  <a:pt x="678117" y="990597"/>
                </a:lnTo>
                <a:lnTo>
                  <a:pt x="419100" y="756746"/>
                </a:lnTo>
                <a:lnTo>
                  <a:pt x="160083" y="990597"/>
                </a:lnTo>
                <a:lnTo>
                  <a:pt x="259021" y="612222"/>
                </a:lnTo>
                <a:lnTo>
                  <a:pt x="1" y="378375"/>
                </a:lnTo>
                <a:close/>
              </a:path>
            </a:pathLst>
          </a:custGeom>
          <a:gradFill rotWithShape="0">
            <a:gsLst>
              <a:gs pos="0">
                <a:srgbClr val="fe2b08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5" descr="hua01"/>
          <p:cNvPicPr/>
          <p:nvPr/>
        </p:nvPicPr>
        <p:blipFill>
          <a:blip r:embed="rId1"/>
          <a:stretch/>
        </p:blipFill>
        <p:spPr>
          <a:xfrm>
            <a:off x="6553080" y="57150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hua01"/>
          <p:cNvPicPr/>
          <p:nvPr/>
        </p:nvPicPr>
        <p:blipFill>
          <a:blip r:embed="rId2"/>
          <a:stretch/>
        </p:blipFill>
        <p:spPr>
          <a:xfrm>
            <a:off x="5638680" y="5334120"/>
            <a:ext cx="10749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小摄影师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7000"/>
            <a:ext cx="9144000" cy="57596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900000" y="5067360"/>
            <a:ext cx="619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这件事发生在什么时间，什么地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小男孩为什么要给高尔基照相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4067280" y="1916280"/>
            <a:ext cx="151128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7020000" y="17859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3511440" y="2205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564000" y="4581360"/>
            <a:ext cx="432108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072440" y="515448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026" descr="小摄影师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700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027"/>
          <p:cNvSpPr/>
          <p:nvPr/>
        </p:nvSpPr>
        <p:spPr>
          <a:xfrm>
            <a:off x="395280" y="5589720"/>
            <a:ext cx="828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当高尔基询问小男孩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是你扔的纸团吗？小男孩是怎么做的？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得到允许，小男孩来到高尔基的面前后，他又是怎么做的？小男孩为什么仔细打量高尔基？</a:t>
            </a: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小男孩是怎么吩咐高尔基的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28"/>
          <p:cNvSpPr/>
          <p:nvPr/>
        </p:nvSpPr>
        <p:spPr>
          <a:xfrm>
            <a:off x="4140360" y="1989000"/>
            <a:ext cx="136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▲ ▲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029"/>
          <p:cNvSpPr/>
          <p:nvPr/>
        </p:nvSpPr>
        <p:spPr>
          <a:xfrm>
            <a:off x="5576760" y="197964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030"/>
          <p:cNvSpPr/>
          <p:nvPr/>
        </p:nvSpPr>
        <p:spPr>
          <a:xfrm>
            <a:off x="611280" y="4608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031"/>
          <p:cNvSpPr/>
          <p:nvPr/>
        </p:nvSpPr>
        <p:spPr>
          <a:xfrm>
            <a:off x="5022720" y="41497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ahoma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032"/>
          <p:cNvSpPr/>
          <p:nvPr/>
        </p:nvSpPr>
        <p:spPr>
          <a:xfrm>
            <a:off x="713880" y="494172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026" descr="小摄影师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243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1027"/>
          <p:cNvSpPr/>
          <p:nvPr/>
        </p:nvSpPr>
        <p:spPr>
          <a:xfrm>
            <a:off x="0" y="494172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是怎么吩咐的？高尔基是怎么做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高尔基这样听小男孩的指挥，你有什么想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是怎样给高尔基照相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小男孩为什么哭了？这时高尔基是怎样做的？赶紧、大声说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28"/>
          <p:cNvSpPr/>
          <p:nvPr/>
        </p:nvSpPr>
        <p:spPr>
          <a:xfrm>
            <a:off x="6443640" y="342900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029"/>
          <p:cNvSpPr/>
          <p:nvPr/>
        </p:nvSpPr>
        <p:spPr>
          <a:xfrm>
            <a:off x="4067280" y="3716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30"/>
          <p:cNvSpPr/>
          <p:nvPr/>
        </p:nvSpPr>
        <p:spPr>
          <a:xfrm>
            <a:off x="1768320" y="400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031"/>
          <p:cNvSpPr/>
          <p:nvPr/>
        </p:nvSpPr>
        <p:spPr>
          <a:xfrm>
            <a:off x="3708360" y="437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宋体"/>
              </a:rPr>
              <a:t>▲  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032"/>
          <p:cNvSpPr/>
          <p:nvPr/>
        </p:nvSpPr>
        <p:spPr>
          <a:xfrm>
            <a:off x="395280" y="56610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小摄影师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324000" y="4724280"/>
            <a:ext cx="8388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为什么 高尔基答应给他胶卷，结果他还是跳上电车走了？</a:t>
            </a: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高尔基为什么不见记者，却希望来的是个小男孩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         </a:t>
            </a:r>
            <a:r>
              <a:rPr b="1" lang="zh-CN" sz="2000" spc="-1" strike="noStrike">
                <a:solidFill>
                  <a:srgbClr val="b2b2b2"/>
                </a:solidFill>
                <a:latin typeface="Tahoma"/>
              </a:rPr>
              <a:t>小男孩伤心地跑回家去还会再来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949320" y="3544920"/>
            <a:ext cx="352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279360" y="3956040"/>
            <a:ext cx="424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279360" y="434340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571680" y="486900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611280" y="1773360"/>
            <a:ext cx="806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你扔的纸条吗？”高尔基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的。”小男孩站起来鞠了个躬，“请让我进去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吧，我让他们放你进来。”高尔基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5238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角色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4" descr="天使"/>
          <p:cNvPicPr/>
          <p:nvPr/>
        </p:nvPicPr>
        <p:blipFill>
          <a:blip r:embed="rId1"/>
          <a:stretch/>
        </p:blipFill>
        <p:spPr>
          <a:xfrm>
            <a:off x="4267080" y="30492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8"/>
          <p:cNvSpPr/>
          <p:nvPr/>
        </p:nvSpPr>
        <p:spPr>
          <a:xfrm>
            <a:off x="190800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高尔基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267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高尔基（１８６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１９３６）原姓彼什科夫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高尔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这位词在俄文里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苦 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痛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意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这位俄罗斯文学巨人最著名的作品有自传三部曲：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童年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在人间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我的大学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列宁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毫无疑问，高尔基是一位宏伟的艺术天才，他带给了并且还将带给全世界无产者以很 多的贡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5" descr="高尔基"/>
          <p:cNvPicPr/>
          <p:nvPr/>
        </p:nvPicPr>
        <p:blipFill>
          <a:blip r:embed="rId1"/>
          <a:stretch/>
        </p:blipFill>
        <p:spPr>
          <a:xfrm>
            <a:off x="228600" y="1066680"/>
            <a:ext cx="427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609480" y="1295280"/>
            <a:ext cx="77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高尔基拿了张报纸，按小男孩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吩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坐下。小男孩摆弄了很久很久，说：：“一切准备停当。”高尔基侧过脸，对着他微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905120" y="4038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从“吩咐”这个词语中体会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828800" y="548640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高尔基对孩子真诚的关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5" descr="进入梦想世界"/>
          <p:cNvPicPr/>
          <p:nvPr/>
        </p:nvPicPr>
        <p:blipFill>
          <a:blip r:embed="rId1"/>
          <a:stretch/>
        </p:blipFill>
        <p:spPr>
          <a:xfrm>
            <a:off x="533520" y="3886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1095480" y="1981080"/>
            <a:ext cx="684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课文的其他地方还可以看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尔基喜爱小男孩，让我们找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来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6" descr="仙女"/>
          <p:cNvPicPr/>
          <p:nvPr/>
        </p:nvPicPr>
        <p:blipFill>
          <a:blip r:embed="rId1"/>
          <a:stretch/>
        </p:blipFill>
        <p:spPr>
          <a:xfrm>
            <a:off x="609480" y="380880"/>
            <a:ext cx="1371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5936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304920" y="114300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尔基走到窗口，大声喊到：“孩子，回来！我给你胶卷，我这有很多胶卷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52280" y="2971800"/>
            <a:ext cx="8991720" cy="2288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秘书告诉高尔基：“外面来了一位摄影师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个小男孩吗？”高尔基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。是一家杂志社的记者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转告他，我很忙。不过，来的如果是个小男孩，就一定让他进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3151080" y="512640"/>
            <a:ext cx="3184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转告他，我很忙。不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的如果是个小男孩，就一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他进来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2540880" y="3443400"/>
            <a:ext cx="3940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）和同桌一起读读这句话，注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好带点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487480" y="1041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7316280" y="207180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595520" y="5208480"/>
            <a:ext cx="5422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）从带点词里你看出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619280" y="2349360"/>
            <a:ext cx="597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cc"/>
                </a:solidFill>
                <a:latin typeface="Times New Roman"/>
              </a:rPr>
              <a:t>说一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假如你见到高尔基叔叔，你会对他说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3" descr="hua01"/>
          <p:cNvPicPr/>
          <p:nvPr/>
        </p:nvPicPr>
        <p:blipFill>
          <a:blip r:embed="rId1"/>
          <a:stretch/>
        </p:blipFill>
        <p:spPr>
          <a:xfrm>
            <a:off x="4788000" y="11970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hua01"/>
          <p:cNvPicPr/>
          <p:nvPr/>
        </p:nvPicPr>
        <p:blipFill>
          <a:blip r:embed="rId2"/>
          <a:stretch/>
        </p:blipFill>
        <p:spPr>
          <a:xfrm>
            <a:off x="2556000" y="1268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hua01"/>
          <p:cNvPicPr/>
          <p:nvPr/>
        </p:nvPicPr>
        <p:blipFill>
          <a:blip r:embed="rId3"/>
          <a:stretch/>
        </p:blipFill>
        <p:spPr>
          <a:xfrm>
            <a:off x="6877080" y="1268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hua01"/>
          <p:cNvPicPr/>
          <p:nvPr/>
        </p:nvPicPr>
        <p:blipFill>
          <a:blip r:embed="rId4"/>
          <a:stretch/>
        </p:blipFill>
        <p:spPr>
          <a:xfrm>
            <a:off x="539640" y="1268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hua01"/>
          <p:cNvPicPr/>
          <p:nvPr/>
        </p:nvPicPr>
        <p:blipFill>
          <a:blip r:embed="rId5"/>
          <a:stretch/>
        </p:blipFill>
        <p:spPr>
          <a:xfrm flipH="1">
            <a:off x="7740360" y="2924280"/>
            <a:ext cx="1049400" cy="379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hua01"/>
          <p:cNvPicPr/>
          <p:nvPr/>
        </p:nvPicPr>
        <p:blipFill>
          <a:blip r:embed="rId6"/>
          <a:stretch/>
        </p:blipFill>
        <p:spPr>
          <a:xfrm>
            <a:off x="0" y="321300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hua01"/>
          <p:cNvPicPr/>
          <p:nvPr/>
        </p:nvPicPr>
        <p:blipFill>
          <a:blip r:embed="rId7"/>
          <a:stretch/>
        </p:blipFill>
        <p:spPr>
          <a:xfrm>
            <a:off x="7740720" y="3716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0" descr="hua01"/>
          <p:cNvPicPr/>
          <p:nvPr/>
        </p:nvPicPr>
        <p:blipFill>
          <a:blip r:embed="rId8"/>
          <a:stretch/>
        </p:blipFill>
        <p:spPr>
          <a:xfrm>
            <a:off x="7812000" y="616572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hua01"/>
          <p:cNvPicPr/>
          <p:nvPr/>
        </p:nvPicPr>
        <p:blipFill>
          <a:blip r:embed="rId9"/>
          <a:stretch/>
        </p:blipFill>
        <p:spPr>
          <a:xfrm>
            <a:off x="6372360" y="616572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2" descr="hua01"/>
          <p:cNvPicPr/>
          <p:nvPr/>
        </p:nvPicPr>
        <p:blipFill>
          <a:blip r:embed="rId10"/>
          <a:stretch/>
        </p:blipFill>
        <p:spPr>
          <a:xfrm>
            <a:off x="4427640" y="623736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3" descr="hua01"/>
          <p:cNvPicPr/>
          <p:nvPr/>
        </p:nvPicPr>
        <p:blipFill>
          <a:blip r:embed="rId11"/>
          <a:stretch/>
        </p:blipFill>
        <p:spPr>
          <a:xfrm>
            <a:off x="2411280" y="616572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hua01"/>
          <p:cNvPicPr/>
          <p:nvPr/>
        </p:nvPicPr>
        <p:blipFill>
          <a:blip r:embed="rId12"/>
          <a:stretch/>
        </p:blipFill>
        <p:spPr>
          <a:xfrm>
            <a:off x="539640" y="60930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hua01"/>
          <p:cNvPicPr/>
          <p:nvPr/>
        </p:nvPicPr>
        <p:blipFill>
          <a:blip r:embed="rId13"/>
          <a:stretch/>
        </p:blipFill>
        <p:spPr>
          <a:xfrm>
            <a:off x="0" y="4292640"/>
            <a:ext cx="10746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457200" y="457200"/>
            <a:ext cx="82296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评一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你觉得这是一个怎样的小男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609480" y="2590920"/>
            <a:ext cx="792504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放飞想像编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小男孩第二次是怎样来的？他会说些什么？他是怎样摄影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…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4" descr="hua01"/>
          <p:cNvPicPr/>
          <p:nvPr/>
        </p:nvPicPr>
        <p:blipFill>
          <a:blip r:embed="rId1"/>
          <a:stretch/>
        </p:blipFill>
        <p:spPr>
          <a:xfrm>
            <a:off x="7086600" y="6469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hua01"/>
          <p:cNvPicPr/>
          <p:nvPr/>
        </p:nvPicPr>
        <p:blipFill>
          <a:blip r:embed="rId2"/>
          <a:stretch/>
        </p:blipFill>
        <p:spPr>
          <a:xfrm>
            <a:off x="5943600" y="6172200"/>
            <a:ext cx="10746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4"/>
          <p:cNvSpPr/>
          <p:nvPr/>
        </p:nvSpPr>
        <p:spPr>
          <a:xfrm>
            <a:off x="1148760" y="113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4361040" y="2057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想接着往下写这个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6" descr="笑脸"/>
          <p:cNvPicPr/>
          <p:nvPr/>
        </p:nvPicPr>
        <p:blipFill>
          <a:blip r:embed="rId1"/>
          <a:stretch/>
        </p:blipFill>
        <p:spPr>
          <a:xfrm>
            <a:off x="2666880" y="9144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7"/>
          <p:cNvSpPr/>
          <p:nvPr/>
        </p:nvSpPr>
        <p:spPr>
          <a:xfrm>
            <a:off x="1143000" y="3200400"/>
            <a:ext cx="6477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男孩拿来了胶卷，匆匆赶往高尔基的办公室，再次见面时他们会说些什么？做些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让我们展开想象，和小伙伴交流一下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2090880" y="836640"/>
            <a:ext cx="496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6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、小摄影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1332000" y="2276640"/>
            <a:ext cx="6480000" cy="4176720"/>
          </a:xfrm>
          <a:custGeom>
            <a:avLst/>
            <a:gdLst>
              <a:gd name="textAreaLeft" fmla="*/ 1510920 w 6480000"/>
              <a:gd name="textAreaRight" fmla="*/ 4967280 w 6480000"/>
              <a:gd name="textAreaTop" fmla="*/ 440280 h 4176720"/>
              <a:gd name="textAreaBottom" fmla="*/ 2644560 h 417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3095640" y="3357720"/>
            <a:ext cx="2951280" cy="2808000"/>
          </a:xfrm>
          <a:custGeom>
            <a:avLst/>
            <a:gdLst>
              <a:gd name="textAreaLeft" fmla="*/ 687960 w 2951280"/>
              <a:gd name="textAreaRight" fmla="*/ 2262240 w 2951280"/>
              <a:gd name="textAreaTop" fmla="*/ 295920 h 2808000"/>
              <a:gd name="textAreaBottom" fmla="*/ 1778040 h 2808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852720" y="2633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949560" y="372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摄影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3635280" y="4508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礼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1979640" y="3429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关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6229440" y="34257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爱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1836720" y="333360"/>
            <a:ext cx="5183280" cy="1002960"/>
            <a:chOff x="1836720" y="333360"/>
            <a:chExt cx="5183280" cy="1002960"/>
          </a:xfrm>
        </p:grpSpPr>
        <p:sp>
          <p:nvSpPr>
            <p:cNvPr id="648" name="Text Box 3"/>
            <p:cNvSpPr/>
            <p:nvPr/>
          </p:nvSpPr>
          <p:spPr>
            <a:xfrm>
              <a:off x="1836720" y="69372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</a:rPr>
                <a:t>小男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4"/>
            <p:cNvSpPr/>
            <p:nvPr/>
          </p:nvSpPr>
          <p:spPr>
            <a:xfrm>
              <a:off x="3492360" y="1052640"/>
              <a:ext cx="1152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5"/>
            <p:cNvSpPr/>
            <p:nvPr/>
          </p:nvSpPr>
          <p:spPr>
            <a:xfrm>
              <a:off x="3492360" y="333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</a:rPr>
                <a:t>拍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"/>
            <p:cNvSpPr/>
            <p:nvPr/>
          </p:nvSpPr>
          <p:spPr>
            <a:xfrm>
              <a:off x="4787640" y="693720"/>
              <a:ext cx="22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</a:rPr>
                <a:t>高尔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Text Box 7"/>
          <p:cNvSpPr/>
          <p:nvPr/>
        </p:nvSpPr>
        <p:spPr>
          <a:xfrm>
            <a:off x="68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仔细打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630072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611280" y="2708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摆弄很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6156360" y="270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84360" y="371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坐、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6227640" y="37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赶紧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684360" y="4724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跳、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6046920" y="4653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定让他进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15"/>
          <p:cNvGrpSpPr/>
          <p:nvPr/>
        </p:nvGrpSpPr>
        <p:grpSpPr>
          <a:xfrm>
            <a:off x="2971440" y="1844280"/>
            <a:ext cx="2592360" cy="1800360"/>
            <a:chOff x="2971440" y="1844280"/>
            <a:chExt cx="2592360" cy="1800360"/>
          </a:xfrm>
        </p:grpSpPr>
        <p:sp>
          <p:nvSpPr>
            <p:cNvPr id="661" name="AutoShape 16"/>
            <p:cNvSpPr/>
            <p:nvPr/>
          </p:nvSpPr>
          <p:spPr>
            <a:xfrm rot="10800000">
              <a:off x="2971440" y="1844280"/>
              <a:ext cx="2592360" cy="1800360"/>
            </a:xfrm>
            <a:custGeom>
              <a:avLst/>
              <a:gdLst>
                <a:gd name="textAreaLeft" fmla="*/ 324000 w 2592360"/>
                <a:gd name="textAreaRight" fmla="*/ 2268360 w 2592360"/>
                <a:gd name="textAreaTop" fmla="*/ 450000 h 1800360"/>
                <a:gd name="textAreaBottom" fmla="*/ 13503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17"/>
            <p:cNvSpPr/>
            <p:nvPr/>
          </p:nvSpPr>
          <p:spPr>
            <a:xfrm>
              <a:off x="3187800" y="23493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关心爱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18"/>
          <p:cNvGrpSpPr/>
          <p:nvPr/>
        </p:nvGrpSpPr>
        <p:grpSpPr>
          <a:xfrm>
            <a:off x="2971800" y="3789360"/>
            <a:ext cx="2592360" cy="1800360"/>
            <a:chOff x="2971800" y="3789360"/>
            <a:chExt cx="2592360" cy="1800360"/>
          </a:xfrm>
        </p:grpSpPr>
        <p:sp>
          <p:nvSpPr>
            <p:cNvPr id="664" name="AutoShape 19"/>
            <p:cNvSpPr/>
            <p:nvPr/>
          </p:nvSpPr>
          <p:spPr>
            <a:xfrm>
              <a:off x="2971800" y="3789360"/>
              <a:ext cx="2592360" cy="1800360"/>
            </a:xfrm>
            <a:custGeom>
              <a:avLst/>
              <a:gdLst>
                <a:gd name="textAreaLeft" fmla="*/ 324000 w 2592360"/>
                <a:gd name="textAreaRight" fmla="*/ 2268360 w 2592360"/>
                <a:gd name="textAreaTop" fmla="*/ 450000 h 1800360"/>
                <a:gd name="textAreaBottom" fmla="*/ 13503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0"/>
            <p:cNvSpPr/>
            <p:nvPr/>
          </p:nvSpPr>
          <p:spPr>
            <a:xfrm>
              <a:off x="3332160" y="436572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热爱崇敬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A_0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d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R27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23716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295280" y="23623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摄影师       男孩      扔纸团     摆弄       坐  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明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关心  爱护    高尔基   放他进     微笑       站  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暗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/>
          <p:cNvSpPr/>
          <p:nvPr/>
        </p:nvSpPr>
        <p:spPr>
          <a:xfrm>
            <a:off x="7620120" y="25909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7924680" y="2743200"/>
            <a:ext cx="9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衬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835000" y="12952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7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小摄影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7" descr="上一张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04920" y="6113520"/>
            <a:ext cx="1143000" cy="668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8" descr="结束放映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848720" y="6095880"/>
            <a:ext cx="106668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下一张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38480" y="609588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4"/>
          <p:cNvSpPr/>
          <p:nvPr/>
        </p:nvSpPr>
        <p:spPr>
          <a:xfrm>
            <a:off x="1342080" y="1293840"/>
            <a:ext cx="67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摄影   高尔基   阳光明媚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鞠躬   胶卷   秘书  杂志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1281600" y="4037040"/>
            <a:ext cx="67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 按时   摆弄   准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坐   一辆   吩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895040" y="692280"/>
            <a:ext cx="48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shè              jī              mè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539640" y="2182680"/>
            <a:ext cx="13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jū gōng   jiāo       mì             sh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kuang%20(36)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WordArt 3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9270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684360" y="1268280"/>
            <a:ext cx="7632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基       突       按     摆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弄       准       备     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胶       卷       辆     秘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Tahoma"/>
              </a:rPr>
              <a:t>杂       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900000" y="836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ī                            tū                           àn                       bǎ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55640" y="213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òng                        zhǔn                        bèi                    c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84360" y="3357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Jiāo                           juǎn                        liàng                   m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755640" y="45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á                             sh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242360" y="431640"/>
            <a:ext cx="654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气真好啊，读这些次词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心情非常轻松愉快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969840" y="1981080"/>
            <a:ext cx="703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阳光明媚    风和日丽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高云淡    晴空万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碧空如洗    秋高气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8305920" y="6095880"/>
            <a:ext cx="533160" cy="4572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-36360" y="189000"/>
            <a:ext cx="91454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读一读，体会句子标点符号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小男孩摆弄了很久，说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：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一切准备停当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来吧，我让他们放你进来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高尔基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你怎么啦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？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高尔基不知出了什么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是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，”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小男孩站起来，鞠了个躬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，“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请让我进去吧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1403280" y="191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放在后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2039760" y="6018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分两部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1920600" y="4362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说的话放在前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nd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R27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R91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626920" y="205092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个蝌蚪真奇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前揽后抱是引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语言引在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种形式要记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逗号句号和问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放准位置别溜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" descr="u=344393408,530191609&amp;fm=0&amp;gp=-12"/>
          <p:cNvPicPr/>
          <p:nvPr/>
        </p:nvPicPr>
        <p:blipFill>
          <a:blip r:embed="rId1"/>
          <a:stretch/>
        </p:blipFill>
        <p:spPr>
          <a:xfrm>
            <a:off x="539640" y="333360"/>
            <a:ext cx="1511280" cy="117792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4"/>
          <p:cNvSpPr/>
          <p:nvPr/>
        </p:nvSpPr>
        <p:spPr>
          <a:xfrm>
            <a:off x="2916360" y="765000"/>
            <a:ext cx="388764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引号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1052280" y="1197000"/>
            <a:ext cx="7556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   立刻   人行道   照相机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量   摆弄   准备   胶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秘书   杂志社   记者   转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当   咧开嘴   侧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557280" y="33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读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26"/>
          <p:cNvSpPr/>
          <p:nvPr/>
        </p:nvSpPr>
        <p:spPr>
          <a:xfrm>
            <a:off x="755640" y="1413000"/>
            <a:ext cx="7848720" cy="4392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发现这几个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19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摄影      突然     立刻     打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照相      摆弄     准备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书      记者     转告     基本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按住      侧面     车辆     鞠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行道      杂志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阳光明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565200" y="5554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贴（        ）  吩（        ）    社（        ）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沾（        ）  纷（        ）    杜（        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测（        ）  秘（        ）    胶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侧（        ）  密（        ）    郊（ 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者（        ）  杂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著（        ）  染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3"/>
          <p:cNvGrpSpPr/>
          <p:nvPr/>
        </p:nvGrpSpPr>
        <p:grpSpPr>
          <a:xfrm>
            <a:off x="1663920" y="1089000"/>
            <a:ext cx="729360" cy="1176120"/>
            <a:chOff x="1663920" y="1089000"/>
            <a:chExt cx="729360" cy="1176120"/>
          </a:xfrm>
        </p:grpSpPr>
        <p:sp>
          <p:nvSpPr>
            <p:cNvPr id="511" name="Text Box 4"/>
            <p:cNvSpPr/>
            <p:nvPr/>
          </p:nvSpPr>
          <p:spPr>
            <a:xfrm>
              <a:off x="166392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贴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5"/>
            <p:cNvSpPr/>
            <p:nvPr/>
          </p:nvSpPr>
          <p:spPr>
            <a:xfrm>
              <a:off x="1663920" y="1622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沾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6"/>
          <p:cNvGrpSpPr/>
          <p:nvPr/>
        </p:nvGrpSpPr>
        <p:grpSpPr>
          <a:xfrm>
            <a:off x="4178520" y="1089000"/>
            <a:ext cx="729360" cy="1176120"/>
            <a:chOff x="4178520" y="1089000"/>
            <a:chExt cx="729360" cy="1176120"/>
          </a:xfrm>
        </p:grpSpPr>
        <p:sp>
          <p:nvSpPr>
            <p:cNvPr id="514" name="Text Box 7"/>
            <p:cNvSpPr/>
            <p:nvPr/>
          </p:nvSpPr>
          <p:spPr>
            <a:xfrm>
              <a:off x="417852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吩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4178520" y="1622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纷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663920" y="2765520"/>
            <a:ext cx="729360" cy="1175760"/>
            <a:chOff x="1663920" y="2765520"/>
            <a:chExt cx="729360" cy="1175760"/>
          </a:xfrm>
        </p:grpSpPr>
        <p:sp>
          <p:nvSpPr>
            <p:cNvPr id="517" name="Text Box 10"/>
            <p:cNvSpPr/>
            <p:nvPr/>
          </p:nvSpPr>
          <p:spPr>
            <a:xfrm>
              <a:off x="1663920" y="2765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测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1663920" y="32986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侧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6661080" y="1089000"/>
            <a:ext cx="1251000" cy="1176120"/>
            <a:chOff x="6661080" y="1089000"/>
            <a:chExt cx="1251000" cy="1176120"/>
          </a:xfrm>
        </p:grpSpPr>
        <p:sp>
          <p:nvSpPr>
            <p:cNvPr id="520" name="Text Box 13"/>
            <p:cNvSpPr/>
            <p:nvPr/>
          </p:nvSpPr>
          <p:spPr>
            <a:xfrm>
              <a:off x="6661080" y="1622520"/>
              <a:ext cx="12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杜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4"/>
            <p:cNvSpPr/>
            <p:nvPr/>
          </p:nvSpPr>
          <p:spPr>
            <a:xfrm>
              <a:off x="6845760" y="1089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15"/>
          <p:cNvGrpSpPr/>
          <p:nvPr/>
        </p:nvGrpSpPr>
        <p:grpSpPr>
          <a:xfrm>
            <a:off x="6661080" y="2765520"/>
            <a:ext cx="1143000" cy="1175760"/>
            <a:chOff x="6661080" y="2765520"/>
            <a:chExt cx="1143000" cy="1175760"/>
          </a:xfrm>
        </p:grpSpPr>
        <p:sp>
          <p:nvSpPr>
            <p:cNvPr id="523" name="Text Box 16"/>
            <p:cNvSpPr/>
            <p:nvPr/>
          </p:nvSpPr>
          <p:spPr>
            <a:xfrm>
              <a:off x="6661080" y="2765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胶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7"/>
            <p:cNvSpPr/>
            <p:nvPr/>
          </p:nvSpPr>
          <p:spPr>
            <a:xfrm>
              <a:off x="6661080" y="329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郊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8"/>
          <p:cNvGrpSpPr/>
          <p:nvPr/>
        </p:nvGrpSpPr>
        <p:grpSpPr>
          <a:xfrm>
            <a:off x="3994200" y="2765520"/>
            <a:ext cx="1219320" cy="1175760"/>
            <a:chOff x="3994200" y="2765520"/>
            <a:chExt cx="1219320" cy="1175760"/>
          </a:xfrm>
        </p:grpSpPr>
        <p:sp>
          <p:nvSpPr>
            <p:cNvPr id="526" name="Text Box 19"/>
            <p:cNvSpPr/>
            <p:nvPr/>
          </p:nvSpPr>
          <p:spPr>
            <a:xfrm>
              <a:off x="4070520" y="329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0"/>
            <p:cNvSpPr/>
            <p:nvPr/>
          </p:nvSpPr>
          <p:spPr>
            <a:xfrm>
              <a:off x="3994200" y="2765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秘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1"/>
          <p:cNvGrpSpPr/>
          <p:nvPr/>
        </p:nvGrpSpPr>
        <p:grpSpPr>
          <a:xfrm>
            <a:off x="1479600" y="4365720"/>
            <a:ext cx="1143000" cy="1175760"/>
            <a:chOff x="1479600" y="4365720"/>
            <a:chExt cx="1143000" cy="1175760"/>
          </a:xfrm>
        </p:grpSpPr>
        <p:sp>
          <p:nvSpPr>
            <p:cNvPr id="529" name="Text Box 22"/>
            <p:cNvSpPr/>
            <p:nvPr/>
          </p:nvSpPr>
          <p:spPr>
            <a:xfrm>
              <a:off x="1479600" y="4365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作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23"/>
            <p:cNvSpPr/>
            <p:nvPr/>
          </p:nvSpPr>
          <p:spPr>
            <a:xfrm>
              <a:off x="1479600" y="4898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著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3994200" y="4365720"/>
            <a:ext cx="1143000" cy="1175760"/>
            <a:chOff x="3994200" y="4365720"/>
            <a:chExt cx="1143000" cy="1175760"/>
          </a:xfrm>
        </p:grpSpPr>
        <p:sp>
          <p:nvSpPr>
            <p:cNvPr id="532" name="Text Box 25"/>
            <p:cNvSpPr/>
            <p:nvPr/>
          </p:nvSpPr>
          <p:spPr>
            <a:xfrm>
              <a:off x="3994200" y="43657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杂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6"/>
            <p:cNvSpPr/>
            <p:nvPr/>
          </p:nvSpPr>
          <p:spPr>
            <a:xfrm>
              <a:off x="3994200" y="48988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感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617480" y="0"/>
            <a:ext cx="498132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早晨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纸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）电车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照相机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杂志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（    ）摄影师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909520" y="163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004920" y="1306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928600" y="2286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985840" y="3363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004920" y="441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944440" y="5497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24000" y="1905120"/>
            <a:ext cx="79819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纸团  墙  鞠躬  打量  吩咐  摆弄  胶卷  秘书  杂志社  转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826920" y="609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4" descr="小妹妹"/>
          <p:cNvPicPr/>
          <p:nvPr/>
        </p:nvPicPr>
        <p:blipFill>
          <a:blip r:embed="rId1"/>
          <a:stretch/>
        </p:blipFill>
        <p:spPr>
          <a:xfrm>
            <a:off x="0" y="457200"/>
            <a:ext cx="800280" cy="9525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62120" y="4419720"/>
            <a:ext cx="7391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我能用上面的词语来说说课文的主要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905120" y="762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我知道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“突然</a:t>
            </a:r>
            <a:r>
              <a:rPr b="0" lang="zh-CN" sz="3200" spc="-1" strike="noStrike">
                <a:solidFill>
                  <a:srgbClr val="ff9933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3" descr="进入梦想世界"/>
          <p:cNvPicPr/>
          <p:nvPr/>
        </p:nvPicPr>
        <p:blipFill>
          <a:blip r:embed="rId1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838080" y="19810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371600" y="17524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个阳光明媚的早晨，高尔基正在读书，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一个小纸团从窗外飞到了桌子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219320" y="358128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高尔基侧过脸，对他微笑。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小男孩往地上一坐，哭了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1905120" y="5486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我想围绕“突然”提几个问题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…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华文中宋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2:16:40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0T08:02:15Z</dcterms:modified>
  <cp:revision>31</cp:revision>
  <dc:subject>第一PPT模板网-WWW.1PPT.COM</dc:subject>
  <dc:title>第一PPT模板网-WWW.1PPT.COM</dc:title>
</cp:coreProperties>
</file>