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920-F862-4502-BE5C-2C0BA84E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3F3-683D-4424-9BE1-786C7E1A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563-68B4-422C-B70F-746A6281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1E4-D452-448D-BB19-447238BD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C9C-B1CC-42E8-B8A3-7679B093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735-680C-4D13-ADA9-302E20A7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3E2-8F81-4DB3-B971-B3D8C48D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C27-BABE-4F6F-B4E0-E324D9A4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B82-A9CA-4E3B-BE2F-1720DAD3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916B-DE44-4230-AE55-63EFFF5A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79CB-09EA-4546-A4DB-ED6AE91F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3B9-B507-4418-94D4-E953CD1D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233D-6EB3-4982-8116-D8D4E816B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523880" y="1295280"/>
            <a:ext cx="67820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笔算乘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33"/>
          <p:cNvSpPr/>
          <p:nvPr/>
        </p:nvSpPr>
        <p:spPr>
          <a:xfrm>
            <a:off x="571500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笔算乘法例1"/>
          <p:cNvPicPr/>
          <p:nvPr/>
        </p:nvPicPr>
        <p:blipFill>
          <a:blip r:embed="rId1"/>
          <a:stretch/>
        </p:blipFill>
        <p:spPr>
          <a:xfrm>
            <a:off x="1676520" y="609480"/>
            <a:ext cx="6933960" cy="3127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487440" y="4287960"/>
            <a:ext cx="21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739880" y="475920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065680" y="5442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027440" y="5459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048400" y="6107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702440" y="6110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V="1">
            <a:off x="2251080" y="52462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H="1" flipV="1">
            <a:off x="1980720" y="52574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760400" y="5653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33684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603680" y="47386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608720" y="542124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891240" y="5438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92948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45662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V="1">
            <a:off x="4765680" y="5226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V="1">
            <a:off x="4807080" y="5257440"/>
            <a:ext cx="257040" cy="2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419940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638496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7683480" y="49528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7340400" y="54212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6778440" y="543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6832440" y="605484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797760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76316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72824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920880" y="60516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3784680" y="605484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未标题-1"/>
          <p:cNvPicPr/>
          <p:nvPr/>
        </p:nvPicPr>
        <p:blipFill>
          <a:blip r:embed="rId1"/>
          <a:stretch/>
        </p:blipFill>
        <p:spPr>
          <a:xfrm>
            <a:off x="2590920" y="2260440"/>
            <a:ext cx="3352680" cy="1947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2701800" y="685800"/>
            <a:ext cx="497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李叔叔从某城市乘火车去北京用了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火车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约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45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该城市到北京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823480" y="4738680"/>
            <a:ext cx="36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45×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　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笔算乘法1"/>
          <p:cNvPicPr/>
          <p:nvPr/>
        </p:nvPicPr>
        <p:blipFill>
          <a:blip r:embed="rId1"/>
          <a:srcRect l="14632" t="40534" r="71626" b="36245"/>
          <a:stretch/>
        </p:blipFill>
        <p:spPr>
          <a:xfrm>
            <a:off x="1752480" y="914400"/>
            <a:ext cx="95256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笔算乘法1"/>
          <p:cNvPicPr/>
          <p:nvPr/>
        </p:nvPicPr>
        <p:blipFill>
          <a:blip r:embed="rId2"/>
          <a:srcRect l="51305" t="43759" r="34954" b="34308"/>
          <a:stretch/>
        </p:blipFill>
        <p:spPr>
          <a:xfrm>
            <a:off x="3962520" y="4038480"/>
            <a:ext cx="90792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笔算乘法1"/>
          <p:cNvPicPr/>
          <p:nvPr/>
        </p:nvPicPr>
        <p:blipFill>
          <a:blip r:embed="rId3"/>
          <a:srcRect l="65977" t="40534" r="20282" b="36889"/>
          <a:stretch/>
        </p:blipFill>
        <p:spPr>
          <a:xfrm>
            <a:off x="6095880" y="4419720"/>
            <a:ext cx="947880" cy="22096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>
            <a:off x="3048120" y="838080"/>
            <a:ext cx="2590560" cy="1752840"/>
          </a:xfrm>
          <a:prstGeom prst="wedgeRoundRectCallout">
            <a:avLst>
              <a:gd name="adj1" fmla="val -49814"/>
              <a:gd name="adj2" fmla="val -91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1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1066680" y="3352680"/>
            <a:ext cx="1828800" cy="1600200"/>
          </a:xfrm>
          <a:prstGeom prst="cloudCallout">
            <a:avLst>
              <a:gd name="adj1" fmla="val 88106"/>
              <a:gd name="adj2" fmla="val 59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用笔算比较准确，得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7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6450120" y="2971800"/>
            <a:ext cx="2361960" cy="1523880"/>
          </a:xfrm>
          <a:prstGeom prst="cloudCallout">
            <a:avLst>
              <a:gd name="adj1" fmla="val -16328"/>
              <a:gd name="adj2" fmla="val 4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我用计算器验算过了，你算对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715840" y="11430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35520" y="18604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281680" y="1878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34224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98008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59920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0574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98008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8012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21832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20574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285000" y="365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96100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58012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219924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老师"/>
          <p:cNvPicPr/>
          <p:nvPr/>
        </p:nvPicPr>
        <p:blipFill>
          <a:blip r:embed="rId1"/>
          <a:stretch/>
        </p:blipFill>
        <p:spPr>
          <a:xfrm>
            <a:off x="7010280" y="4343400"/>
            <a:ext cx="108612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0"/>
          <p:cNvSpPr/>
          <p:nvPr/>
        </p:nvSpPr>
        <p:spPr>
          <a:xfrm>
            <a:off x="4800600" y="220968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笔算应这样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gslc"/>
          <p:cNvPicPr/>
          <p:nvPr/>
        </p:nvPicPr>
        <p:blipFill>
          <a:blip r:embed="rId1"/>
          <a:stretch/>
        </p:blipFill>
        <p:spPr>
          <a:xfrm>
            <a:off x="2514600" y="304920"/>
            <a:ext cx="3645000" cy="1676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64840" y="21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fencai2"/>
          <p:cNvPicPr/>
          <p:nvPr/>
        </p:nvPicPr>
        <p:blipFill>
          <a:blip r:embed="rId2"/>
          <a:stretch/>
        </p:blipFill>
        <p:spPr>
          <a:xfrm>
            <a:off x="1828800" y="2819520"/>
            <a:ext cx="33526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2121840" y="4572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老师"/>
          <p:cNvPicPr/>
          <p:nvPr/>
        </p:nvPicPr>
        <p:blipFill>
          <a:blip r:embed="rId3"/>
          <a:stretch/>
        </p:blipFill>
        <p:spPr>
          <a:xfrm>
            <a:off x="7696080" y="5334120"/>
            <a:ext cx="1086120" cy="12189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4"/>
          <p:cNvSpPr/>
          <p:nvPr/>
        </p:nvSpPr>
        <p:spPr>
          <a:xfrm>
            <a:off x="5638680" y="327672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时各行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xsgs388"/>
          <p:cNvPicPr/>
          <p:nvPr/>
        </p:nvPicPr>
        <p:blipFill>
          <a:blip r:embed="rId1"/>
          <a:stretch/>
        </p:blipFill>
        <p:spPr>
          <a:xfrm>
            <a:off x="1828800" y="1828800"/>
            <a:ext cx="676440" cy="13143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"/>
          <p:cNvSpPr/>
          <p:nvPr/>
        </p:nvSpPr>
        <p:spPr>
          <a:xfrm>
            <a:off x="2819520" y="609480"/>
            <a:ext cx="3276360" cy="1447920"/>
          </a:xfrm>
          <a:prstGeom prst="wedgeEllipseCallout">
            <a:avLst>
              <a:gd name="adj1" fmla="val -57462"/>
              <a:gd name="adj2" fmla="val 62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口算出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×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再在积的末尾添两个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412800" y="2635200"/>
            <a:ext cx="36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80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女孩"/>
          <p:cNvPicPr/>
          <p:nvPr/>
        </p:nvPicPr>
        <p:blipFill>
          <a:blip r:embed="rId2"/>
          <a:stretch/>
        </p:blipFill>
        <p:spPr>
          <a:xfrm>
            <a:off x="7391520" y="4419720"/>
            <a:ext cx="1000080" cy="15714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9"/>
          <p:cNvSpPr/>
          <p:nvPr/>
        </p:nvSpPr>
        <p:spPr>
          <a:xfrm>
            <a:off x="4648320" y="3352680"/>
            <a:ext cx="2438280" cy="1067040"/>
          </a:xfrm>
          <a:prstGeom prst="cloudCallout">
            <a:avLst>
              <a:gd name="adj1" fmla="val 78648"/>
              <a:gd name="adj2" fmla="val 98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我喜欢这样笔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754000" y="37339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6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079800" y="44164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032640" y="5081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86680" y="50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286000" y="50292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357640" y="4357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334224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364680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212560" y="586728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915600" y="6095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试一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3083040" y="533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因数和积的变化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ShockwaveFlash1"/>
          <p:cNvGraphicFramePr/>
          <p:nvPr/>
        </p:nvGraphicFramePr>
        <p:xfrm>
          <a:off x="1676520" y="1219320"/>
          <a:ext cx="70102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7010280" cy="495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666880" y="2286000"/>
            <a:ext cx="4267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5-01-24T02:46:34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