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1F8-C122-4521-92D6-98502351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BF5-70BC-4AD8-8E1D-0541CA54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A0A-265A-4C67-8E9C-861C3DEB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7B8-2570-4E76-B043-81C0C21A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457-2C18-4523-8F74-C80988C3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1B4-21A9-4F56-AC34-EE8B612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60D-7DD4-46C7-94AD-2169A041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D4E-9B51-4997-A618-40F3D7CA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398-9CC1-4936-B916-48251FE6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644-90F0-4814-B584-38D120EA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BE6-449C-4B6E-ACA6-7BF1EA74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58C-6AE0-4AF6-8A4B-A766301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AF69-FBED-4095-B6FB-943BD08D6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739880" y="475920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065680" y="5442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027440" y="545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048400" y="6107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02440" y="611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4603680" y="47386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08720" y="542124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3891240" y="5438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92948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45662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9"/>
          <p:cNvSpPr/>
          <p:nvPr/>
        </p:nvSpPr>
        <p:spPr>
          <a:xfrm flipV="1">
            <a:off x="4807080" y="5257440"/>
            <a:ext cx="257040" cy="281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1994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7683480" y="49528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7340400" y="54212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97760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316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282440" y="6089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715840" y="114300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35520" y="1860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81680" y="1878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34224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8008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599200" y="2529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98008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5801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21832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3285000" y="365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96100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58012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199240" y="3672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754000" y="37339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079800" y="441648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032640" y="50817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268668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357640" y="4357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334224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646800" y="5105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ShockwaveFlash1"/>
          <p:cNvGraphicFramePr/>
          <p:nvPr/>
        </p:nvGraphicFramePr>
        <p:xfrm>
          <a:off x="1676520" y="12193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701028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46:34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