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042920" y="3284640"/>
            <a:ext cx="6770880" cy="17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3300"/>
                </a:solidFill>
                <a:latin typeface="汉仪漫步体简"/>
              </a:rPr>
              <a:t>解决问题（一）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cc3300"/>
              </a:solidFill>
              <a:latin typeface="汉仪漫步体简"/>
              <a:ea typeface="汉仪漫步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2920" y="620640"/>
            <a:ext cx="889308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9079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明体重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克，他的体重是爸爸的     ，小明爸爸体重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45080" y="1382760"/>
            <a:ext cx="577080" cy="895320"/>
            <a:chOff x="1045080" y="1382760"/>
            <a:chExt cx="577080" cy="895320"/>
          </a:xfrm>
        </p:grpSpPr>
        <p:sp>
          <p:nvSpPr>
            <p:cNvPr id="264" name=""/>
            <p:cNvSpPr/>
            <p:nvPr/>
          </p:nvSpPr>
          <p:spPr>
            <a:xfrm>
              <a:off x="1116000" y="182916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0120" y="138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45080" y="1757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547640" y="2492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画图来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84240" y="323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爸爸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4760" y="391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裤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98640" y="3498840"/>
            <a:ext cx="3718080" cy="74160"/>
            <a:chOff x="2798640" y="3498840"/>
            <a:chExt cx="3718080" cy="74160"/>
          </a:xfrm>
        </p:grpSpPr>
        <p:sp>
          <p:nvSpPr>
            <p:cNvPr id="271" name=""/>
            <p:cNvSpPr/>
            <p:nvPr/>
          </p:nvSpPr>
          <p:spPr>
            <a:xfrm>
              <a:off x="2798640" y="3573000"/>
              <a:ext cx="371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98640" y="3498840"/>
              <a:ext cx="0" cy="7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516720" y="3498840"/>
              <a:ext cx="0" cy="7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 rot="16200000">
            <a:off x="4022640" y="3049560"/>
            <a:ext cx="216000" cy="266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547880" y="1460160"/>
            <a:ext cx="219240" cy="3718080"/>
          </a:xfrm>
          <a:custGeom>
            <a:avLst/>
            <a:gdLst>
              <a:gd name="textAreaLeft" fmla="*/ 140040 w 219240"/>
              <a:gd name="textAreaRight" fmla="*/ 219600 w 219240"/>
              <a:gd name="textAreaTop" fmla="*/ 96840 h 3718080"/>
              <a:gd name="textAreaBottom" fmla="*/ 3621240 h 371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78680" y="270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隶书"/>
              </a:rPr>
              <a:t>？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4058280" y="2797560"/>
            <a:ext cx="144720" cy="266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62640" y="3571920"/>
            <a:ext cx="0" cy="7189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98640" y="4217760"/>
            <a:ext cx="2663640" cy="72720"/>
            <a:chOff x="2798640" y="4217760"/>
            <a:chExt cx="2663640" cy="72720"/>
          </a:xfrm>
        </p:grpSpPr>
        <p:grpSp>
          <p:nvGrpSpPr>
            <p:cNvPr id="280" name=""/>
            <p:cNvGrpSpPr/>
            <p:nvPr/>
          </p:nvGrpSpPr>
          <p:grpSpPr>
            <a:xfrm>
              <a:off x="2798640" y="4217760"/>
              <a:ext cx="2663640" cy="72720"/>
              <a:chOff x="2798640" y="4217760"/>
              <a:chExt cx="2663640" cy="72720"/>
            </a:xfrm>
          </p:grpSpPr>
          <p:sp>
            <p:nvSpPr>
              <p:cNvPr id="281" name=""/>
              <p:cNvSpPr/>
              <p:nvPr/>
            </p:nvSpPr>
            <p:spPr>
              <a:xfrm>
                <a:off x="2798640" y="4290480"/>
                <a:ext cx="266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798640" y="4217760"/>
                <a:ext cx="0" cy="7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462280" y="4217760"/>
                <a:ext cx="0" cy="7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4093920" y="4219200"/>
              <a:ext cx="0" cy="71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417480" y="441000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35</a:t>
            </a:r>
            <a:r>
              <a:rPr b="0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千克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907920"/>
            <a:ext cx="107964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254760" y="3643200"/>
            <a:ext cx="1857960" cy="576360"/>
            <a:chOff x="3254760" y="3643200"/>
            <a:chExt cx="1857960" cy="576360"/>
          </a:xfrm>
        </p:grpSpPr>
        <p:sp>
          <p:nvSpPr>
            <p:cNvPr id="288" name=""/>
            <p:cNvSpPr/>
            <p:nvPr/>
          </p:nvSpPr>
          <p:spPr>
            <a:xfrm>
              <a:off x="3254760" y="36925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ff"/>
                  </a:solidFill>
                  <a:latin typeface="Arial"/>
                  <a:ea typeface="隶书"/>
                </a:rPr>
                <a:t>爸爸体重的</a:t>
              </a:r>
              <a:r>
                <a:rPr b="1" lang="zh-CN" sz="20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41920" y="3930480"/>
              <a:ext cx="28908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78920" y="3851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42280" y="36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-360" y="5300640"/>
            <a:ext cx="6199560" cy="1557360"/>
            <a:chOff x="-360" y="5300640"/>
            <a:chExt cx="6199560" cy="1557360"/>
          </a:xfrm>
        </p:grpSpPr>
        <p:grpSp>
          <p:nvGrpSpPr>
            <p:cNvPr id="293" name=""/>
            <p:cNvGrpSpPr/>
            <p:nvPr/>
          </p:nvGrpSpPr>
          <p:grpSpPr>
            <a:xfrm>
              <a:off x="944640" y="5300640"/>
              <a:ext cx="5254560" cy="934920"/>
              <a:chOff x="944640" y="5300640"/>
              <a:chExt cx="5254560" cy="934920"/>
            </a:xfrm>
          </p:grpSpPr>
          <p:sp>
            <p:nvSpPr>
              <p:cNvPr id="294" name=""/>
              <p:cNvSpPr/>
              <p:nvPr/>
            </p:nvSpPr>
            <p:spPr>
              <a:xfrm>
                <a:off x="944640" y="5300640"/>
                <a:ext cx="5254560" cy="934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96560" y="5408640"/>
                <a:ext cx="122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04720" y="5380200"/>
                <a:ext cx="199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爸爸体重    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294360" y="5300640"/>
                <a:ext cx="577080" cy="895320"/>
                <a:chOff x="3294360" y="5300640"/>
                <a:chExt cx="577080" cy="895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432240" y="574668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1200" y="53006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4360" y="567540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477320" y="547524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小明体重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 flipH="1">
              <a:off x="-360" y="5445000"/>
              <a:ext cx="113508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10232 L -3.33333E-006 2.22222E-006 E">
                                      <p:cBhvr>
                                        <p:cTn id="25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2920" y="620640"/>
            <a:ext cx="889308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7920" y="792000"/>
            <a:ext cx="5254920" cy="9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67760" y="915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68000" y="87156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爸爸体重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258000" y="792000"/>
            <a:ext cx="577080" cy="895320"/>
            <a:chOff x="3258000" y="792000"/>
            <a:chExt cx="577080" cy="895320"/>
          </a:xfrm>
        </p:grpSpPr>
        <p:sp>
          <p:nvSpPr>
            <p:cNvPr id="308" name=""/>
            <p:cNvSpPr/>
            <p:nvPr/>
          </p:nvSpPr>
          <p:spPr>
            <a:xfrm>
              <a:off x="3395880" y="123804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54840" y="79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58000" y="1166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44096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小明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36360" y="936720"/>
            <a:ext cx="1135080" cy="1412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965880" y="2276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根据等量关系式列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2400" y="282744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：设爸爸的体重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70680" y="5286240"/>
            <a:ext cx="14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3480" y="586260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答：爸爸的体重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62560" y="3255840"/>
            <a:ext cx="1901160" cy="895320"/>
            <a:chOff x="1762560" y="3255840"/>
            <a:chExt cx="1901160" cy="895320"/>
          </a:xfrm>
        </p:grpSpPr>
        <p:sp>
          <p:nvSpPr>
            <p:cNvPr id="318" name=""/>
            <p:cNvSpPr/>
            <p:nvPr/>
          </p:nvSpPr>
          <p:spPr>
            <a:xfrm>
              <a:off x="2406960" y="340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75600" y="3336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6640" y="34020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762560" y="3255840"/>
              <a:ext cx="577080" cy="895320"/>
              <a:chOff x="1762560" y="3255840"/>
              <a:chExt cx="577080" cy="895320"/>
            </a:xfrm>
          </p:grpSpPr>
          <p:sp>
            <p:nvSpPr>
              <p:cNvPr id="322" name=""/>
              <p:cNvSpPr/>
              <p:nvPr/>
            </p:nvSpPr>
            <p:spPr>
              <a:xfrm>
                <a:off x="1833480" y="370224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57600" y="3255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2560" y="363060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505240" y="4503600"/>
            <a:ext cx="1838880" cy="895320"/>
            <a:chOff x="2505240" y="4503600"/>
            <a:chExt cx="1838880" cy="895320"/>
          </a:xfrm>
        </p:grpSpPr>
        <p:sp>
          <p:nvSpPr>
            <p:cNvPr id="326" name=""/>
            <p:cNvSpPr/>
            <p:nvPr/>
          </p:nvSpPr>
          <p:spPr>
            <a:xfrm>
              <a:off x="2505240" y="4697280"/>
              <a:ext cx="17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5×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767040" y="4503600"/>
              <a:ext cx="577080" cy="895320"/>
              <a:chOff x="3767040" y="4503600"/>
              <a:chExt cx="577080" cy="895320"/>
            </a:xfrm>
          </p:grpSpPr>
          <p:sp>
            <p:nvSpPr>
              <p:cNvPr id="328" name=""/>
              <p:cNvSpPr/>
              <p:nvPr/>
            </p:nvSpPr>
            <p:spPr>
              <a:xfrm>
                <a:off x="3841200" y="4950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67040" y="450360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68200" y="4878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2514600" y="3814920"/>
            <a:ext cx="1840680" cy="894240"/>
            <a:chOff x="2514600" y="3814920"/>
            <a:chExt cx="1840680" cy="894240"/>
          </a:xfrm>
        </p:grpSpPr>
        <p:grpSp>
          <p:nvGrpSpPr>
            <p:cNvPr id="332" name=""/>
            <p:cNvGrpSpPr/>
            <p:nvPr/>
          </p:nvGrpSpPr>
          <p:grpSpPr>
            <a:xfrm>
              <a:off x="3778200" y="3814920"/>
              <a:ext cx="577080" cy="894240"/>
              <a:chOff x="3778200" y="3814920"/>
              <a:chExt cx="577080" cy="894240"/>
            </a:xfrm>
          </p:grpSpPr>
          <p:sp>
            <p:nvSpPr>
              <p:cNvPr id="333" name=""/>
              <p:cNvSpPr/>
              <p:nvPr/>
            </p:nvSpPr>
            <p:spPr>
              <a:xfrm>
                <a:off x="3849120" y="426024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73240" y="3814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78200" y="418860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514600" y="4008240"/>
              <a:ext cx="17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5÷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788000" y="1773360"/>
            <a:ext cx="4105080" cy="2736720"/>
          </a:xfrm>
          <a:prstGeom prst="wedgeRectCallout">
            <a:avLst>
              <a:gd name="adj1" fmla="val 32481"/>
              <a:gd name="adj2" fmla="val 60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除法的意义“已知两个因数的积与其中一个因数，求另一个因数”，你能直接写出除法算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243920" y="4437000"/>
            <a:ext cx="1792080" cy="2376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360" y="965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2920" y="620640"/>
            <a:ext cx="889308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7920" y="792000"/>
            <a:ext cx="5254920" cy="9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67760" y="915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68000" y="87156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爸爸体重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258000" y="792000"/>
            <a:ext cx="577080" cy="895320"/>
            <a:chOff x="3258000" y="792000"/>
            <a:chExt cx="577080" cy="895320"/>
          </a:xfrm>
        </p:grpSpPr>
        <p:sp>
          <p:nvSpPr>
            <p:cNvPr id="345" name=""/>
            <p:cNvSpPr/>
            <p:nvPr/>
          </p:nvSpPr>
          <p:spPr>
            <a:xfrm>
              <a:off x="3395880" y="123804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4840" y="79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58000" y="1166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44096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小明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6360" y="936720"/>
            <a:ext cx="1135080" cy="1412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0360" y="965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01800" y="3645000"/>
            <a:ext cx="5511960" cy="934920"/>
            <a:chOff x="901800" y="3645000"/>
            <a:chExt cx="5511960" cy="934920"/>
          </a:xfrm>
        </p:grpSpPr>
        <p:sp>
          <p:nvSpPr>
            <p:cNvPr id="352" name=""/>
            <p:cNvSpPr/>
            <p:nvPr/>
          </p:nvSpPr>
          <p:spPr>
            <a:xfrm>
              <a:off x="901800" y="3645000"/>
              <a:ext cx="5254560" cy="934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65760" y="3726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小明体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6200" y="38624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22600" y="372600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爸爸体重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180240" y="3646800"/>
              <a:ext cx="577080" cy="894960"/>
              <a:chOff x="3180240" y="3646800"/>
              <a:chExt cx="577080" cy="894960"/>
            </a:xfrm>
          </p:grpSpPr>
          <p:sp>
            <p:nvSpPr>
              <p:cNvPr id="357" name=""/>
              <p:cNvSpPr/>
              <p:nvPr/>
            </p:nvSpPr>
            <p:spPr>
              <a:xfrm>
                <a:off x="3318120" y="409248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77080" y="3646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80240" y="402120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745440" y="3789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132000" y="1773360"/>
            <a:ext cx="503280" cy="1800000"/>
          </a:xfrm>
          <a:prstGeom prst="downArrow">
            <a:avLst>
              <a:gd name="adj1" fmla="val 50000"/>
              <a:gd name="adj2" fmla="val 89413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452320" y="5057640"/>
            <a:ext cx="1317600" cy="894240"/>
            <a:chOff x="2452320" y="5057640"/>
            <a:chExt cx="1317600" cy="894240"/>
          </a:xfrm>
        </p:grpSpPr>
        <p:grpSp>
          <p:nvGrpSpPr>
            <p:cNvPr id="363" name=""/>
            <p:cNvGrpSpPr/>
            <p:nvPr/>
          </p:nvGrpSpPr>
          <p:grpSpPr>
            <a:xfrm>
              <a:off x="3192840" y="5057640"/>
              <a:ext cx="577080" cy="894240"/>
              <a:chOff x="3192840" y="5057640"/>
              <a:chExt cx="577080" cy="894240"/>
            </a:xfrm>
          </p:grpSpPr>
          <p:sp>
            <p:nvSpPr>
              <p:cNvPr id="364" name=""/>
              <p:cNvSpPr/>
              <p:nvPr/>
            </p:nvSpPr>
            <p:spPr>
              <a:xfrm>
                <a:off x="3263760" y="550296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87880" y="5057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92840" y="54313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452320" y="520200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5÷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71640" y="836640"/>
            <a:ext cx="2016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08000" y="162864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2160" y="21337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单位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的量未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2349360"/>
            <a:ext cx="2233440" cy="2160720"/>
          </a:xfrm>
          <a:prstGeom prst="wedgeRectCallout">
            <a:avLst>
              <a:gd name="adj1" fmla="val 17805"/>
              <a:gd name="adj2" fmla="val 6271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单位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量未知可以直接用除法来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243920" y="4437000"/>
            <a:ext cx="1792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77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900000" y="2565360"/>
            <a:ext cx="7559640" cy="3672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295440" y="836640"/>
            <a:ext cx="4713120" cy="1232280"/>
            <a:chOff x="3295440" y="836640"/>
            <a:chExt cx="4713120" cy="1232280"/>
          </a:xfrm>
        </p:grpSpPr>
        <p:sp>
          <p:nvSpPr>
            <p:cNvPr id="376" name=""/>
            <p:cNvSpPr/>
            <p:nvPr/>
          </p:nvSpPr>
          <p:spPr>
            <a:xfrm>
              <a:off x="3295440" y="1000080"/>
              <a:ext cx="289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六一班有男生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，占全班总人数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六一班共有学生多少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576920" y="836640"/>
              <a:ext cx="431640" cy="955800"/>
              <a:chOff x="7576920" y="836640"/>
              <a:chExt cx="431640" cy="955800"/>
            </a:xfrm>
          </p:grpSpPr>
          <p:sp>
            <p:nvSpPr>
              <p:cNvPr id="378" name=""/>
              <p:cNvSpPr/>
              <p:nvPr/>
            </p:nvSpPr>
            <p:spPr>
              <a:xfrm>
                <a:off x="7576920" y="1332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87720" y="8366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90960" y="1211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2805120" y="3060720"/>
            <a:ext cx="34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找出单位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，列等量关系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59440" y="4803840"/>
            <a:ext cx="29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单位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的量未知，列方程解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542320" y="3533760"/>
            <a:ext cx="4329360" cy="1120320"/>
            <a:chOff x="2542320" y="3533760"/>
            <a:chExt cx="4329360" cy="1120320"/>
          </a:xfrm>
        </p:grpSpPr>
        <p:sp>
          <p:nvSpPr>
            <p:cNvPr id="384" name=""/>
            <p:cNvSpPr/>
            <p:nvPr/>
          </p:nvSpPr>
          <p:spPr>
            <a:xfrm>
              <a:off x="3656880" y="3767040"/>
              <a:ext cx="159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仿宋_GB2312"/>
                </a:rPr>
                <a:t>×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  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仿宋_GB2312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42320" y="375768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总人数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81560" y="4078440"/>
              <a:ext cx="323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3160" y="3533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14960" y="4011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8680" y="379404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男生人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385" t="1210" r="1650" b="2421"/>
          <a:stretch/>
        </p:blipFill>
        <p:spPr>
          <a:xfrm>
            <a:off x="14436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24000" y="836640"/>
            <a:ext cx="8496000" cy="16556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108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校园里栽了杨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棵，正好是柳树棵树的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校园里栽了多少棵柳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116000" y="1557360"/>
            <a:ext cx="431640" cy="895320"/>
            <a:chOff x="1116000" y="1557360"/>
            <a:chExt cx="431640" cy="895320"/>
          </a:xfrm>
        </p:grpSpPr>
        <p:sp>
          <p:nvSpPr>
            <p:cNvPr id="394" name=""/>
            <p:cNvSpPr/>
            <p:nvPr/>
          </p:nvSpPr>
          <p:spPr>
            <a:xfrm>
              <a:off x="1116000" y="20037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3940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2640" y="1932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96920" y="5184720"/>
            <a:ext cx="1135080" cy="1413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20975400">
            <a:off x="1424160" y="3717720"/>
            <a:ext cx="4413240" cy="2263680"/>
          </a:xfrm>
          <a:prstGeom prst="cloudCallout">
            <a:avLst>
              <a:gd name="adj1" fmla="val -100115"/>
              <a:gd name="adj2" fmla="val 87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能用方程和算术两种方法来解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3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4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6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5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9" dur="25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250" autoRev="1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7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8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50" autoRev="1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1" dur="250" autoRev="1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2" dur="250" autoRev="1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5" dur="250" autoRev="1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250" autoRev="1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9" dur="250" autoRev="1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0" dur="250" autoRev="1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5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7" dur="25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8" dur="250" autoRev="1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2845" t="1211" r="0" b="0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971640" y="2924280"/>
            <a:ext cx="7272360" cy="295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52080" y="590076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上面各题中应该把哪个量看作单位“</a:t>
            </a:r>
            <a:r>
              <a:rPr b="0" i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1”</a:t>
            </a:r>
            <a:r>
              <a:rPr b="0" i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0880" y="2997360"/>
            <a:ext cx="2822040" cy="894960"/>
            <a:chOff x="3260880" y="2997360"/>
            <a:chExt cx="2822040" cy="894960"/>
          </a:xfrm>
        </p:grpSpPr>
        <p:sp>
          <p:nvSpPr>
            <p:cNvPr id="415" name=""/>
            <p:cNvSpPr/>
            <p:nvPr/>
          </p:nvSpPr>
          <p:spPr>
            <a:xfrm>
              <a:off x="3260880" y="3154320"/>
              <a:ext cx="20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杨树的棵数是柳树的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651280" y="2997360"/>
              <a:ext cx="431640" cy="894960"/>
              <a:chOff x="5651280" y="2997360"/>
              <a:chExt cx="431640" cy="894960"/>
            </a:xfrm>
          </p:grpSpPr>
          <p:sp>
            <p:nvSpPr>
              <p:cNvPr id="417" name=""/>
              <p:cNvSpPr/>
              <p:nvPr/>
            </p:nvSpPr>
            <p:spPr>
              <a:xfrm>
                <a:off x="5651280" y="34434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74680" y="2997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77920" y="3371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2979720" y="3830760"/>
            <a:ext cx="2817360" cy="894960"/>
            <a:chOff x="2979720" y="3830760"/>
            <a:chExt cx="2817360" cy="894960"/>
          </a:xfrm>
        </p:grpSpPr>
        <p:sp>
          <p:nvSpPr>
            <p:cNvPr id="421" name=""/>
            <p:cNvSpPr/>
            <p:nvPr/>
          </p:nvSpPr>
          <p:spPr>
            <a:xfrm>
              <a:off x="2979720" y="3971880"/>
              <a:ext cx="28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杨树棵数的    相当于柳树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989160" y="3830760"/>
              <a:ext cx="432000" cy="894960"/>
              <a:chOff x="3989160" y="3830760"/>
              <a:chExt cx="432000" cy="894960"/>
            </a:xfrm>
          </p:grpSpPr>
          <p:sp>
            <p:nvSpPr>
              <p:cNvPr id="423" name=""/>
              <p:cNvSpPr/>
              <p:nvPr/>
            </p:nvSpPr>
            <p:spPr>
              <a:xfrm>
                <a:off x="3989160" y="427680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013280" y="3830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16520" y="4205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879280" y="4767120"/>
            <a:ext cx="2329560" cy="895320"/>
            <a:chOff x="2879280" y="4767120"/>
            <a:chExt cx="2329560" cy="895320"/>
          </a:xfrm>
        </p:grpSpPr>
        <p:sp>
          <p:nvSpPr>
            <p:cNvPr id="427" name=""/>
            <p:cNvSpPr/>
            <p:nvPr/>
          </p:nvSpPr>
          <p:spPr>
            <a:xfrm>
              <a:off x="2879280" y="4908600"/>
              <a:ext cx="232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柳树棵数的    是柳树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81600" y="4767120"/>
              <a:ext cx="577080" cy="895320"/>
              <a:chOff x="3981600" y="4767120"/>
              <a:chExt cx="577080" cy="895320"/>
            </a:xfrm>
          </p:grpSpPr>
          <p:sp>
            <p:nvSpPr>
              <p:cNvPr id="429" name=""/>
              <p:cNvSpPr/>
              <p:nvPr/>
            </p:nvSpPr>
            <p:spPr>
              <a:xfrm>
                <a:off x="4052520" y="521352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76640" y="4767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81600" y="514188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4322880" y="3139920"/>
            <a:ext cx="93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3975120"/>
            <a:ext cx="1800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74880" y="4869000"/>
            <a:ext cx="180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9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2280" y="60948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1280" y="3284640"/>
            <a:ext cx="432000" cy="1584360"/>
          </a:xfrm>
          <a:custGeom>
            <a:avLst/>
            <a:gdLst>
              <a:gd name="textAreaLeft" fmla="*/ 57600 w 432000"/>
              <a:gd name="textAreaRight" fmla="*/ 374400 w 43200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2492280"/>
            <a:ext cx="1440000" cy="2737080"/>
          </a:xfrm>
          <a:prstGeom prst="can">
            <a:avLst>
              <a:gd name="adj" fmla="val 18736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16000" y="3429000"/>
            <a:ext cx="1440000" cy="180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2360" y="186840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杯水喝去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克，正好占这杯水的    ，喝去了多少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6000" y="29098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32760" y="2365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6000" y="2781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307280" y="4221000"/>
            <a:ext cx="16574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0160" y="549360"/>
            <a:ext cx="8745480" cy="60055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1332000" y="1514520"/>
            <a:ext cx="6696000" cy="1339560"/>
            <a:chOff x="1332000" y="1514520"/>
            <a:chExt cx="6696000" cy="1339560"/>
          </a:xfrm>
        </p:grpSpPr>
        <p:sp>
          <p:nvSpPr>
            <p:cNvPr id="446" name=""/>
            <p:cNvSpPr/>
            <p:nvPr/>
          </p:nvSpPr>
          <p:spPr>
            <a:xfrm>
              <a:off x="1332000" y="1514520"/>
              <a:ext cx="669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 动物园里有长颈鹿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只，山羊的只数是长颈鹿的    。动物园里有山羊多少只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948360" y="1959120"/>
              <a:ext cx="432000" cy="894960"/>
              <a:chOff x="6948360" y="1959120"/>
              <a:chExt cx="432000" cy="894960"/>
            </a:xfrm>
          </p:grpSpPr>
          <p:sp>
            <p:nvSpPr>
              <p:cNvPr id="448" name=""/>
              <p:cNvSpPr/>
              <p:nvPr/>
            </p:nvSpPr>
            <p:spPr>
              <a:xfrm>
                <a:off x="6948360" y="240516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72480" y="1959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75720" y="2333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258920" y="3417840"/>
            <a:ext cx="6696000" cy="1339560"/>
            <a:chOff x="1258920" y="3417840"/>
            <a:chExt cx="6696000" cy="1339560"/>
          </a:xfrm>
        </p:grpSpPr>
        <p:sp>
          <p:nvSpPr>
            <p:cNvPr id="452" name=""/>
            <p:cNvSpPr/>
            <p:nvPr/>
          </p:nvSpPr>
          <p:spPr>
            <a:xfrm>
              <a:off x="1258920" y="3417840"/>
              <a:ext cx="669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 动物园里有长颈鹿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只，正好是山羊只数的    。动物园里有山羊多少只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5938920" y="3862080"/>
              <a:ext cx="431640" cy="895320"/>
              <a:chOff x="5938920" y="3862080"/>
              <a:chExt cx="431640" cy="895320"/>
            </a:xfrm>
          </p:grpSpPr>
          <p:sp>
            <p:nvSpPr>
              <p:cNvPr id="454" name=""/>
              <p:cNvSpPr/>
              <p:nvPr/>
            </p:nvSpPr>
            <p:spPr>
              <a:xfrm>
                <a:off x="5938920" y="430848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962320" y="3862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65560" y="4236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3203640" y="5661000"/>
            <a:ext cx="4248000" cy="720720"/>
          </a:xfrm>
          <a:prstGeom prst="cloudCallout">
            <a:avLst>
              <a:gd name="adj1" fmla="val 60314"/>
              <a:gd name="adj2" fmla="val -4185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较一下再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716360" y="2349360"/>
            <a:ext cx="4149720" cy="4149720"/>
            <a:chOff x="4716360" y="2349360"/>
            <a:chExt cx="4149720" cy="414972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4716360" y="2451240"/>
              <a:ext cx="4149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716360" y="2349360"/>
              <a:ext cx="7192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11280" y="1268280"/>
            <a:ext cx="7200720" cy="1326960"/>
            <a:chOff x="611280" y="1268280"/>
            <a:chExt cx="7200720" cy="1326960"/>
          </a:xfrm>
        </p:grpSpPr>
        <p:sp>
          <p:nvSpPr>
            <p:cNvPr id="463" name=""/>
            <p:cNvSpPr/>
            <p:nvPr/>
          </p:nvSpPr>
          <p:spPr>
            <a:xfrm>
              <a:off x="611280" y="1268280"/>
              <a:ext cx="72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张桌子比一把椅子贵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元，这个数目正好相当于椅子价钱的    。椅子和桌子各多少钱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732720" y="1700280"/>
              <a:ext cx="431640" cy="894960"/>
              <a:chOff x="6732720" y="1700280"/>
              <a:chExt cx="431640" cy="894960"/>
            </a:xfrm>
          </p:grpSpPr>
          <p:sp>
            <p:nvSpPr>
              <p:cNvPr id="465" name=""/>
              <p:cNvSpPr/>
              <p:nvPr/>
            </p:nvSpPr>
            <p:spPr>
              <a:xfrm>
                <a:off x="6732720" y="214632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56120" y="1700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59360" y="2074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412080" y="1114920"/>
            <a:ext cx="2127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棉田的面积占全村耕地面积的     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小军的体重是爸爸体重的     。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故事书的本数占图书总数的     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汽车的速度相当于飞机速度的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91440" y="2411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260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5840" y="2344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26360" y="33559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3716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6360" y="3281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2991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78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2400" y="421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18360" y="53499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29520" y="486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43920" y="5221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6760" y="80028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方正隶书简体"/>
                <a:ea typeface="方正隶书简体"/>
              </a:rPr>
              <a:t>下面各题中应该把哪个量看作单位“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方正隶书简体"/>
                <a:ea typeface="方正隶书简体"/>
              </a:rPr>
              <a:t>1”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方正隶书简体"/>
                <a:ea typeface="方正隶书简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060640"/>
            <a:ext cx="251928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2997360"/>
            <a:ext cx="1656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005360"/>
            <a:ext cx="1656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4941720"/>
            <a:ext cx="165564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 flipH="1" rot="1702200">
            <a:off x="5148360" y="1988640"/>
            <a:ext cx="3419280" cy="224172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395280" y="981000"/>
            <a:ext cx="5256360" cy="2377800"/>
            <a:chOff x="395280" y="981000"/>
            <a:chExt cx="5256360" cy="2377800"/>
          </a:xfrm>
        </p:grpSpPr>
        <p:sp>
          <p:nvSpPr>
            <p:cNvPr id="471" name=""/>
            <p:cNvSpPr/>
            <p:nvPr/>
          </p:nvSpPr>
          <p:spPr>
            <a:xfrm>
              <a:off x="395280" y="981000"/>
              <a:ext cx="5256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小丽和小刚都是集邮爱好者。小丽有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张邮票，相当于小刚邮票数的     ，小刚和小丽共有邮票多少张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044720" y="2476440"/>
              <a:ext cx="431640" cy="882360"/>
              <a:chOff x="1044720" y="2476440"/>
              <a:chExt cx="431640" cy="882360"/>
            </a:xfrm>
          </p:grpSpPr>
          <p:sp>
            <p:nvSpPr>
              <p:cNvPr id="473" name=""/>
              <p:cNvSpPr/>
              <p:nvPr/>
            </p:nvSpPr>
            <p:spPr>
              <a:xfrm>
                <a:off x="1044720" y="2907720"/>
                <a:ext cx="43164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068120" y="2476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71360" y="2838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305240" y="4906800"/>
            <a:ext cx="4443480" cy="13669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592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4200" y="4678200"/>
            <a:ext cx="1730520" cy="184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0560" y="1369080"/>
            <a:ext cx="17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白兔的只数占总只数的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37320" y="1700280"/>
            <a:ext cx="431640" cy="894960"/>
            <a:chOff x="5737320" y="1700280"/>
            <a:chExt cx="431640" cy="894960"/>
          </a:xfrm>
        </p:grpSpPr>
        <p:sp>
          <p:nvSpPr>
            <p:cNvPr id="63" name=""/>
            <p:cNvSpPr/>
            <p:nvPr/>
          </p:nvSpPr>
          <p:spPr>
            <a:xfrm>
              <a:off x="5737320" y="214632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0720" y="1700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63960" y="2074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409480" y="83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方正隶变简体"/>
                <a:ea typeface="方正隶变简体"/>
              </a:rPr>
              <a:t>找出题中的等量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80" y="260352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×     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44920" y="2349360"/>
                <a:ext cx="318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52840" y="3718080"/>
                <a:ext cx="3348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219760" y="2737440"/>
            <a:ext cx="17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甲数正好是乙数的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32360" y="3068640"/>
            <a:ext cx="431640" cy="895320"/>
            <a:chOff x="4932360" y="3068640"/>
            <a:chExt cx="431640" cy="895320"/>
          </a:xfrm>
        </p:grpSpPr>
        <p:sp>
          <p:nvSpPr>
            <p:cNvPr id="72" name=""/>
            <p:cNvSpPr/>
            <p:nvPr/>
          </p:nvSpPr>
          <p:spPr>
            <a:xfrm>
              <a:off x="4932360" y="351504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5760" y="306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59000" y="3443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5200" y="400536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×     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8440" y="4148640"/>
            <a:ext cx="37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男生人数的     恰好和女生同样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92600" y="4479840"/>
            <a:ext cx="431640" cy="895320"/>
            <a:chOff x="3792600" y="4479840"/>
            <a:chExt cx="431640" cy="895320"/>
          </a:xfrm>
        </p:grpSpPr>
        <p:sp>
          <p:nvSpPr>
            <p:cNvPr id="78" name=""/>
            <p:cNvSpPr/>
            <p:nvPr/>
          </p:nvSpPr>
          <p:spPr>
            <a:xfrm>
              <a:off x="3792600" y="492624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16000" y="44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9240" y="485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-99000" y="552780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×     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95640" y="5300640"/>
                <a:ext cx="333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992240" y="2513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总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26360" y="251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白兔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64520" y="394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乙 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61640" y="3954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甲 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11600" y="544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男生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2480" y="5440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女生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765000"/>
            <a:ext cx="3959280" cy="38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1000" y="1095480"/>
            <a:ext cx="325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根据测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成人体内的水分约占体重的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而儿童体内的水分约占体重的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38440" y="2103480"/>
            <a:ext cx="528480" cy="895320"/>
            <a:chOff x="3538440" y="2103480"/>
            <a:chExt cx="528480" cy="895320"/>
          </a:xfrm>
        </p:grpSpPr>
        <p:sp>
          <p:nvSpPr>
            <p:cNvPr id="93" name=""/>
            <p:cNvSpPr/>
            <p:nvPr/>
          </p:nvSpPr>
          <p:spPr>
            <a:xfrm>
              <a:off x="3538440" y="254988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10080" y="2103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12960" y="247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76360" y="4629240"/>
            <a:ext cx="1790640" cy="222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24360" y="4149720"/>
            <a:ext cx="3600360" cy="1871640"/>
          </a:xfrm>
          <a:prstGeom prst="cloudCallout">
            <a:avLst>
              <a:gd name="adj1" fmla="val -74953"/>
              <a:gd name="adj2" fmla="val 32953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对人体很重要，一定要多喝水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11160" y="3759120"/>
            <a:ext cx="528480" cy="895320"/>
            <a:chOff x="1811160" y="3759120"/>
            <a:chExt cx="528480" cy="895320"/>
          </a:xfrm>
        </p:grpSpPr>
        <p:sp>
          <p:nvSpPr>
            <p:cNvPr id="99" name=""/>
            <p:cNvSpPr/>
            <p:nvPr/>
          </p:nvSpPr>
          <p:spPr>
            <a:xfrm>
              <a:off x="1811160" y="420552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2800" y="375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85680" y="4133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765000"/>
            <a:ext cx="3959280" cy="38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1000" y="1095480"/>
            <a:ext cx="325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根据测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成人体内的水分约占体重的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而儿童体内的水分约占体重的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38440" y="2103480"/>
            <a:ext cx="528480" cy="895320"/>
            <a:chOff x="3538440" y="2103480"/>
            <a:chExt cx="528480" cy="895320"/>
          </a:xfrm>
        </p:grpSpPr>
        <p:sp>
          <p:nvSpPr>
            <p:cNvPr id="106" name=""/>
            <p:cNvSpPr/>
            <p:nvPr/>
          </p:nvSpPr>
          <p:spPr>
            <a:xfrm>
              <a:off x="3538440" y="254988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0080" y="2103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2960" y="247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76360" y="4629240"/>
            <a:ext cx="1790640" cy="22287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811160" y="3759120"/>
            <a:ext cx="528480" cy="895320"/>
            <a:chOff x="1811160" y="3759120"/>
            <a:chExt cx="528480" cy="895320"/>
          </a:xfrm>
        </p:grpSpPr>
        <p:sp>
          <p:nvSpPr>
            <p:cNvPr id="111" name=""/>
            <p:cNvSpPr/>
            <p:nvPr/>
          </p:nvSpPr>
          <p:spPr>
            <a:xfrm>
              <a:off x="1811160" y="420552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2800" y="375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5680" y="4133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24360" y="3716280"/>
            <a:ext cx="5219640" cy="2305080"/>
            <a:chOff x="3924360" y="3716280"/>
            <a:chExt cx="5219640" cy="2305080"/>
          </a:xfrm>
        </p:grpSpPr>
        <p:sp>
          <p:nvSpPr>
            <p:cNvPr id="115" name=""/>
            <p:cNvSpPr/>
            <p:nvPr/>
          </p:nvSpPr>
          <p:spPr>
            <a:xfrm>
              <a:off x="3924360" y="3716280"/>
              <a:ext cx="5219640" cy="2305080"/>
            </a:xfrm>
            <a:prstGeom prst="cloudCallout">
              <a:avLst>
                <a:gd name="adj1" fmla="val -67212"/>
                <a:gd name="adj2" fmla="val 3615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体内有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k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水分，可是我的体重才是爸爸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069320" y="4911840"/>
              <a:ext cx="577080" cy="894960"/>
              <a:chOff x="7069320" y="4911840"/>
              <a:chExt cx="577080" cy="894960"/>
            </a:xfrm>
          </p:grpSpPr>
          <p:sp>
            <p:nvSpPr>
              <p:cNvPr id="117" name=""/>
              <p:cNvSpPr/>
              <p:nvPr/>
            </p:nvSpPr>
            <p:spPr>
              <a:xfrm>
                <a:off x="7092000" y="5357880"/>
                <a:ext cx="52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4360" y="4911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69320" y="528624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620640"/>
            <a:ext cx="8964720" cy="59770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00000" y="927000"/>
            <a:ext cx="6408720" cy="5238720"/>
            <a:chOff x="900000" y="927000"/>
            <a:chExt cx="6408720" cy="5238720"/>
          </a:xfrm>
        </p:grpSpPr>
        <p:sp>
          <p:nvSpPr>
            <p:cNvPr id="122" name=""/>
            <p:cNvSpPr/>
            <p:nvPr/>
          </p:nvSpPr>
          <p:spPr>
            <a:xfrm>
              <a:off x="900000" y="927000"/>
              <a:ext cx="6264360" cy="5238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116000" y="1141560"/>
              <a:ext cx="6192720" cy="1238040"/>
              <a:chOff x="1116000" y="1141560"/>
              <a:chExt cx="6192720" cy="1238040"/>
            </a:xfrm>
          </p:grpSpPr>
          <p:sp>
            <p:nvSpPr>
              <p:cNvPr id="124" name=""/>
              <p:cNvSpPr/>
              <p:nvPr/>
            </p:nvSpPr>
            <p:spPr>
              <a:xfrm>
                <a:off x="1116000" y="1141560"/>
                <a:ext cx="6192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一个儿童体内所含水分有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千克，占体重的     。这个儿童体重多少千克？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   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2321280" y="1484280"/>
                <a:ext cx="379440" cy="895320"/>
                <a:chOff x="2321280" y="1484280"/>
                <a:chExt cx="379440" cy="8953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362320" y="193032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21280" y="14842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22000" y="18590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1530000" y="285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画图来表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200000">
            <a:off x="4032000" y="2544120"/>
            <a:ext cx="360360" cy="43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1880" y="4695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体 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52720" y="3803760"/>
            <a:ext cx="3456000" cy="360360"/>
            <a:chOff x="2052720" y="3803760"/>
            <a:chExt cx="3456000" cy="360360"/>
          </a:xfrm>
        </p:grpSpPr>
        <p:sp>
          <p:nvSpPr>
            <p:cNvPr id="133" name=""/>
            <p:cNvSpPr/>
            <p:nvPr/>
          </p:nvSpPr>
          <p:spPr>
            <a:xfrm>
              <a:off x="2052720" y="380376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16360" y="380376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1800" y="380376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5440" y="3803760"/>
              <a:ext cx="86328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54160" y="3803760"/>
            <a:ext cx="4317840" cy="360360"/>
            <a:chOff x="2054160" y="3803760"/>
            <a:chExt cx="4317840" cy="360360"/>
          </a:xfrm>
        </p:grpSpPr>
        <p:sp>
          <p:nvSpPr>
            <p:cNvPr id="138" name=""/>
            <p:cNvSpPr/>
            <p:nvPr/>
          </p:nvSpPr>
          <p:spPr>
            <a:xfrm>
              <a:off x="3781440" y="38037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054160" y="3803760"/>
              <a:ext cx="4317840" cy="360360"/>
              <a:chOff x="2054160" y="3803760"/>
              <a:chExt cx="4317840" cy="360360"/>
            </a:xfrm>
          </p:grpSpPr>
          <p:sp>
            <p:nvSpPr>
              <p:cNvPr id="140" name=""/>
              <p:cNvSpPr/>
              <p:nvPr/>
            </p:nvSpPr>
            <p:spPr>
              <a:xfrm>
                <a:off x="2054160" y="3803760"/>
                <a:ext cx="345420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16000" y="380376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08360" y="3803760"/>
                <a:ext cx="863640" cy="360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45080" y="380376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 rot="5400000">
            <a:off x="3700440" y="1890720"/>
            <a:ext cx="182520" cy="3433680"/>
          </a:xfrm>
          <a:custGeom>
            <a:avLst/>
            <a:gdLst>
              <a:gd name="textAreaLeft" fmla="*/ 116640 w 182520"/>
              <a:gd name="textAreaRight" fmla="*/ 182880 w 182520"/>
              <a:gd name="textAreaTop" fmla="*/ 89280 h 3433680"/>
              <a:gd name="textAreaBottom" fmla="*/ 3344400 h 34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301200" y="2997360"/>
            <a:ext cx="1278000" cy="686160"/>
            <a:chOff x="3301200" y="2997360"/>
            <a:chExt cx="1278000" cy="686160"/>
          </a:xfrm>
        </p:grpSpPr>
        <p:sp>
          <p:nvSpPr>
            <p:cNvPr id="146" name=""/>
            <p:cNvSpPr/>
            <p:nvPr/>
          </p:nvSpPr>
          <p:spPr>
            <a:xfrm>
              <a:off x="3301200" y="3084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体重的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068720" y="2997360"/>
              <a:ext cx="493920" cy="686160"/>
              <a:chOff x="4068720" y="2997360"/>
              <a:chExt cx="493920" cy="686160"/>
            </a:xfrm>
          </p:grpSpPr>
          <p:sp>
            <p:nvSpPr>
              <p:cNvPr id="148" name=""/>
              <p:cNvSpPr/>
              <p:nvPr/>
            </p:nvSpPr>
            <p:spPr>
              <a:xfrm>
                <a:off x="4068720" y="3340080"/>
                <a:ext cx="493920" cy="4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52600" y="29973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54040" y="32846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43240" y="3344760"/>
                <a:ext cx="31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8064360" cy="527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53" name=""/>
          <p:cNvGrpSpPr/>
          <p:nvPr/>
        </p:nvGrpSpPr>
        <p:grpSpPr>
          <a:xfrm>
            <a:off x="2518200" y="5049720"/>
            <a:ext cx="3190320" cy="686160"/>
            <a:chOff x="2518200" y="5049720"/>
            <a:chExt cx="3190320" cy="686160"/>
          </a:xfrm>
        </p:grpSpPr>
        <p:sp>
          <p:nvSpPr>
            <p:cNvPr id="154" name=""/>
            <p:cNvSpPr/>
            <p:nvPr/>
          </p:nvSpPr>
          <p:spPr>
            <a:xfrm>
              <a:off x="2518200" y="5076720"/>
              <a:ext cx="298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析：水分占体重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214960" y="5049720"/>
              <a:ext cx="493560" cy="686160"/>
              <a:chOff x="5214960" y="5049720"/>
              <a:chExt cx="493560" cy="686160"/>
            </a:xfrm>
          </p:grpSpPr>
          <p:sp>
            <p:nvSpPr>
              <p:cNvPr id="156" name=""/>
              <p:cNvSpPr/>
              <p:nvPr/>
            </p:nvSpPr>
            <p:spPr>
              <a:xfrm>
                <a:off x="5214960" y="5392440"/>
                <a:ext cx="493560" cy="4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98120" y="50497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99560" y="5337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59320" y="5397120"/>
                <a:ext cx="2455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1187280" y="5661000"/>
            <a:ext cx="3889440" cy="1008000"/>
          </a:xfrm>
          <a:prstGeom prst="cloudCallout">
            <a:avLst>
              <a:gd name="adj1" fmla="val -65222"/>
              <a:gd name="adj2" fmla="val 22754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找出题中的等量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8000" y="5445000"/>
            <a:ext cx="1135080" cy="141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 rot="16200000">
            <a:off x="3672720" y="2543040"/>
            <a:ext cx="215640" cy="34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35320" y="42116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千克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42920" y="2206800"/>
            <a:ext cx="1753920" cy="69840"/>
            <a:chOff x="1042920" y="2206800"/>
            <a:chExt cx="1753920" cy="69840"/>
          </a:xfrm>
        </p:grpSpPr>
        <p:sp>
          <p:nvSpPr>
            <p:cNvPr id="165" name=""/>
            <p:cNvSpPr/>
            <p:nvPr/>
          </p:nvSpPr>
          <p:spPr>
            <a:xfrm flipV="1">
              <a:off x="1042920" y="2206800"/>
              <a:ext cx="862920" cy="69840"/>
            </a:xfrm>
            <a:custGeom>
              <a:avLst/>
              <a:gdLst/>
              <a:ahLst/>
              <a:rect l="l" t="t" r="r" b="b"/>
              <a:pathLst>
                <a:path w="681" h="91">
                  <a:moveTo>
                    <a:pt x="0" y="91"/>
                  </a:moveTo>
                  <a:cubicBezTo>
                    <a:pt x="49" y="45"/>
                    <a:pt x="98" y="0"/>
                    <a:pt x="136" y="0"/>
                  </a:cubicBezTo>
                  <a:cubicBezTo>
                    <a:pt x="174" y="0"/>
                    <a:pt x="189" y="91"/>
                    <a:pt x="227" y="91"/>
                  </a:cubicBezTo>
                  <a:cubicBezTo>
                    <a:pt x="265" y="91"/>
                    <a:pt x="325" y="0"/>
                    <a:pt x="363" y="0"/>
                  </a:cubicBezTo>
                  <a:cubicBezTo>
                    <a:pt x="401" y="0"/>
                    <a:pt x="416" y="91"/>
                    <a:pt x="454" y="91"/>
                  </a:cubicBezTo>
                  <a:cubicBezTo>
                    <a:pt x="492" y="91"/>
                    <a:pt x="552" y="0"/>
                    <a:pt x="590" y="0"/>
                  </a:cubicBezTo>
                  <a:cubicBezTo>
                    <a:pt x="628" y="0"/>
                    <a:pt x="654" y="45"/>
                    <a:pt x="681" y="9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905840" y="2212920"/>
              <a:ext cx="891000" cy="63000"/>
            </a:xfrm>
            <a:custGeom>
              <a:avLst/>
              <a:gdLst/>
              <a:ahLst/>
              <a:rect l="l" t="t" r="r" b="b"/>
              <a:pathLst>
                <a:path w="681" h="91">
                  <a:moveTo>
                    <a:pt x="0" y="91"/>
                  </a:moveTo>
                  <a:cubicBezTo>
                    <a:pt x="49" y="45"/>
                    <a:pt x="98" y="0"/>
                    <a:pt x="136" y="0"/>
                  </a:cubicBezTo>
                  <a:cubicBezTo>
                    <a:pt x="174" y="0"/>
                    <a:pt x="189" y="91"/>
                    <a:pt x="227" y="91"/>
                  </a:cubicBezTo>
                  <a:cubicBezTo>
                    <a:pt x="265" y="91"/>
                    <a:pt x="325" y="0"/>
                    <a:pt x="363" y="0"/>
                  </a:cubicBezTo>
                  <a:cubicBezTo>
                    <a:pt x="401" y="0"/>
                    <a:pt x="416" y="91"/>
                    <a:pt x="454" y="91"/>
                  </a:cubicBezTo>
                  <a:cubicBezTo>
                    <a:pt x="492" y="91"/>
                    <a:pt x="552" y="0"/>
                    <a:pt x="590" y="0"/>
                  </a:cubicBezTo>
                  <a:cubicBezTo>
                    <a:pt x="628" y="0"/>
                    <a:pt x="654" y="45"/>
                    <a:pt x="681" y="9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116000" y="1557360"/>
            <a:ext cx="863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54800" y="23493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单位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220500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55 -0.00463 L 0.38438 -0.00463 C 0.37292 -0.00463 0.3599 -0.02315 0.34844 -0.02546 C 0.33994 -0.02546 0.32344 -0.00857 0.3165 -0.00857 C 0.30643 -0.00857 0.29636 -0.01389 0.27744 -0.01389 L 0.26441 -0.21597 L 0.24966 0.02801 L 0.23212 -0.00463 L 0.21806 -0.01389 L 0.18316 -0.00602 C 0.16719 -0.00996 0.15417 -0.02685 0.1382 -0.03357 C 0.13247 -0.03472 0.11945 -0.03588 0.1106 -0.03357 C 0.10191 -0.03079 0.09462 -0.01273 0.09185 -0.01134 C 0.08733 -0.00602 0.07726 -0.01134 0.07153 -0.00857 L 0.06268 -0.00463 L 0.04723 -0.00463 E">
                                      <p:cBhvr>
                                        <p:cTn id="7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907920"/>
            <a:ext cx="403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一个儿童体内所含水分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千克，占体重的     。这个儿童体重多少千克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08200" y="1598760"/>
            <a:ext cx="379440" cy="894960"/>
            <a:chOff x="808200" y="1598760"/>
            <a:chExt cx="379440" cy="894960"/>
          </a:xfrm>
        </p:grpSpPr>
        <p:sp>
          <p:nvSpPr>
            <p:cNvPr id="173" name=""/>
            <p:cNvSpPr/>
            <p:nvPr/>
          </p:nvSpPr>
          <p:spPr>
            <a:xfrm>
              <a:off x="849240" y="2044440"/>
              <a:ext cx="33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8200" y="1598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920" y="1973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 rot="16200000">
            <a:off x="6335280" y="277200"/>
            <a:ext cx="360360" cy="43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85160" y="2428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体 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356000" y="1536840"/>
            <a:ext cx="3456000" cy="360360"/>
            <a:chOff x="4356000" y="1536840"/>
            <a:chExt cx="3456000" cy="360360"/>
          </a:xfrm>
        </p:grpSpPr>
        <p:sp>
          <p:nvSpPr>
            <p:cNvPr id="179" name=""/>
            <p:cNvSpPr/>
            <p:nvPr/>
          </p:nvSpPr>
          <p:spPr>
            <a:xfrm>
              <a:off x="4356000" y="153684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9640" y="153684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5080" y="1536840"/>
              <a:ext cx="86364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48720" y="1536840"/>
              <a:ext cx="863280" cy="36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7800" y="1536840"/>
            <a:ext cx="4317840" cy="360360"/>
            <a:chOff x="4357800" y="1536840"/>
            <a:chExt cx="4317840" cy="360360"/>
          </a:xfrm>
        </p:grpSpPr>
        <p:sp>
          <p:nvSpPr>
            <p:cNvPr id="184" name=""/>
            <p:cNvSpPr/>
            <p:nvPr/>
          </p:nvSpPr>
          <p:spPr>
            <a:xfrm>
              <a:off x="6085080" y="153684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357800" y="1536840"/>
              <a:ext cx="4317840" cy="360360"/>
              <a:chOff x="4357800" y="1536840"/>
              <a:chExt cx="4317840" cy="360360"/>
            </a:xfrm>
          </p:grpSpPr>
          <p:sp>
            <p:nvSpPr>
              <p:cNvPr id="186" name=""/>
              <p:cNvSpPr/>
              <p:nvPr/>
            </p:nvSpPr>
            <p:spPr>
              <a:xfrm>
                <a:off x="4357800" y="1536840"/>
                <a:ext cx="345420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19640" y="153684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2000" y="1536840"/>
                <a:ext cx="863640" cy="360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48720" y="153684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rot="5400000">
            <a:off x="6003720" y="-376200"/>
            <a:ext cx="182880" cy="3433680"/>
          </a:xfrm>
          <a:custGeom>
            <a:avLst/>
            <a:gdLst>
              <a:gd name="textAreaLeft" fmla="*/ 117000 w 182880"/>
              <a:gd name="textAreaRight" fmla="*/ 183240 w 182880"/>
              <a:gd name="textAreaTop" fmla="*/ 89280 h 3433680"/>
              <a:gd name="textAreaBottom" fmla="*/ 3344400 h 34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 rot="16200000">
            <a:off x="5976000" y="276120"/>
            <a:ext cx="215640" cy="34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38960" y="19447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千克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677560" y="692280"/>
            <a:ext cx="1278000" cy="686160"/>
            <a:chOff x="5677560" y="692280"/>
            <a:chExt cx="1278000" cy="686160"/>
          </a:xfrm>
        </p:grpSpPr>
        <p:sp>
          <p:nvSpPr>
            <p:cNvPr id="194" name=""/>
            <p:cNvSpPr/>
            <p:nvPr/>
          </p:nvSpPr>
          <p:spPr>
            <a:xfrm>
              <a:off x="5677560" y="779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体重的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445080" y="692280"/>
              <a:ext cx="493920" cy="686160"/>
              <a:chOff x="6445080" y="692280"/>
              <a:chExt cx="493920" cy="68616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5080" y="1035000"/>
                <a:ext cx="493920" cy="4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28960" y="6922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30400" y="9795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19600" y="1039680"/>
                <a:ext cx="31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2411280" y="2951280"/>
            <a:ext cx="5832720" cy="934920"/>
            <a:chOff x="2411280" y="2951280"/>
            <a:chExt cx="5832720" cy="934920"/>
          </a:xfrm>
        </p:grpSpPr>
        <p:sp>
          <p:nvSpPr>
            <p:cNvPr id="201" name=""/>
            <p:cNvSpPr/>
            <p:nvPr/>
          </p:nvSpPr>
          <p:spPr>
            <a:xfrm>
              <a:off x="2411280" y="2951280"/>
              <a:ext cx="5832720" cy="9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665800" y="2951280"/>
              <a:ext cx="4877280" cy="895320"/>
              <a:chOff x="2665800" y="2951280"/>
              <a:chExt cx="4877280" cy="895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453480" y="3059280"/>
                <a:ext cx="130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      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65800" y="30895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体重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3991320" y="2951280"/>
                <a:ext cx="379440" cy="895320"/>
                <a:chOff x="3991320" y="2951280"/>
                <a:chExt cx="379440" cy="8953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032360" y="339732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991320" y="295128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92040" y="33260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5442120" y="3125880"/>
                <a:ext cx="210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体内水分的重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395280" y="4437000"/>
            <a:ext cx="4681440" cy="2087640"/>
          </a:xfrm>
          <a:prstGeom prst="cloudCallout">
            <a:avLst>
              <a:gd name="adj1" fmla="val -39046"/>
              <a:gd name="adj2" fmla="val 28023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单位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量是未知的，可以列方程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000" y="5445000"/>
            <a:ext cx="113508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11280" y="3022560"/>
            <a:ext cx="115272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87640" y="2735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7948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未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47640" y="1198440"/>
            <a:ext cx="5832720" cy="934920"/>
            <a:chOff x="1547640" y="1198440"/>
            <a:chExt cx="5832720" cy="934920"/>
          </a:xfrm>
        </p:grpSpPr>
        <p:sp>
          <p:nvSpPr>
            <p:cNvPr id="217" name=""/>
            <p:cNvSpPr/>
            <p:nvPr/>
          </p:nvSpPr>
          <p:spPr>
            <a:xfrm>
              <a:off x="1547640" y="1198440"/>
              <a:ext cx="5832720" cy="9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802160" y="1198440"/>
              <a:ext cx="4877280" cy="895320"/>
              <a:chOff x="1802160" y="1198440"/>
              <a:chExt cx="4877280" cy="89532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840" y="1306440"/>
                <a:ext cx="130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仿宋_GB2312"/>
                  </a:rPr>
                  <a:t>       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02160" y="13366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体重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3127680" y="1198440"/>
                <a:ext cx="379440" cy="895320"/>
                <a:chOff x="3127680" y="1198440"/>
                <a:chExt cx="379440" cy="895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168720" y="164448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27680" y="119844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28400" y="157320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隶书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4578480" y="1373040"/>
                <a:ext cx="210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体内水分的重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1135080" cy="141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47640" y="1270080"/>
            <a:ext cx="115272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86400" y="2708280"/>
            <a:ext cx="29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：设这个儿童体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21560" y="3476520"/>
            <a:ext cx="1950480" cy="823680"/>
            <a:chOff x="3121560" y="3476520"/>
            <a:chExt cx="1950480" cy="823680"/>
          </a:xfrm>
        </p:grpSpPr>
        <p:sp>
          <p:nvSpPr>
            <p:cNvPr id="230" name=""/>
            <p:cNvSpPr/>
            <p:nvPr/>
          </p:nvSpPr>
          <p:spPr>
            <a:xfrm>
              <a:off x="3121560" y="356688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776760" y="3476520"/>
                  <a:ext cx="4413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141440" y="3498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40240" y="3566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35080" y="4172040"/>
            <a:ext cx="1962720" cy="1130040"/>
            <a:chOff x="3835080" y="4172040"/>
            <a:chExt cx="1962720" cy="113004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284800" y="4172040"/>
                  <a:ext cx="48096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3835080" y="4263840"/>
              <a:ext cx="1962720" cy="1038240"/>
              <a:chOff x="3835080" y="4263840"/>
              <a:chExt cx="1962720" cy="1038240"/>
            </a:xfrm>
          </p:grpSpPr>
          <p:sp>
            <p:nvSpPr>
              <p:cNvPr id="237" name=""/>
              <p:cNvSpPr/>
              <p:nvPr/>
            </p:nvSpPr>
            <p:spPr>
              <a:xfrm>
                <a:off x="3835080" y="4263840"/>
                <a:ext cx="196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x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×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39040" y="4720680"/>
                <a:ext cx="172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x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5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4051080" y="5442120"/>
            <a:ext cx="29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答：这个儿童体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24000" y="10065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1584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未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4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765000"/>
            <a:ext cx="3959280" cy="38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1000" y="1095480"/>
            <a:ext cx="325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根据测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成人体内的水分约占体重的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而儿童体内的水分约占体重的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538440" y="2103480"/>
            <a:ext cx="528480" cy="895320"/>
            <a:chOff x="3538440" y="2103480"/>
            <a:chExt cx="528480" cy="895320"/>
          </a:xfrm>
        </p:grpSpPr>
        <p:sp>
          <p:nvSpPr>
            <p:cNvPr id="246" name=""/>
            <p:cNvSpPr/>
            <p:nvPr/>
          </p:nvSpPr>
          <p:spPr>
            <a:xfrm>
              <a:off x="3538440" y="254988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0080" y="2103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2960" y="247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476360" y="4629240"/>
            <a:ext cx="1790640" cy="222876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1811160" y="3759120"/>
            <a:ext cx="528480" cy="895320"/>
            <a:chOff x="1811160" y="3759120"/>
            <a:chExt cx="528480" cy="895320"/>
          </a:xfrm>
        </p:grpSpPr>
        <p:sp>
          <p:nvSpPr>
            <p:cNvPr id="251" name=""/>
            <p:cNvSpPr/>
            <p:nvPr/>
          </p:nvSpPr>
          <p:spPr>
            <a:xfrm>
              <a:off x="1811160" y="4205520"/>
              <a:ext cx="528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82800" y="375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5680" y="4133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924360" y="3716280"/>
            <a:ext cx="5219640" cy="2305080"/>
            <a:chOff x="3924360" y="3716280"/>
            <a:chExt cx="5219640" cy="2305080"/>
          </a:xfrm>
        </p:grpSpPr>
        <p:sp>
          <p:nvSpPr>
            <p:cNvPr id="255" name=""/>
            <p:cNvSpPr/>
            <p:nvPr/>
          </p:nvSpPr>
          <p:spPr>
            <a:xfrm>
              <a:off x="3924360" y="3716280"/>
              <a:ext cx="5219640" cy="2305080"/>
            </a:xfrm>
            <a:prstGeom prst="cloudCallout">
              <a:avLst>
                <a:gd name="adj1" fmla="val -67212"/>
                <a:gd name="adj2" fmla="val 3615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体内有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k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水分，可是我的体重才是爸爸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069320" y="4911840"/>
              <a:ext cx="577080" cy="894960"/>
              <a:chOff x="7069320" y="4911840"/>
              <a:chExt cx="577080" cy="894960"/>
            </a:xfrm>
          </p:grpSpPr>
          <p:sp>
            <p:nvSpPr>
              <p:cNvPr id="257" name=""/>
              <p:cNvSpPr/>
              <p:nvPr/>
            </p:nvSpPr>
            <p:spPr>
              <a:xfrm>
                <a:off x="7092000" y="5357880"/>
                <a:ext cx="52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64360" y="4911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69320" y="528624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2447640" y="5950080"/>
            <a:ext cx="3746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明爸爸的体重是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为您服务教育网 http://www.wsbedu.com/</dc:creator>
  <dc:description/>
  <cp:keywords/>
  <dc:language>en-US</dc:language>
  <cp:lastModifiedBy>admin</cp:lastModifiedBy>
  <dcterms:modified xsi:type="dcterms:W3CDTF">2015-01-25T02:43:02Z</dcterms:modified>
  <cp:revision>1066</cp:revision>
  <dc:subject/>
  <dc:title>PowerPoint 演示文稿</dc:title>
</cp:coreProperties>
</file>