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452-E94B-4E7C-BA5A-7675307E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ABC-B50B-406D-ABF5-5BE4CB80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F59-4C55-41A1-860C-6608746F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8A93-65F0-4786-898C-4380AFC1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D55-6E04-45AC-8682-083A8D95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97B-D5F4-41A0-89D6-D2CC1263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DBF-75D5-4903-B657-FC4B0760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9E3-9044-4938-BEEE-C4EA2F8D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22F4-5BF0-42E5-A51C-005F0C8A4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C84-4E08-49EB-BDB5-AFFBB3E1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4AD-9AB3-4EEE-978B-9C1E6ABE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8C8-D12A-440B-8A0C-BC23A97E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0ED1-0E1E-4216-9E6F-55FE4ACCA0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>
            <a:alphaModFix amt="24000"/>
          </a:blip>
          <a:srcRect l="6607" t="11909" r="24582" b="40359"/>
          <a:stretch/>
        </p:blipFill>
        <p:spPr>
          <a:xfrm>
            <a:off x="-61920" y="1224000"/>
            <a:ext cx="6478560" cy="4184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63760" y="2233440"/>
            <a:ext cx="678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</a:rPr>
              <a:t>确定起跑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4336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86080" y="1487520"/>
            <a:ext cx="475128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413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08160" y="4295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8800" y="15588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8800" y="2728800"/>
            <a:ext cx="73080" cy="289080"/>
          </a:xfrm>
          <a:prstGeom prst="downArrow">
            <a:avLst>
              <a:gd name="adj1" fmla="val 50000"/>
              <a:gd name="adj2" fmla="val 98892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496656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2143080" y="1500120"/>
            <a:ext cx="1577160" cy="156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55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5514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8040" y="1501920"/>
            <a:ext cx="157644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55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5514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97360" y="148608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13200" y="307332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497844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一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6680" y="540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3720" y="5869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7880" y="63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3320" y="5425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02840" y="589752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2.6×3.14159≈228.0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22200" y="636912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5.96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28.08=4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70000" y="1397160"/>
          <a:ext cx="8450280" cy="2257200"/>
        </p:xfrm>
        <a:graphic>
          <a:graphicData uri="http://schemas.openxmlformats.org/drawingml/2006/table">
            <a:tbl>
              <a:tblPr/>
              <a:tblGrid>
                <a:gridCol w="1440000"/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1747080" y="2081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3224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8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17200" y="3205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6200" y="37670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57760" y="11916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08160" y="148752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08160" y="43243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35640" y="1558800"/>
            <a:ext cx="72720" cy="360360"/>
          </a:xfrm>
          <a:prstGeom prst="up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35640" y="2728800"/>
            <a:ext cx="72720" cy="289080"/>
          </a:xfrm>
          <a:prstGeom prst="downArrow">
            <a:avLst>
              <a:gd name="adj1" fmla="val 50000"/>
              <a:gd name="adj2" fmla="val 99381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416340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10800000">
            <a:off x="1717560" y="999000"/>
            <a:ext cx="2458800" cy="24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55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5514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97800" y="1001880"/>
            <a:ext cx="2494800" cy="24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965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9657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03480" y="98424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19320" y="350208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497844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一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6680" y="540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3720" y="5869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97880" y="63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3320" y="5425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53800" y="58975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8.0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53800" y="6369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06640" y="49593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二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82400" y="538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69800" y="585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53960" y="628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31480" y="54072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72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=75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8920" y="587844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75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3.14159≈235.9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78280" y="63500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5.96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35.9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407.8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894280" y="105876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75200" y="310032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97360" y="10317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15000" y="30830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9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00"/>
                            </p:stCondLst>
                            <p:childTnLst>
                              <p:par>
                                <p:cTn id="3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270000" y="1397160"/>
          <a:ext cx="8450280" cy="2284200"/>
        </p:xfrm>
        <a:graphic>
          <a:graphicData uri="http://schemas.openxmlformats.org/drawingml/2006/table">
            <a:tbl>
              <a:tblPr/>
              <a:tblGrid>
                <a:gridCol w="1439640"/>
                <a:gridCol w="876240"/>
                <a:gridCol w="876600"/>
                <a:gridCol w="876240"/>
                <a:gridCol w="876240"/>
                <a:gridCol w="876240"/>
                <a:gridCol w="876240"/>
                <a:gridCol w="876240"/>
                <a:gridCol w="876600"/>
              </a:tblGrid>
              <a:tr h="59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1747080" y="2081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3224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8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17200" y="3205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47080" y="210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1640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484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6200" y="37670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57760" y="11916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008160" y="148752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08160" y="43243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35640" y="1558800"/>
            <a:ext cx="72720" cy="360360"/>
          </a:xfrm>
          <a:prstGeom prst="up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35640" y="2728800"/>
            <a:ext cx="72720" cy="289080"/>
          </a:xfrm>
          <a:prstGeom prst="downArrow">
            <a:avLst>
              <a:gd name="adj1" fmla="val 50000"/>
              <a:gd name="adj2" fmla="val 99381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416340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0800000">
            <a:off x="1286280" y="563760"/>
            <a:ext cx="3321000" cy="336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55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5514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57880" y="549360"/>
            <a:ext cx="3374640" cy="3384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965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9657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003480" y="54936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19320" y="393876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497844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二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6680" y="540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3720" y="5869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97880" y="63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83320" y="5425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5.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53800" y="58975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5.93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53800" y="6340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7.8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06640" y="4959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三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82400" y="538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69800" y="585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53960" y="628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31480" y="54072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75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=77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8920" y="587844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77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3.14159≈243.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78280" y="63356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5.96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43.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415.7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5840" y="59364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65840" y="353376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97360" y="55728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15000" y="35416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865840" y="1042920"/>
            <a:ext cx="258840" cy="2386080"/>
          </a:xfrm>
          <a:custGeom>
            <a:avLst/>
            <a:gdLst>
              <a:gd name="textAreaLeft" fmla="*/ 165600 w 258840"/>
              <a:gd name="textAreaRight" fmla="*/ 259200 w 258840"/>
              <a:gd name="textAreaTop" fmla="*/ 61920 h 2386080"/>
              <a:gd name="textAreaBottom" fmla="*/ 2324160 h 238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11760" y="2033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90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400"/>
                            </p:stCondLst>
                            <p:childTnLst>
                              <p:par>
                                <p:cTn id="5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70000" y="1397160"/>
          <a:ext cx="8450280" cy="2257200"/>
        </p:xfrm>
        <a:graphic>
          <a:graphicData uri="http://schemas.openxmlformats.org/drawingml/2006/table">
            <a:tbl>
              <a:tblPr/>
              <a:tblGrid>
                <a:gridCol w="1440000"/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1747080" y="2081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63224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8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17200" y="3205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47080" y="210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51640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484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45348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8328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3.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4358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5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6200" y="3767040"/>
            <a:ext cx="34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57760" y="11916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08160" y="148752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08160" y="43243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35640" y="1558800"/>
            <a:ext cx="72720" cy="360360"/>
          </a:xfrm>
          <a:prstGeom prst="up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35640" y="2728800"/>
            <a:ext cx="72720" cy="289080"/>
          </a:xfrm>
          <a:prstGeom prst="downArrow">
            <a:avLst>
              <a:gd name="adj1" fmla="val 50000"/>
              <a:gd name="adj2" fmla="val 99381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416340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10800000">
            <a:off x="826920" y="128880"/>
            <a:ext cx="4234680" cy="41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55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5514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64040" y="128520"/>
            <a:ext cx="4133520" cy="416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7965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79657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03480" y="12852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19320" y="432900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497844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三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6680" y="540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3720" y="5869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97880" y="63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3320" y="5425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7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53800" y="58975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3.79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53800" y="6340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15.7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06640" y="495936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四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82400" y="538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69800" y="585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53960" y="628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1480" y="54072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77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=8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8920" y="587844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3.14159≈251.6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78280" y="63356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5.96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51.6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423.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5840" y="16020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65840" y="393876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97360" y="1429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815000" y="3932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832360" y="638280"/>
            <a:ext cx="292320" cy="3294000"/>
          </a:xfrm>
          <a:custGeom>
            <a:avLst/>
            <a:gdLst>
              <a:gd name="textAreaLeft" fmla="*/ 186840 w 292320"/>
              <a:gd name="textAreaRight" fmla="*/ 292680 w 292320"/>
              <a:gd name="textAreaTop" fmla="*/ 85680 h 3294000"/>
              <a:gd name="textAreaBottom" fmla="*/ 3208320 h 329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11760" y="20764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7.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60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90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400"/>
                            </p:stCondLst>
                            <p:childTnLst>
                              <p:par>
                                <p:cTn id="6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270000" y="1397160"/>
          <a:ext cx="8450280" cy="2257200"/>
        </p:xfrm>
        <a:graphic>
          <a:graphicData uri="http://schemas.openxmlformats.org/drawingml/2006/table">
            <a:tbl>
              <a:tblPr/>
              <a:tblGrid>
                <a:gridCol w="1440000"/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1747080" y="2081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3224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8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17200" y="3205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647080" y="210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1640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484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5348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38328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3.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358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5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36320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81840" y="2629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1.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81840" y="31971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76200" y="376704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857760" y="11916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08160" y="148752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08160" y="43243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35640" y="1558800"/>
            <a:ext cx="72720" cy="360360"/>
          </a:xfrm>
          <a:prstGeom prst="up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35640" y="2728800"/>
            <a:ext cx="72720" cy="289080"/>
          </a:xfrm>
          <a:prstGeom prst="downArrow">
            <a:avLst>
              <a:gd name="adj1" fmla="val 50000"/>
              <a:gd name="adj2" fmla="val 99381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416340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50920" y="4978440"/>
            <a:ext cx="171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四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26680" y="540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3720" y="5869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7880" y="63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3320" y="5425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.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53800" y="58975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1.6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53800" y="6340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3.5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06640" y="495936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五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82400" y="538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169800" y="585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153960" y="628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31480" y="54072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=82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8920" y="587844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2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3.14159≈259.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77920" y="633564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5.96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59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431.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270000" y="1397160"/>
          <a:ext cx="8450280" cy="2257200"/>
        </p:xfrm>
        <a:graphic>
          <a:graphicData uri="http://schemas.openxmlformats.org/drawingml/2006/table">
            <a:tbl>
              <a:tblPr/>
              <a:tblGrid>
                <a:gridCol w="1440000"/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3" name=""/>
          <p:cNvSpPr/>
          <p:nvPr/>
        </p:nvSpPr>
        <p:spPr>
          <a:xfrm>
            <a:off x="1747080" y="2081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3224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8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17200" y="3205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47080" y="210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1640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484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5348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8328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3.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4358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5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36320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1840" y="2629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1.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1840" y="31971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236200" y="20732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250240" y="2619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9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61320" y="3187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1.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76200" y="376704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53160" y="169236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93920" y="3060720"/>
            <a:ext cx="475128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25560" y="25574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0" y="169236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76840" y="25574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3560" y="21240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18280" y="2124000"/>
            <a:ext cx="345744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28840" y="30607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53200" y="30607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93920" y="1692360"/>
            <a:ext cx="47498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95360" y="2197080"/>
            <a:ext cx="4751640" cy="3384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93920" y="169236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93920" y="212400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3920" y="255744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93920" y="306072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93920" y="464508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93920" y="507672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920" y="550872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93920" y="586908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47000" y="4645080"/>
            <a:ext cx="0" cy="431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6486840" y="45853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872480" y="4896000"/>
            <a:ext cx="179280" cy="242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21600">
            <a:off x="8364960" y="4709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488440" y="4689360"/>
            <a:ext cx="358560" cy="1666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3912600">
            <a:off x="7571160" y="4858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64280" y="4662360"/>
            <a:ext cx="0" cy="11797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16160" y="603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终点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857760" y="11916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008160" y="148752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69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008160" y="43243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35640" y="1558800"/>
            <a:ext cx="72720" cy="360360"/>
          </a:xfrm>
          <a:prstGeom prst="up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35640" y="2728800"/>
            <a:ext cx="72720" cy="289080"/>
          </a:xfrm>
          <a:prstGeom prst="downArrow">
            <a:avLst>
              <a:gd name="adj1" fmla="val 50000"/>
              <a:gd name="adj2" fmla="val 99381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416340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0920" y="497844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五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26680" y="540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13720" y="5869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97880" y="63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83320" y="5425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2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153440" y="58975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9.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153800" y="6340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1.4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06640" y="4959360"/>
            <a:ext cx="15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六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82400" y="538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69800" y="585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53960" y="628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831480" y="54072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2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=85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958920" y="587844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5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3.14159≈267.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78280" y="63356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5.96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67.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439.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70000" y="1397160"/>
          <a:ext cx="8450280" cy="2257200"/>
        </p:xfrm>
        <a:graphic>
          <a:graphicData uri="http://schemas.openxmlformats.org/drawingml/2006/table">
            <a:tbl>
              <a:tblPr/>
              <a:tblGrid>
                <a:gridCol w="1440000"/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1747080" y="2081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63224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8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17200" y="3205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647080" y="210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1640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484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45348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8328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3.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358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5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36320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281840" y="2629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1.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281840" y="31971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36200" y="20732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50240" y="2619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9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161320" y="3187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1.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6356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050160" y="2627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7.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31440" y="31957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9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76200" y="376704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857760" y="11916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008160" y="148752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69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08160" y="43243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35640" y="1558800"/>
            <a:ext cx="72720" cy="360360"/>
          </a:xfrm>
          <a:prstGeom prst="up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35640" y="2728800"/>
            <a:ext cx="72720" cy="289080"/>
          </a:xfrm>
          <a:prstGeom prst="downArrow">
            <a:avLst>
              <a:gd name="adj1" fmla="val 50000"/>
              <a:gd name="adj2" fmla="val 99381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416340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0920" y="497844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六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26680" y="540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13720" y="5869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7880" y="63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183320" y="5425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5.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153800" y="58975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7.3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53800" y="6340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39.27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906640" y="4959360"/>
            <a:ext cx="16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七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82400" y="538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169800" y="585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153960" y="628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31480" y="54072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5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=87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58920" y="587844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7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3.14159≈275.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77920" y="6335640"/>
            <a:ext cx="43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5.96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75.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447.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270000" y="1397160"/>
          <a:ext cx="8450280" cy="2257200"/>
        </p:xfrm>
        <a:graphic>
          <a:graphicData uri="http://schemas.openxmlformats.org/drawingml/2006/table">
            <a:tbl>
              <a:tblPr/>
              <a:tblGrid>
                <a:gridCol w="1440000"/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1747080" y="2081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3224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8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717200" y="3205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647080" y="2104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1640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5484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5348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383280" y="26193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3.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35840" y="3211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5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6320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281840" y="2629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1.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281840" y="31971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236200" y="20732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250240" y="2619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9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161320" y="31878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1.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163560" y="2079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50160" y="2627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7.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031440" y="31957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9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036560" y="20937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63120" y="261936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934680" y="31957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7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6200" y="376704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3857760" y="11916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008160" y="148752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69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008160" y="43243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535640" y="1558800"/>
            <a:ext cx="72720" cy="360360"/>
          </a:xfrm>
          <a:prstGeom prst="upArrow">
            <a:avLst>
              <a:gd name="adj1" fmla="val 50000"/>
              <a:gd name="adj2" fmla="val 12388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535640" y="2728800"/>
            <a:ext cx="72720" cy="289080"/>
          </a:xfrm>
          <a:prstGeom prst="downArrow">
            <a:avLst>
              <a:gd name="adj1" fmla="val 50000"/>
              <a:gd name="adj2" fmla="val 99381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rot="16200000">
            <a:off x="416340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50920" y="4978440"/>
            <a:ext cx="14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七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6680" y="5402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13720" y="5869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97880" y="6308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83320" y="5425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7.6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153440" y="58975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5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53800" y="63403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7.1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906640" y="4959360"/>
            <a:ext cx="183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第八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182400" y="5383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直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169800" y="5850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153960" y="628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31480" y="54072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87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25=9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58920" y="5878440"/>
            <a:ext cx="400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9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×3.14159≈283.0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878280" y="6335640"/>
            <a:ext cx="45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5.96×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83.0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454.9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8" name=""/>
          <p:cNvGraphicFramePr/>
          <p:nvPr/>
        </p:nvGraphicFramePr>
        <p:xfrm>
          <a:off x="270000" y="946080"/>
          <a:ext cx="8450280" cy="2257200"/>
        </p:xfrm>
        <a:graphic>
          <a:graphicData uri="http://schemas.openxmlformats.org/drawingml/2006/table">
            <a:tbl>
              <a:tblPr/>
              <a:tblGrid>
                <a:gridCol w="1440000"/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1747080" y="16304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632240" y="21686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8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17200" y="2754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647080" y="16542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6400" y="21686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548440" y="2760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53480" y="1628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383280" y="21686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3.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435840" y="2760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5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63200" y="1628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281840" y="2178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1.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281840" y="27464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236200" y="1622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250240" y="2168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9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161320" y="27367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1.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163560" y="1628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050160" y="21765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7.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31440" y="27446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9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36560" y="16430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963120" y="21686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34680" y="27446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7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906320" y="16444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818840" y="21542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3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804440" y="27399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4.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76200" y="382572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80920" y="4152960"/>
            <a:ext cx="71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各跑道的起跑线应该相差多少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81040" y="486720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7.8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634640" y="488952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/ 7.86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229480" y="34052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2513880" y="3099600"/>
            <a:ext cx="163440" cy="457200"/>
          </a:xfrm>
          <a:custGeom>
            <a:avLst/>
            <a:gdLst>
              <a:gd name="textAreaLeft" fmla="*/ 104400 w 163440"/>
              <a:gd name="textAreaRight" fmla="*/ 163800 w 1634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15440" y="3392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16200000">
            <a:off x="3399840" y="3087000"/>
            <a:ext cx="163440" cy="457200"/>
          </a:xfrm>
          <a:custGeom>
            <a:avLst/>
            <a:gdLst>
              <a:gd name="textAreaLeft" fmla="*/ 104400 w 163440"/>
              <a:gd name="textAreaRight" fmla="*/ 163800 w 1634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972600" y="34084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4257000" y="3102840"/>
            <a:ext cx="163440" cy="457200"/>
          </a:xfrm>
          <a:custGeom>
            <a:avLst/>
            <a:gdLst>
              <a:gd name="textAreaLeft" fmla="*/ 104400 w 163440"/>
              <a:gd name="textAreaRight" fmla="*/ 163800 w 1634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871160" y="3392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155560" y="3087000"/>
            <a:ext cx="163440" cy="457200"/>
          </a:xfrm>
          <a:custGeom>
            <a:avLst/>
            <a:gdLst>
              <a:gd name="textAreaLeft" fmla="*/ 104400 w 163440"/>
              <a:gd name="textAreaRight" fmla="*/ 163800 w 1634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741280" y="33908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rot="16200000">
            <a:off x="6025320" y="3085200"/>
            <a:ext cx="163440" cy="457200"/>
          </a:xfrm>
          <a:custGeom>
            <a:avLst/>
            <a:gdLst>
              <a:gd name="textAreaLeft" fmla="*/ 104400 w 163440"/>
              <a:gd name="textAreaRight" fmla="*/ 163800 w 1634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6611040" y="3389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16200000">
            <a:off x="6895440" y="3083760"/>
            <a:ext cx="163440" cy="457200"/>
          </a:xfrm>
          <a:custGeom>
            <a:avLst/>
            <a:gdLst>
              <a:gd name="textAreaLeft" fmla="*/ 104400 w 163440"/>
              <a:gd name="textAreaRight" fmla="*/ 163800 w 1634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481160" y="33876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rot="16200000">
            <a:off x="7764840" y="3081600"/>
            <a:ext cx="163800" cy="457200"/>
          </a:xfrm>
          <a:custGeom>
            <a:avLst/>
            <a:gdLst>
              <a:gd name="textAreaLeft" fmla="*/ 104760 w 163800"/>
              <a:gd name="textAreaRight" fmla="*/ 164160 w 1638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5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5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"/>
          <p:cNvGrpSpPr/>
          <p:nvPr/>
        </p:nvGrpSpPr>
        <p:grpSpPr>
          <a:xfrm>
            <a:off x="898560" y="3060720"/>
            <a:ext cx="7156080" cy="3850920"/>
            <a:chOff x="898560" y="3060720"/>
            <a:chExt cx="7156080" cy="3850920"/>
          </a:xfrm>
        </p:grpSpPr>
        <p:pic>
          <p:nvPicPr>
            <p:cNvPr id="652" name="" descr=""/>
            <p:cNvPicPr/>
            <p:nvPr/>
          </p:nvPicPr>
          <p:blipFill>
            <a:blip r:embed="rId1"/>
            <a:srcRect l="11213" t="60773" r="11959" b="7293"/>
            <a:stretch/>
          </p:blipFill>
          <p:spPr>
            <a:xfrm>
              <a:off x="898560" y="3085920"/>
              <a:ext cx="7156080" cy="38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"/>
            <p:cNvSpPr/>
            <p:nvPr/>
          </p:nvSpPr>
          <p:spPr>
            <a:xfrm>
              <a:off x="3516480" y="3060720"/>
              <a:ext cx="1116720" cy="1496520"/>
            </a:xfrm>
            <a:custGeom>
              <a:avLst/>
              <a:gdLst/>
              <a:ahLst/>
              <a:rect l="l" t="t" r="r" b="b"/>
              <a:pathLst>
                <a:path w="677" h="998">
                  <a:moveTo>
                    <a:pt x="0" y="0"/>
                  </a:moveTo>
                  <a:cubicBezTo>
                    <a:pt x="240" y="5"/>
                    <a:pt x="447" y="18"/>
                    <a:pt x="677" y="18"/>
                  </a:cubicBezTo>
                  <a:lnTo>
                    <a:pt x="152" y="9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54" name=""/>
          <p:cNvGraphicFramePr/>
          <p:nvPr/>
        </p:nvGraphicFramePr>
        <p:xfrm>
          <a:off x="298440" y="279360"/>
          <a:ext cx="8450280" cy="2257200"/>
        </p:xfrm>
        <a:graphic>
          <a:graphicData uri="http://schemas.openxmlformats.org/drawingml/2006/table">
            <a:tbl>
              <a:tblPr/>
              <a:tblGrid>
                <a:gridCol w="1440000"/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5" name=""/>
          <p:cNvSpPr/>
          <p:nvPr/>
        </p:nvSpPr>
        <p:spPr>
          <a:xfrm>
            <a:off x="1775520" y="9637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61040" y="1501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28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745640" y="20876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675520" y="9874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545200" y="1501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5.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76880" y="20937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7.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82280" y="961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11720" y="1501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3.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64280" y="20937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15.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391640" y="961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310280" y="1511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1.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310280" y="20797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23.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65000" y="9558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2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279040" y="1501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9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89760" y="2070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1.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192000" y="961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78960" y="1509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67.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059880" y="2077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9.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065000" y="9763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7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991920" y="1501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5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963120" y="20779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47.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935120" y="9777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847280" y="148752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83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833240" y="20732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4.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04640" y="2649600"/>
            <a:ext cx="40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7227720" y="1224000"/>
            <a:ext cx="1225800" cy="150012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>
            <a:off x="701640" y="531360"/>
            <a:ext cx="5626080" cy="496440"/>
          </a:xfrm>
          <a:prstGeom prst="wedgeRoundRectCallout">
            <a:avLst>
              <a:gd name="adj1" fmla="val 60041"/>
              <a:gd name="adj2" fmla="val 166518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用算出每条跑道的长度，也知道它们相差多少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41280" y="1719360"/>
            <a:ext cx="4861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条直道是一样的，所以只需要看圆的周长。圆的周长是这样算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74760" y="2843280"/>
            <a:ext cx="30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一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72.6×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41280" y="330660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二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72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5)×π =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2.6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5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5680" y="384012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三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75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5)×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  75.1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5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2440" y="436392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四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77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5)×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  77.6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5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51000" y="4863960"/>
            <a:ext cx="68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五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8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5)×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  80.1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5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51000" y="5400720"/>
            <a:ext cx="68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六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82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5)×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  82.6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5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51000" y="5835600"/>
            <a:ext cx="68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七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85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5)×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  85.1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5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57120" y="62848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八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87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5)×π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=  87.6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.5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416640" y="4179600"/>
            <a:ext cx="2656080" cy="1681560"/>
          </a:xfrm>
          <a:prstGeom prst="wedgeRoundRectCallout">
            <a:avLst>
              <a:gd name="adj1" fmla="val -1472"/>
              <a:gd name="adj2" fmla="val -131416"/>
              <a:gd name="adj3" fmla="val 16667"/>
            </a:avLst>
          </a:prstGeom>
          <a:solidFill>
            <a:srgbClr val="ffff00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一条跑道都在上一条跑道的基础上增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长度。你能算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5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多少米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5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4492800" y="1212840"/>
            <a:ext cx="435420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643200" y="258120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338560" y="2077920"/>
            <a:ext cx="2736720" cy="2519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461960" y="121284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305320" y="2077920"/>
            <a:ext cx="2737080" cy="25196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919160" y="1644480"/>
            <a:ext cx="3454560" cy="3383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10120" y="1644480"/>
            <a:ext cx="3457440" cy="3383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778120" y="258120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945040" y="258120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643200" y="121284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43200" y="12128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643200" y="16444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643200" y="20779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43200" y="25812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43200" y="41655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43200" y="45975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643200" y="50292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43200" y="54180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92400" y="1093680"/>
            <a:ext cx="5445000" cy="4541760"/>
            <a:chOff x="1292400" y="1093680"/>
            <a:chExt cx="5445000" cy="4541760"/>
          </a:xfrm>
        </p:grpSpPr>
        <p:sp>
          <p:nvSpPr>
            <p:cNvPr id="711" name=""/>
            <p:cNvSpPr/>
            <p:nvPr/>
          </p:nvSpPr>
          <p:spPr>
            <a:xfrm>
              <a:off x="1292400" y="1093680"/>
              <a:ext cx="2350800" cy="440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35280" y="3557520"/>
              <a:ext cx="3102120" cy="207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662280" y="1020600"/>
            <a:ext cx="0" cy="16322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737400" y="4125960"/>
            <a:ext cx="1440" cy="137484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396960" y="2670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终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335640" y="3695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起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10960" y="3414600"/>
            <a:ext cx="50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米的跑道，每条道的长度都是它们全长的一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75800" y="415764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一条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00÷2=2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47200" y="455436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条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07.85÷2=203.9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6040" y="498492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三条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15.71÷2=207.85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67720" y="541800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四条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23.56÷2=211.7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67720" y="5883120"/>
            <a:ext cx="42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五条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31.42÷2=215.7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086200" y="6369120"/>
            <a:ext cx="52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每条道相差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.925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,39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所以起跑线应依次提前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3.925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47640" y="98280"/>
            <a:ext cx="78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思考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跑步比赛，跑道宽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起跑线应依次提前多少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3093120" y="1473120"/>
            <a:ext cx="353340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谢谢同学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的坚持！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rcRect l="13426" t="14007" r="12432" b="47592"/>
          <a:stretch/>
        </p:blipFill>
        <p:spPr>
          <a:xfrm>
            <a:off x="568440" y="503280"/>
            <a:ext cx="792144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rcRect l="13874" t="54077" r="12456" b="8682"/>
          <a:stretch/>
        </p:blipFill>
        <p:spPr>
          <a:xfrm>
            <a:off x="611280" y="536400"/>
            <a:ext cx="8010360" cy="572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4336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08160" y="148752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413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08160" y="4295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08160" y="12060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8800" y="15588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8800" y="2728800"/>
            <a:ext cx="73080" cy="289080"/>
          </a:xfrm>
          <a:prstGeom prst="downArrow">
            <a:avLst>
              <a:gd name="adj1" fmla="val 50000"/>
              <a:gd name="adj2" fmla="val 98892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496656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0" y="307512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94280" y="3068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75360" y="354168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35352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91200" y="393876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3932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2.25434E-006 L 0.00174 0.6148 E">
                                      <p:cBhvr>
                                        <p:cTn id="8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900"/>
                            </p:stCondLst>
                            <p:childTnLst>
                              <p:par>
                                <p:cTn id="1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300"/>
                            </p:stCondLst>
                            <p:childTnLst>
                              <p:par>
                                <p:cTn id="16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rcRect l="12084" t="7645" r="13874" b="56731"/>
          <a:stretch/>
        </p:blipFill>
        <p:spPr>
          <a:xfrm>
            <a:off x="523800" y="612720"/>
            <a:ext cx="8082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efefe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4336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08160" y="1487520"/>
            <a:ext cx="4751640" cy="158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03520" y="984240"/>
            <a:ext cx="273672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41320" y="119160"/>
            <a:ext cx="4354560" cy="41781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70280" y="984240"/>
            <a:ext cx="2737080" cy="251928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84120" y="550800"/>
            <a:ext cx="345456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75080" y="550800"/>
            <a:ext cx="3457800" cy="338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43080" y="1487520"/>
            <a:ext cx="165744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10360" y="1487520"/>
            <a:ext cx="1657080" cy="158436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08160" y="119160"/>
            <a:ext cx="3095640" cy="41781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08160" y="11916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08160" y="55080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08160" y="98424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08160" y="1487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08160" y="3071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8160" y="3503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08160" y="393552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08160" y="4295880"/>
            <a:ext cx="30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0816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0800" y="119160"/>
            <a:ext cx="0" cy="417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2149920" y="1500120"/>
            <a:ext cx="1576440" cy="156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55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5514"/>
              </a:path>
            </a:pathLst>
          </a:cu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83800" y="1501920"/>
            <a:ext cx="1577160" cy="156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155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15514"/>
              </a:path>
            </a:pathLst>
          </a:cu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09960" y="4406760"/>
            <a:ext cx="3240" cy="524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24680" y="4422600"/>
            <a:ext cx="6120" cy="53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56040" y="4678200"/>
            <a:ext cx="841320" cy="144720"/>
          </a:xfrm>
          <a:prstGeom prst="leftArrow">
            <a:avLst>
              <a:gd name="adj1" fmla="val 50000"/>
              <a:gd name="adj2" fmla="val 14533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46640" y="4681440"/>
            <a:ext cx="814320" cy="142920"/>
          </a:xfrm>
          <a:prstGeom prst="rightArrow">
            <a:avLst>
              <a:gd name="adj1" fmla="val 50000"/>
              <a:gd name="adj2" fmla="val 142443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3960" y="453384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5.9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8800" y="15588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8800" y="2728800"/>
            <a:ext cx="73080" cy="289080"/>
          </a:xfrm>
          <a:prstGeom prst="downArrow">
            <a:avLst>
              <a:gd name="adj1" fmla="val 50000"/>
              <a:gd name="adj2" fmla="val 98892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966560" y="21045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.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97360" y="148608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13200" y="3073320"/>
            <a:ext cx="30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94280" y="3068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40360" y="35352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3932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91200" y="307512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75360" y="354168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1200" y="3938760"/>
            <a:ext cx="193680" cy="360360"/>
          </a:xfrm>
          <a:custGeom>
            <a:avLst/>
            <a:gdLst>
              <a:gd name="textAreaLeft" fmla="*/ 123840 w 193680"/>
              <a:gd name="textAreaRight" fmla="*/ 194040 w 19368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0.00093 L 0.35451 0.00093 E">
                                      <p:cBhvr>
                                        <p:cTn id="197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rcRect l="11213" t="43163" r="11959" b="7293"/>
          <a:stretch/>
        </p:blipFill>
        <p:spPr>
          <a:xfrm>
            <a:off x="836640" y="297000"/>
            <a:ext cx="7605720" cy="62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70000" y="1397160"/>
          <a:ext cx="8450280" cy="2257200"/>
        </p:xfrm>
        <a:graphic>
          <a:graphicData uri="http://schemas.openxmlformats.org/drawingml/2006/table">
            <a:tbl>
              <a:tblPr/>
              <a:tblGrid>
                <a:gridCol w="1440000"/>
                <a:gridCol w="876240"/>
                <a:gridCol w="876240"/>
                <a:gridCol w="876240"/>
                <a:gridCol w="876240"/>
                <a:gridCol w="876600"/>
                <a:gridCol w="876240"/>
                <a:gridCol w="876240"/>
                <a:gridCol w="876240"/>
              </a:tblGrid>
              <a:tr h="564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直径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全长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76200" y="376704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π</a:t>
            </a: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取</a:t>
            </a:r>
            <a:r>
              <a:rPr b="1" lang="zh-CN" sz="2400" spc="-1" strike="noStrike">
                <a:solidFill>
                  <a:srgbClr val="d60093"/>
                </a:solidFill>
                <a:latin typeface="Comic Sans MS"/>
                <a:ea typeface="楷体_GB2312"/>
              </a:rPr>
              <a:t>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1:48:15Z</dcterms:created>
  <dc:creator>为您服务教育网　http://www.wsbedu.com/</dc:creator>
  <dc:description/>
  <dc:language>en-US</dc:language>
  <cp:lastModifiedBy>admin</cp:lastModifiedBy>
  <dcterms:modified xsi:type="dcterms:W3CDTF">2015-01-26T02:10:04Z</dcterms:modified>
  <cp:revision>12</cp:revision>
  <dc:subject/>
  <dc:title>幻灯片 1</dc:title>
</cp:coreProperties>
</file>