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6FB-EA97-4F01-9FB2-4AB6DF08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9FC-80CB-4D7A-BCAD-18E4EE1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617-73D6-48C6-97B6-A336FFDA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8B4-1F1B-459E-BDB2-C18C6E9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E9D-2456-4DAA-B323-250D90C5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84-BF05-43FE-83EF-5F5B1DE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18C-DEAC-4445-B011-91F79637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9E0-B219-4AD5-BFFF-93B9C3B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62B-5EE0-40E7-A5A2-D4DC4EF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FD1-C749-4BCB-99A4-4F09977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A88-BEC0-4E6A-B5B4-EA1FF8A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E58-C6BD-465F-AD57-95CD2AC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B93-AB2A-4DFA-A369-2F907A7D0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7xxw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63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24000" y="189000"/>
            <a:ext cx="5327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舒体"/>
              </a:rPr>
              <a:t>七月的天山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213372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教版四年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350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5840" y="4816440"/>
            <a:ext cx="91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饮马溪边，你坐在马鞍上就可以俯视到那阳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透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清澈的水底，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彩斑斓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水石之间，鱼群闪闪的鳞光映着雪水清流，给寂静的天山增添了无限生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3278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7315200" cy="152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873600"/>
            <a:ext cx="7315200" cy="2984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15200" y="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白皑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群峰的雪线以下，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蜿蜒无尽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翠绿的原始森林，密密的塔松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像撑天的巨伞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重重叠叠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枝丫，只漏下斑斑点点的细碎的日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4600" y="-103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再往里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52680" y="457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里溪流缓慢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萦绕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每一个山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8280" y="12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天山深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9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5029200"/>
            <a:ext cx="4190760" cy="1600200"/>
          </a:xfrm>
          <a:custGeom>
            <a:avLst/>
            <a:gdLst>
              <a:gd name="textAreaLeft" fmla="*/ 0 w 4190760"/>
              <a:gd name="textAreaRight" fmla="*/ 4191120 w 419076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5627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4100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隶书"/>
              </a:rPr>
              <a:t>七月的天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0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山在我国新疆维吾尔自治区中部，终年积雪，多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川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千米，总面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方千米，是亚洲最大山系之一，山地平均海拔高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左右，把广阔的新疆分为南北两半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9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533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虽然天山这时并不是春天，但是有哪一个春天的花园能比得过这时天山的无边繁花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8013" r="0" b="0"/>
          <a:stretch/>
        </p:blipFill>
        <p:spPr>
          <a:xfrm>
            <a:off x="-3636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4880" y="1087560"/>
            <a:ext cx="69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　　虽然天山这时不是春天，但是有哪一个春天的花园比得过这时天山的无边繁花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　　　）的雪峰（　　  　）的群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　　  ）的原始森林（　       ）的枝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　　　）的鲜花（　　　）的锦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　　　）的霞光　（　 　）的彩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6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68200" y="333000"/>
            <a:ext cx="170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时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认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生字。能借助字典和联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下文，读懂词句的意思，积累佳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达到正确、流利、有感情地朗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。能说出天山景物的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认真地读课文从作者的字里行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感受天山的美景，从中受到美的熏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6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检查预习 读一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3640" y="1216080"/>
            <a:ext cx="6578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缎　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山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涧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俯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视　马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蹄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溅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绵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延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鞍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飞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泻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无限　撑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枝丫　萦绕　矫健　幽静　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皑皑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洄水涡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马溪　戈壁滩　五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斑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五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缤纷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　重重叠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91680" y="907560"/>
            <a:ext cx="5057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指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熟读课文，自学生字、生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能借助字典和联系上下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初步读懂词句的意思，积累好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课文大意，说说作者笔下的天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夏是怎样一种景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——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钟检查汇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6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戈壁滩    白缎     山涧    泻下来   洄水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饮马        俯视    五彩斑斓    无限生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白皑皑    撑开    重重叠叠    枝丫    马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溅起        幽静    萦绕    五彩缤纷    绵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绚烂        矫健    马鞍    鳞光    峭壁断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1080" y="47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准字音积累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6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40960" y="460080"/>
            <a:ext cx="5250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学指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独立阅读课文，达到正确流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找出有关方位变化的句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游览的顺序和地点的转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合作学习边读课文边画描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山美景的句子，交流自己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钟左右检查汇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10280" y="533520"/>
            <a:ext cx="213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蓝天衬着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高高矗立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巨大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的雪峰，在太阳下，雪峰间的云彩就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像白缎上绣了几朵银灰色的暗花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4120" y="257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进入天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41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228600"/>
            <a:ext cx="2438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那融化的雪水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高悬的山涧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峭壁断崖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飞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下来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像千百条闪耀的银链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，在山脚下汇成冲激的溪流，浪花往上抛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形成千万朵盛开的白莲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6705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1:06:29Z</dcterms:created>
  <dc:creator>凤岗中心小学</dc:creator>
  <dc:description/>
  <dc:language>en-US</dc:language>
  <cp:lastModifiedBy>微软用户</cp:lastModifiedBy>
  <dcterms:modified xsi:type="dcterms:W3CDTF">2013-01-29T13:07:06Z</dcterms:modified>
  <cp:revision>23</cp:revision>
  <dc:subject/>
  <dc:title>PowerPoint 演示文稿</dc:title>
</cp:coreProperties>
</file>