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24E-7B1A-47F2-82B2-B2DFE60A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865-13C3-45B8-8858-F0267ED3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DF3-4340-43D7-BD03-44D305E8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C57-F83C-448E-B3A0-E74C39B3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FA7-07D0-49F7-8C74-B1903B44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F2E-A687-4DE6-81AF-CC48F14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FCD-83F6-4883-857B-0B5D6E60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4A0-67B6-40F1-A428-96A7E7F2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025-4D30-4284-9758-C760455D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A08-0FCF-4BA2-A051-67AF1E6B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D91-F3EE-4D85-BABC-2AE2D049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FCA-9191-4E0A-90F1-E834DA1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3639-BFC6-4060-8248-0C1B2F9E43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7xxw.com/" TargetMode="External"/><Relationship Id="rId3" Type="http://schemas.openxmlformats.org/officeDocument/2006/relationships/hyperlink" Target="http://www.17xxw.com/" TargetMode="External"/><Relationship Id="rId4" Type="http://schemas.openxmlformats.org/officeDocument/2006/relationships/hyperlink" Target="http://www.17xxw.com/" TargetMode="External"/><Relationship Id="rId5" Type="http://schemas.openxmlformats.org/officeDocument/2006/relationships/hyperlink" Target="http://www.17xxw.com/" TargetMode="External"/><Relationship Id="rId6" Type="http://schemas.openxmlformats.org/officeDocument/2006/relationships/hyperlink" Target="http://www.17xxw.com/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19200"/>
            <a:ext cx="95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义务教育课程标准实验教科书 语文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2276640"/>
            <a:ext cx="63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穷 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60280"/>
            <a:ext cx="8820000" cy="24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住穷、勤劳两个特点来写《桑娜的一天》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古老的钟发哑地敲了才五下，桑娜就早早地起了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阅读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1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Arial"/>
                <a:ea typeface="黑体"/>
              </a:rPr>
              <a:t>文章除了写他们的“穷”以外，还写了什么？哪个是重点要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从心理描写中体会人物品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181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“</a:t>
            </a:r>
            <a:r>
              <a:rPr b="0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寡妇的日子真困难啊</a:t>
            </a: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！”桑娜站在门口想，</a:t>
            </a:r>
            <a:r>
              <a:rPr b="0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“孩子虽然不算多——只有两个，可是全靠她一个人张罗，如今又加上病。唉，寡妇的日子真难过啊！进去看看吧！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1817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宋体"/>
              </a:rPr>
              <a:t>你能体会到桑娜的什么品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98760" y="5516640"/>
            <a:ext cx="140004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有同情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181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、桑娜用头巾裹住睡着的孩子，把他们抱回家里。她的心跳得很厉害，自己也不知道为什么要这样做，但是觉得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非</a:t>
            </a: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这样做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不可</a:t>
            </a: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181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1817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001817"/>
                </a:solidFill>
                <a:latin typeface="宋体"/>
              </a:rPr>
              <a:t>这样做”是指怎样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1817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817"/>
                </a:solidFill>
                <a:latin typeface="宋体"/>
              </a:rPr>
              <a:t>她抱回孩子时有没有考虑一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1817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817"/>
                </a:solidFill>
                <a:latin typeface="宋体"/>
              </a:rPr>
              <a:t>如果不“这样做”会怎样？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1817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817"/>
                </a:solidFill>
                <a:latin typeface="宋体"/>
              </a:rPr>
              <a:t>你从这段话中感受到她具有怎样的品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从心理描写中体会人物品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47000" y="5157720"/>
            <a:ext cx="79020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善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0"/>
            <a:ext cx="889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、桑娜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脸色苍白</a:t>
            </a:r>
            <a:r>
              <a:rPr b="1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神情激动</a:t>
            </a:r>
            <a:r>
              <a:rPr b="1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。她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忐忑不安</a:t>
            </a:r>
            <a:r>
              <a:rPr b="1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地想：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他会说什么呢？这是闹着玩的吗？自己的五个孩子已经够他受的了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是他来啦？……不，还没来！……为什么把他们抱回来啊？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他会揍我的！那也活该，我自作自受。……嗯，揍我一顿也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r>
              <a:rPr b="1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32520" y="5661000"/>
            <a:ext cx="42912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宁可自己受苦也要帮助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653000"/>
            <a:ext cx="788508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里的省略号表示人物内心活动时断时续。说明桑娜内心充满了矛盾。她的思绪既不连贯，也没有了条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4869000"/>
            <a:ext cx="578016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她在担心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4869000"/>
            <a:ext cx="578016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她有什么品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181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、“</a:t>
            </a:r>
            <a:r>
              <a:rPr b="0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不，没有人！上帝，我为什么要这样做？……如今叫我怎么对他说呢？”……</a:t>
            </a:r>
            <a:r>
              <a:rPr b="0" lang="zh-CN" sz="4000" spc="-1" strike="noStrike">
                <a:solidFill>
                  <a:srgbClr val="001817"/>
                </a:solidFill>
                <a:latin typeface="黑体"/>
                <a:ea typeface="黑体"/>
              </a:rPr>
              <a:t>桑娜沉思着，久久地坐在床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从心理描写中体会人物品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0"/>
            <a:ext cx="896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ff"/>
                </a:solidFill>
                <a:uFillTx/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渔夫皱起眉，他的脸变得严肃，忧虑。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嗯，是个问题！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搔搔后脑勺说，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嗯，你看怎么办？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得把他们抱来，同死人呆在一起怎么行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哦，我们，我们总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过去的！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快去！别等他们醒来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278136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黑体"/>
                <a:ea typeface="黑体"/>
              </a:rPr>
              <a:t>找出描写渔夫的动作和神态的词语，说明他在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2924280"/>
            <a:ext cx="66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黑体"/>
                <a:ea typeface="黑体"/>
              </a:rPr>
              <a:t>从一个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熬</a:t>
            </a:r>
            <a:r>
              <a:rPr b="1" lang="zh-CN" sz="3200" spc="-1" strike="noStrike">
                <a:solidFill>
                  <a:srgbClr val="001817"/>
                </a:solidFill>
                <a:latin typeface="黑体"/>
                <a:ea typeface="黑体"/>
              </a:rPr>
              <a:t>”字可以看出渔夫已经作出了什么决定？有了什么打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3429000"/>
            <a:ext cx="53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黑体"/>
                <a:ea typeface="黑体"/>
              </a:rPr>
              <a:t>渔夫是个什么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437000"/>
            <a:ext cx="5780160" cy="70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善良、乐于助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2" dur="1" fill="hold"/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50684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嘿，我回来啦，桑娜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瞧，这样的夜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真可怕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糟糕，真糟糕！什么也没有打到，还把网给撕破了。倒霉，倒霉！天气可真厉害！我简直记不起几时有过这样的夜晚了，还谈得上什么打鱼！谢谢上帝，总算活着回来啦。……我不在，你在家里做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是啊，是啊，这天气真是活见鬼！可是有什么办法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1640" y="-360"/>
            <a:ext cx="445932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哦，是你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是啊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是啊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天气坏透了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哦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鱼打得怎么样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我？我嘛……缝缝补补……风吼得这么凶，真叫人害怕。我可替你担心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50684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你知道吗？咱们的邻居西蒙死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也不知道，大概是昨天。唉！她死得好惨哪！两个孩子都在她身边，睡着了。他们那么小……一个还不会说话，另一个刚会爬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你瞧，他们在这里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1640" y="-360"/>
            <a:ext cx="445932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哦？什么时候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嗯，是个问题！嗯，你看怎么办？得把他们抱来，同死人呆在一起怎么行！哦，我们，我们总能熬过去的！快去！别等他们醒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你怎么啦？不愿意吗？你怎么啦，桑娜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924680" y="1371600"/>
            <a:ext cx="12193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666880" y="4191120"/>
          <a:ext cx="18288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1911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2860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穷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14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257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143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个孩子  勉强填饱肚子 光着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桑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渔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邻居西蒙的孩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早到晚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顾惜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28600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抱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…不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3505320"/>
            <a:ext cx="5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抱回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能熬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有一颗善良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宁可自己受苦也要帮助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9480" y="1600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1371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1371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5486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696080" y="3885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200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514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792800">
            <a:off x="7009920" y="281916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16"/>
                </a:lnTo>
                <a:cubicBezTo>
                  <a:pt x="10800" y="9716"/>
                  <a:pt x="5400" y="10616"/>
                  <a:pt x="0" y="10616"/>
                </a:cubicBezTo>
                <a:cubicBezTo>
                  <a:pt x="5400" y="10616"/>
                  <a:pt x="10800" y="11516"/>
                  <a:pt x="10800" y="124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5007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40360" y="189000"/>
            <a:ext cx="46796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托尔斯泰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28—19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俄国作家。出身贵族。幼年父母双亡，由姑母抚养成人，曾就读于喀山大学东方语文系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5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去高加索从军，曾参加克里米亚的塞瓦斯托波尔战役，并在这里开始文学创作生涯。他擅长细腻的心理描写，善于表现人物心理，形象生动逼真，对欧洲和世界文学产生过巨大影响。他的代表作有：《安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列尼娜》、《复活》等。小说《穷人》选入小学语文课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540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181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本文的线索——“穷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181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本文前后共设置了两个悬念——</a:t>
            </a:r>
            <a:r>
              <a:rPr b="0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、渔夫能否平安归来？</a:t>
            </a:r>
            <a:r>
              <a:rPr b="0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、渔夫能否同意收养两个孤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181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课文为什么以“穷人”为题？一是反映了两家的贫穷，是当时俄国贫民生活的写照；二是讴歌了穷人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善良、乐于助人</a:t>
            </a:r>
            <a:r>
              <a:rPr b="0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的高尚品质，抨击了当时上流社会的堕落与腐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181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817"/>
                </a:solidFill>
                <a:latin typeface="黑体"/>
                <a:ea typeface="黑体"/>
              </a:rPr>
              <a:t>写作特点：语言朴实，通过环境、心理和语言描写刻画人物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516720" y="189000"/>
            <a:ext cx="2303280" cy="691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380880"/>
            <a:ext cx="74678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小练笔：续写《穷人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注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情节发展要合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、无论最后发展成什么样，人物性格特点、中心思想都不能有本质变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读拼音，写词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选词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抱怨　埋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你没做好只能怪自己不争气，不能（　）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我（　）小明睡过了头，没能搭上清早的班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安静　平静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老师说：“班会就要开始，请大家（　）。”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南湖（　）得像一面镜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128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宁可……也……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与其……不如……  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尽管……还是…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49780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娜觉得（　）看着西蒙的孩子活活饿死，（　）自己多受些苦，把他们抱回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渔夫和妻子（　）自己多受些苦，（　）要把西蒙的孩子抱回家中抚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写出下列句子中省略号用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2170080"/>
            <a:ext cx="9144000" cy="468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古老的钟发哑地敲了十下，十一下……始终不见丈夫回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她忐忑不安地想：“他会说什么呢？这是闹着玩的吗？自己的五个孩子已经够他受的了……是他来啦？……不，还没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把他们抱过来啊？……他会揍我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也活该，我自作自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谢谢上帝，总算活着回来啦。……我不在，你在家里做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07920"/>
            <a:ext cx="91440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声音的延续 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语言中断，语言断断续续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 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．表示沉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197000"/>
            <a:ext cx="89647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写出下列句子中红色字的意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船上的帆还没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请把这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报发下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上课时不要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昨天，百货大楼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元宵节的夜晚，家家户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结彩，好不热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8207280" cy="57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阅读下面一段话，回答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渔夫皱起眉，他的脸变得严肃，忧虑。“嗯，是个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搔搔后脑勺说，“嗯，你看怎么办？得把他们抱来，同死人呆在一起怎么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哦，我们，我们总能熬过去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等他们醒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用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出描写渔夫神情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用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出描写渔夫动作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用“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出描写渔夫语言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这段话中我们可以看出渔夫是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9280" y="260280"/>
            <a:ext cx="87854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六、阅读答题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（一）一条小面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前，有个地方闹饥荒。一位富有的面包师把城里最穷的二十个小孩召来，对他们说：“这个篮子里的面包你们一人一条。在上帝带来好光景以前，你们每天都可以来拿一条面包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些饥饿的孩子蜂拥而上，围住篮子你推我嚷，因为他们每个人都想拿到最大的面包。最后，当他们拿到了面包，也没有向这位好心的面包师说声谢谢，就走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但是格琳琴，这位衣着贫寒的小姑娘，既没有同大家一起吵闹，也没有与其他人争抢。她只是谦让地站在一步以外，等那些坏行为的孩子离去以后，才拿起剩在篮子里最小的一条面包。她亲吻了面包师的手以表示感谢，然后才回家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981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一个人照顾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”桑娜一边想一边敲了敲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寡妇的日子真困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58360" y="3645000"/>
            <a:ext cx="383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寡妇的日子真难过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把他们抱过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0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060640"/>
            <a:ext cx="15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3141720"/>
            <a:ext cx="107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4720" y="4221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9000"/>
            <a:ext cx="9144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天，那些孩子同先前一样没有教养，抢在前面。而羞怯、可怜的小格琳琴只得到一条比头一天还小一半的面包。当她回家以后，妈妈切开面包，许多崭新、发亮的银币掉了出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妈妈惊奇地叫道：“立即把钱送回去，一定是揉面的时候不小心揉进去的。赶快去，格琳琴，赶快去！”当小姑娘把妈妈的话告诉面包师的时候，他说：“不，不，我的孩子，这没有错。是我把银币放进小面包里的，我要奖励你。愿你永远保持现在这样一颗平安、感恩的心。回家吧，告诉你妈妈这些钱是你的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说为什么格琳琴的到了奖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何为贫穷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天，富有的父亲带着小儿子去乡下旅行，想让他见识一下穷人是怎么生活的。在农场最穷的人家里他们度过了一天一夜。旅行结束后，父亲问儿子：“旅行怎么样？”“好极了！”“这回你知道穷人是怎么过日子的了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儿子回答：“我发现咱家里只有一条狗，可是他们家里却有四条狗；咱家仅有一个水池通向花坛的中央，可他们竟有一条望不到头的小河；我们的花园里只有几盏灯，可他们却有满天的星星；还有，我们的院子只有那么一点儿，可他们的院子却有整个农场那么大！”儿子说完，父亲哑口无言。接着儿子又说：“感谢父亲让我明白了我们有多么贫穷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22936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的“儿子”为什么认为自己家贫穷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《穷人》、《一条小面包》和《何为贫穷》这三个故事后，说说你对贫穷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2320"/>
            <a:ext cx="9144000" cy="42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个“哦”的读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“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’，是你！桑娜站起来，不敢抬起眼睛看他。”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啊，是啊，天气坏透了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鱼打得怎么样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206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时是指桑娜还没有想出好办法时，丈夫的出现使他惊讶，“哦”应读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[ò]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表示惊讶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3672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里是桑娜对天气坏和丈夫打渔艰难的理解。“哦”应读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］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表示理解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什么时候？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嗯，你看怎么办？得把他们抱来，同死人呆在一起怎么行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们，我们总能熬过去的！快去！别等他们醒来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620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里是渔夫对桑娜告诉邻居西蒙死了的这一消息感到吃惊。“哦”应读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］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表示吃惊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2926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里看出渔夫在思考这个问题后醒悟而作出决定。“哦”应读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ò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］，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表示下决心醒悟的意思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620640"/>
            <a:ext cx="867564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哦，是你！”桑娜站起来，不敢抬起眼睛看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啊，是啊，天气坏透了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哦，鱼打得怎么样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哦？什么时候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④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嗯，你看怎么办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把他们抱来，同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呆在一起怎么行！哦，我们，我们总能熬过去的！快去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等他们醒来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ò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134136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924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486900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465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68360" y="189000"/>
            <a:ext cx="4392360" cy="1511280"/>
            <a:chOff x="468360" y="189000"/>
            <a:chExt cx="4392360" cy="1511280"/>
          </a:xfrm>
        </p:grpSpPr>
        <p:sp>
          <p:nvSpPr>
            <p:cNvPr id="58" name=""/>
            <p:cNvSpPr/>
            <p:nvPr/>
          </p:nvSpPr>
          <p:spPr>
            <a:xfrm>
              <a:off x="468360" y="189000"/>
              <a:ext cx="3384360" cy="15112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1280" y="547920"/>
              <a:ext cx="388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学指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4360" y="191628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声朗读。边读边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课文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全文是按什么顺序来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全文可以分为几个段落，每段的意思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66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后，回答以上问题进行自学检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260280"/>
            <a:ext cx="806472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初读，感知课文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预习，你知道课文讲了哪些人物？请你按照主次说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220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桑娜、渔夫、西蒙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22000" y="3160800"/>
            <a:ext cx="1172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围绕这三个人物讲了一个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933720"/>
            <a:ext cx="828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课文记叙了渔夫和她的妻子桑娜关心、同情邻居西蒙，在西蒙死后毅然收养了她的两个孤儿的故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4941720"/>
            <a:ext cx="8151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第三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—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）：讲渔夫出海归来，听说西蒙死了，主动提出把西蒙的孩子抱过来抚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9360" y="609480"/>
            <a:ext cx="717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【分段段意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557360"/>
            <a:ext cx="835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第一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）：讲桑娜在海上起风暴的夜晚，焦急等待着出海捕鱼的丈夫归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3141720"/>
            <a:ext cx="8151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第二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—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）：讲桑娜看望生病的邻居西蒙，发现西蒙病死，便把她的两个孩子抱回自己家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333000"/>
            <a:ext cx="835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由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-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然段，读后说说桑娜家的生活给你留下了什么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628640"/>
            <a:ext cx="8353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桑娜的家里很穷，你是从哪里看出来的？画出有关句子，说说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716280"/>
            <a:ext cx="8424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桑娜：用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吃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面包、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着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62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1817"/>
                </a:solidFill>
                <a:latin typeface="黑体"/>
                <a:ea typeface="黑体"/>
              </a:rPr>
              <a:t>海上正起着风暴，外面又黑又冷，在这间渔家的小屋里却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温暖而舒适</a:t>
            </a:r>
            <a:r>
              <a:rPr b="1" lang="zh-CN" sz="3200" spc="-1" strike="noStrike">
                <a:solidFill>
                  <a:srgbClr val="001817"/>
                </a:solidFill>
                <a:latin typeface="黑体"/>
                <a:ea typeface="黑体"/>
              </a:rPr>
              <a:t>。地扫得干干净净，炉子里的火还没有熄，食具在搁板上闪闪发亮。在挂着白色帐子的床上，五个孩子正在海风呼啸声中安静地睡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716280"/>
            <a:ext cx="842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这两个自然段中，你感觉到桑娜是个怎样的人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4720" y="5516640"/>
            <a:ext cx="1582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勤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30:53Z</dcterms:created>
  <dc:creator>MC SYSTEM</dc:creator>
  <dc:description/>
  <dc:language>en-US</dc:language>
  <cp:lastModifiedBy>admin</cp:lastModifiedBy>
  <dcterms:modified xsi:type="dcterms:W3CDTF">2015-01-22T04:02:45Z</dcterms:modified>
  <cp:revision>30</cp:revision>
  <dc:subject/>
  <dc:title>幻灯片 1</dc:title>
</cp:coreProperties>
</file>