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DONGW141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GY.WAV" ContentType="audio/x-wav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EF3-3A58-4066-BE73-43C44D3E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E93-53B9-43F1-ABC1-BF5859C8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FB6-91D1-4F55-8D76-429A28B2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EED-ECC4-4642-98F1-7885284A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947F-723F-4CF5-91E6-FA035D38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D58B-C15B-4816-BD3B-08BF32C9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50B1-DFC5-4632-9D36-8F89DD3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FFD9-BE89-4DDF-BDC7-2039F8C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947E-73EB-426D-A91E-9DB054B6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A24A-E03E-4712-BB0E-B81BCA8B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9129-1E94-4263-96BF-D21687A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4B2-1591-4591-BFFA-F7638995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D222-D74A-4599-B9FB-A0BB9AA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039E-5ABD-4B58-8AF3-82031F8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8F6F-1987-4B6C-9D7E-86D5EFD1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92CE-9BA2-46F3-81D4-8EC2A08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3C1B-9F6B-4ABD-B6F8-C610E4E0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6DD-D06C-4E2E-8119-A6D2140A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672-DAB9-477C-BFB6-DB6CB4BB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AB6-A054-415F-9156-9C6BA03D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972-B7AB-4606-AD54-BD713635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774-EA56-4C96-9F4E-81636FB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3A6-B46B-45C6-9D19-4A4B609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C35-2174-4926-9B8F-6B97292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BFFF-47E7-48E2-B3EB-21F00A89C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B572-D29C-4C87-A552-857CD98D9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xxyw.stedu.net/kjzy/kejian/niao-tiantang.swf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Y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7">
            <a:hlinkClick r:id="rId1"/>
          </p:cNvPr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619280" y="2565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鸟的天堂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鸟的天堂1111"/>
          <p:cNvPicPr/>
          <p:nvPr/>
        </p:nvPicPr>
        <p:blipFill>
          <a:blip r:embed="rId2"/>
          <a:stretch/>
        </p:blipFill>
        <p:spPr>
          <a:xfrm>
            <a:off x="160020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a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39640" y="404640"/>
            <a:ext cx="8231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堆在另一簇上面，不留一点缝隙。那翠绿的颜色，明亮地照耀着我们的眼睛，似乎每一片新的生命在颤动。这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826920" y="260280"/>
            <a:ext cx="7728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另一簇上面，不留一点缝隙。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华文楷体"/>
                <a:ea typeface="华文楷体"/>
              </a:rPr>
              <a:t>那翠绿的颜色，明亮地照耀着我们的眼睛，似乎每一片新的生命在颤动。</a:t>
            </a:r>
            <a:r>
              <a:rPr b="0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热闹了，到处都是鸟声，到处都是鸟影。大的，小的，花的，黑的，有的站在树枝上叫，有的飞起来，有的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26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27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8"/>
          <p:cNvSpPr/>
          <p:nvPr/>
        </p:nvSpPr>
        <p:spPr>
          <a:xfrm>
            <a:off x="0" y="0"/>
            <a:ext cx="9144000" cy="202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热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了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声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影。大的，小的，花的，黑的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站在树枝上叫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飞起来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a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4" descr="a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332000" y="1628640"/>
            <a:ext cx="66992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昨天是我的眼睛骗了我，那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鸟的天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的确是鸟的天堂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609480"/>
            <a:ext cx="7543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鸟的天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田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三百年来榕一章，浓荫十亩鸟千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并肩只许木棉树，立脚长依天马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新枝还比旧枝壮，白鹤能眠灰鹤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历难经灾从不犯，人间毕竟有天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这首诗，是著名剧作家田汉同志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1962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年到新会，游览小鸟天堂时即兴而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G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3960" y="692280"/>
            <a:ext cx="851076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巴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原名李尧堂，字芾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出生于四川成都一个官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主家庭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2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初赴法国留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表了处女作长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要作品有长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激流三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曾任全国文联副主席、中国作家协会主席、全国政协副主席等职，并主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杂志，还首倡建立了中国现代文学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巴金"/>
          <p:cNvPicPr/>
          <p:nvPr/>
        </p:nvPicPr>
        <p:blipFill>
          <a:blip r:embed="rId1"/>
          <a:stretch/>
        </p:blipFill>
        <p:spPr>
          <a:xfrm>
            <a:off x="5940360" y="126828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背景"/>
          <p:cNvPicPr/>
          <p:nvPr/>
        </p:nvPicPr>
        <p:blipFill>
          <a:blip r:embed="rId1"/>
          <a:srcRect l="5364" t="0" r="5809" b="0"/>
          <a:stretch/>
        </p:blipFill>
        <p:spPr>
          <a:xfrm>
            <a:off x="324000" y="620640"/>
            <a:ext cx="8689680" cy="5761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39640" y="790560"/>
            <a:ext cx="8404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鸟的天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的是一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年树龄的古榕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于广东省新会市南部天马村天马河的一座小岛上。榕树的树冠大得出奇，笼罩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亩左右的河面，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木成林。大树上栖息着成千上万只各种各样的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最引人注目的是白鹤和灰麻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巴金到新会访友路过此处，写下了这篇脍炙人口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的天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背景"/>
          <p:cNvPicPr/>
          <p:nvPr/>
        </p:nvPicPr>
        <p:blipFill>
          <a:blip r:embed="rId1"/>
          <a:srcRect l="5364" t="0" r="5809" b="0"/>
          <a:stretch/>
        </p:blipFill>
        <p:spPr>
          <a:xfrm>
            <a:off x="22320" y="1709640"/>
            <a:ext cx="9121680" cy="4969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539640" y="1879560"/>
            <a:ext cx="84582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榕树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绿乔木，一般生活在热带和亚热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冠大，叶互生，椭圆形或卵形，隐花果，初为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色，熟时是紫红或淡黄色。榕树的枝干常常会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出许多“气根”，这些气根多数直达地面，扎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起吸收养分和支持树枝的作用。直立的气根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树干，从远处望去就像一片树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返回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8640" y="6165720"/>
            <a:ext cx="1809720" cy="56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900000" y="2565360"/>
            <a:ext cx="7239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巴金爷爷几次经过鸟的天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经过鸟的天堂后分别在课文中给我们描写了什么样的景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我会猜"/>
          <p:cNvPicPr/>
          <p:nvPr/>
        </p:nvPicPr>
        <p:blipFill>
          <a:blip r:embed="rId2"/>
          <a:stretch/>
        </p:blipFill>
        <p:spPr>
          <a:xfrm>
            <a:off x="998640" y="560520"/>
            <a:ext cx="1295280" cy="12016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2433600" y="109224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书思考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14240" y="1811160"/>
            <a:ext cx="6782040" cy="7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900000" y="620640"/>
            <a:ext cx="77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一株大树，枝干的数目不可计数。枝上又生根，有许多根直垂到地上，伸进泥土里。一部分树枝垂到水面，从远处看，就像一株大树卧在水面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55640" y="98100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一株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大树，枝干的数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不可计数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枝上又生根，有许多根直垂到地上，伸进泥土里。一部分树枝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垂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到水面，从远处看，就像一株大树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卧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水面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柳树"/>
          <p:cNvPicPr/>
          <p:nvPr/>
        </p:nvPicPr>
        <p:blipFill>
          <a:blip r:embed="rId2"/>
          <a:stretch/>
        </p:blipFill>
        <p:spPr>
          <a:xfrm>
            <a:off x="533520" y="228600"/>
            <a:ext cx="3606840" cy="293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松树"/>
          <p:cNvPicPr/>
          <p:nvPr/>
        </p:nvPicPr>
        <p:blipFill>
          <a:blip r:embed="rId3"/>
          <a:stretch/>
        </p:blipFill>
        <p:spPr>
          <a:xfrm>
            <a:off x="5334120" y="228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独木成林"/>
          <p:cNvPicPr/>
          <p:nvPr/>
        </p:nvPicPr>
        <p:blipFill>
          <a:blip r:embed="rId4"/>
          <a:stretch/>
        </p:blipFill>
        <p:spPr>
          <a:xfrm>
            <a:off x="1752480" y="3521160"/>
            <a:ext cx="5029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5:04:30Z</dcterms:created>
  <dc:creator/>
  <dc:description/>
  <dc:language>en-US</dc:language>
  <cp:lastModifiedBy>luo fang</cp:lastModifiedBy>
  <dcterms:modified xsi:type="dcterms:W3CDTF">2011-09-05T14:43:20Z</dcterms:modified>
  <cp:revision>29</cp:revision>
  <dc:subject/>
  <dc:title>幻灯片 1</dc:title>
</cp:coreProperties>
</file>