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666-7D12-4FBF-9DFE-99D59BBF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166-BCF2-443A-BFF5-662C7E9D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030-FD45-411D-ADEA-B24A1B0C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CA3-67AC-464C-A064-D2B9D0BB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985-5062-479E-A251-10040D15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259-BC15-4C12-A48F-BAE4871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512-7688-4452-9E26-3BE368BA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DD6-A1EE-45FF-9EAD-EF1DFF80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E2A-8D28-4797-8FF8-60AD7801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65B-B1BF-4293-92BE-CF066D8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D8B-F70F-4BF7-B658-E58F2290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040-1B6A-47B0-8A12-DCC62AB4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51B8-709A-4DFD-9B1D-B5104909B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3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084720" y="1413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给予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280" y="1197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还记得金吉娅在圣诞节前做了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6d75ea57ab3073a1bb6d22941477c5a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0"/>
          <p:cNvSpPr txBox="1"/>
          <p:nvPr/>
        </p:nvSpPr>
        <p:spPr>
          <a:xfrm>
            <a:off x="971640" y="1844640"/>
            <a:ext cx="734544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快乐的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50133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给予在这里是指能够帮助别人，为别人付出劳动，作出奉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152360" y="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教新课标四年级语文上册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19700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从这件事，保罗懂得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42920" y="4437000"/>
            <a:ext cx="7561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令人快乐的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71720" y="22147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讨论：为什么给予是令人快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143000" y="10000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们三个人一起过了一个难忘的夜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00080" y="30002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想想、说说：这个夜晚他们是怎样度过的？为什么这个夜晚对他们三个人来说都是难忘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95280" y="119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2133720"/>
            <a:ext cx="84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本课以后，我知道，保罗的哥哥因为（     ）而感到快乐，小男孩因为（     ）而感到快乐，保罗因为（     ）而感到快乐，我也曾经因为（     ）而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28760" y="107172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如果你不管在什么时候，什么地方，留给人们的都是美好的东西，像鲜花啦，好的思想啦，还有对你的美好回忆啦，那你的生活该有多么愉快啊！那时候，你会感到所有的人都需要你。要知道，给，永远比拿愉快。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高尔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7120" y="329292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生命的意义在于付出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在于给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而不是在于接受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也不是在于争取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297520" y="5083560"/>
            <a:ext cx="477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的价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当看他贡献了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应当看他取得了什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──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2400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拓展延伸：名人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71640" y="14324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活着就是要给我们生活中的社会添上一点光彩。这样我们的生命才会开放。一心为自己，一生安慰自己的人什么也得不到。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43146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的生命是有限的，为人民服务是无限的。我要把有限的生命，投入到无限的为人民服务。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9810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自由读课文：画出课文中的生字词，并在生字上注音，读准生字的音，特别注意读准其中的前鼻音和三拼音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00000" y="3357720"/>
            <a:ext cx="446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87280" y="2349360"/>
            <a:ext cx="22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给予  炫耀  羡慕  宽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神气  轿车  喜悦  湿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橱窗  残疾  圣诞  兜一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饶有兴趣      不由自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492360" y="2349360"/>
            <a:ext cx="48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默读，思考：课文写了保罗和小男孩的几次对话？分别是在什么时候发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87280" y="11253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看车时         坐车时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000680" y="12859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在这两次对话过程中保罗和小男孩想得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57120" y="114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为男孩希望也有一个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男孩却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希望自己也能当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28760" y="2357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保罗微微一笑，他理解男孩的想法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坐一辆又大又漂亮的车子回家，在小朋友的面前是很神气的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但是，保罗又错了。他指着保罗的车，说：“看见了吗？很漂亮，对不对？这是他哥哥送给他的圣诞礼物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将来，我也要送你一辆这样的新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4122016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76360" y="5445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从哪几个方面写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28760" y="2143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的哥哥把新轿车给予保罗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男孩要把欢乐给予弟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把自己的欢乐给予小男孩和他的弟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他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476360" y="44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我希望自己也能当这样的哥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981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47640" y="2205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小男孩一心只想着给予而不是获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28800" y="8571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他指着保罗的车，说：“看见了吗？很漂亮，对不对？这是他哥哥送给他的圣诞礼物。将来，我也要送你一辆这样的新车。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19280" y="51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又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男孩要把快乐给予弟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6:30:32Z</dcterms:modified>
  <cp:revision>44</cp:revision>
  <dc:subject/>
  <dc:title>幻灯片 1</dc:title>
</cp:coreProperties>
</file>