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4706-D7CC-4E16-B5A8-A7289059C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AAFE-078A-47C3-B356-446D55E8A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250F-D37A-4658-9FE6-2E68A1DAF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9250-20DB-499E-8994-213684B64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3C50-1D34-4E01-9AFC-963AEBF61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7BF5-640F-4B75-BD7A-7B3CD25D7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4B8D-167E-423B-96DE-F254DDAC0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AC14-F7D1-43A5-818A-C3DB88905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C8CA-AF9C-4C28-8B7C-D02B3FAE3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B385-7BEA-4A8B-8A80-620C338B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B398-76B8-41CD-8901-32255266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D053-D4C6-461B-91F2-EE7423E8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0D323-2E05-4110-9501-14AC78470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43b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6084720" y="1413000"/>
            <a:ext cx="288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Arial"/>
                <a:ea typeface="黑体"/>
              </a:rPr>
              <a:t>给予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79280" y="1197000"/>
            <a:ext cx="302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还记得金吉娅在圣诞节前做了什么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6d75ea57ab3073a1bb6d22941477c5a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WordArt 10"/>
          <p:cNvSpPr txBox="1"/>
          <p:nvPr/>
        </p:nvSpPr>
        <p:spPr>
          <a:xfrm>
            <a:off x="971640" y="1844640"/>
            <a:ext cx="7345440" cy="281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给予是快乐的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0" y="5013360"/>
            <a:ext cx="889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"/>
                <a:ea typeface="黑体"/>
              </a:rPr>
              <a:t>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给予在这里是指能够帮助别人，为别人付出劳动，作出奉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2"/>
          <p:cNvSpPr/>
          <p:nvPr/>
        </p:nvSpPr>
        <p:spPr>
          <a:xfrm>
            <a:off x="1152360" y="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人教新课标四年级语文上册第六单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826920" y="1197000"/>
            <a:ext cx="67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从这件事，保罗懂得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WordArt 3"/>
          <p:cNvSpPr txBox="1"/>
          <p:nvPr/>
        </p:nvSpPr>
        <p:spPr>
          <a:xfrm>
            <a:off x="1042920" y="4437000"/>
            <a:ext cx="7561440" cy="14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给予是令人快乐的。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1071720" y="2214720"/>
            <a:ext cx="69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讨论：为什么给予是令人快乐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1143000" y="100008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他们三个人一起过了一个难忘的夜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1000080" y="300024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想想、说说：这个夜晚他们是怎样度过的？为什么这个夜晚对他们三个人来说都是难忘的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3"/>
          <p:cNvSpPr/>
          <p:nvPr/>
        </p:nvSpPr>
        <p:spPr>
          <a:xfrm>
            <a:off x="395280" y="119700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总结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250920" y="2133720"/>
            <a:ext cx="846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学习本课以后，我知道，保罗的哥哥因为（     ）而感到快乐，小男孩因为（     ）而感到快乐，保罗因为（     ）而感到快乐，我也曾经因为（     ）而感到快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3"/>
          <p:cNvSpPr/>
          <p:nvPr/>
        </p:nvSpPr>
        <p:spPr>
          <a:xfrm>
            <a:off x="428760" y="1071720"/>
            <a:ext cx="844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9900"/>
                </a:solidFill>
                <a:latin typeface="黑体"/>
                <a:ea typeface="黑体"/>
              </a:rPr>
              <a:t>如果你不管在什么时候，什么地方，留给人们的都是美好的东西，像鲜花啦，好的思想啦，还有对你的美好回忆啦，那你的生活该有多么愉快啊！那时候，你会感到所有的人都需要你。要知道，给，永远比拿愉快。                  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ff9900"/>
                </a:solidFill>
                <a:latin typeface="黑体"/>
                <a:ea typeface="黑体"/>
              </a:rPr>
              <a:t>高尔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357120" y="3292920"/>
            <a:ext cx="8286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生命的意义在于付出</a:t>
            </a: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在于给予</a:t>
            </a: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而不是在于接受</a:t>
            </a: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也不是在于争取。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黑体"/>
              </a:rPr>
              <a:t>          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黑体"/>
              </a:rPr>
              <a:t>       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黑体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  <a:ea typeface="黑体"/>
              </a:rPr>
              <a:t>                                                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──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巴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2297520" y="5083560"/>
            <a:ext cx="477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个人的价值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应当看他贡献了什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而不应当看他取得了什么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     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               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      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──爱因斯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324000" y="40464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拓展延伸：名人名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6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1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971640" y="143244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人活着就是要给我们生活中的社会添上一点光彩。这样我们的生命才会开放。一心为自己，一生安慰自己的人什么也得不到。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巴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785880" y="431460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人的生命是有限的，为人民服务是无限的。我要把有限的生命，投入到无限的为人民服务。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雷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24000" y="981000"/>
            <a:ext cx="79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ff"/>
                </a:solidFill>
                <a:latin typeface="Arial"/>
                <a:ea typeface="黑体"/>
              </a:rPr>
              <a:t>       </a:t>
            </a:r>
            <a:r>
              <a:rPr b="1" lang="zh-CN" sz="6000" spc="-1" strike="noStrike">
                <a:solidFill>
                  <a:srgbClr val="3333ff"/>
                </a:solidFill>
                <a:latin typeface="Arial"/>
                <a:ea typeface="黑体"/>
              </a:rPr>
              <a:t>自由读课文：画出课文中的生字词，并在生字上注音，读准生字的音，特别注意读准其中的前鼻音和三拼音。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900000" y="3357720"/>
            <a:ext cx="446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1187280" y="2349360"/>
            <a:ext cx="2232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我会读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4978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Arial"/>
              </a:rPr>
              <a:t>给予  炫耀  羡慕  宽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Arial"/>
              </a:rPr>
              <a:t>神气  轿车  喜悦  湿润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Arial"/>
              </a:rPr>
              <a:t>橱窗  残疾  圣诞  兜一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Arial"/>
              </a:rPr>
              <a:t>饶有兴趣      不由自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3492360" y="2349360"/>
            <a:ext cx="489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黑体"/>
              </a:rPr>
              <a:t>      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默读，思考：课文写了保罗和小男孩的几次对话？分别是在什么时候发生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1187280" y="1125360"/>
            <a:ext cx="280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黑体"/>
                <a:ea typeface="黑体"/>
              </a:rPr>
              <a:t>看车时         坐车时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4000680" y="128592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在这两次对话过程中保罗和小男孩想得一样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7"/>
          <p:cNvSpPr/>
          <p:nvPr/>
        </p:nvSpPr>
        <p:spPr>
          <a:xfrm>
            <a:off x="357120" y="114300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罗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以为男孩希望也有一个这样的哥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男孩却说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希望自己也能当这样的哥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428760" y="235728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保罗微微一笑，他理解男孩的想法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坐一辆又大又漂亮的车子回家，在小朋友的面前是很神气的事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但是，保罗又错了。他指着保罗的车，说：“看见了吗？很漂亮，对不对？这是他哥哥送给他的圣诞礼物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将来，我也要送你一辆这样的新车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到那时候，你就可以坐在车里，亲眼看看我跟你讲的那些好看的圣诞礼物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2004122016435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1476360" y="5445000"/>
            <a:ext cx="61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课文从哪几个方面写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给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428760" y="214308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保罗的哥哥把新轿车给予保罗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小男孩要把欢乐给予弟弟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保罗把自己的欢乐给予小男孩和他的弟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6" descr="他"/>
          <p:cNvPicPr/>
          <p:nvPr/>
        </p:nvPicPr>
        <p:blipFill>
          <a:blip r:embed="rId1"/>
          <a:stretch/>
        </p:blipFill>
        <p:spPr>
          <a:xfrm>
            <a:off x="0" y="0"/>
            <a:ext cx="9144000" cy="69501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2"/>
          <p:cNvSpPr/>
          <p:nvPr/>
        </p:nvSpPr>
        <p:spPr>
          <a:xfrm>
            <a:off x="1476360" y="4437000"/>
            <a:ext cx="31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9933ff"/>
                </a:solidFill>
                <a:latin typeface="黑体"/>
                <a:ea typeface="黑体"/>
              </a:rPr>
              <a:t>我希望自己也能当这样的哥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900000" y="981000"/>
            <a:ext cx="48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读读想想：你体会到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1547640" y="2205000"/>
            <a:ext cx="37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黑体"/>
              </a:rPr>
              <a:t>小男孩一心只想着给予而不是获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928800" y="857160"/>
            <a:ext cx="76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黑体"/>
              </a:rPr>
              <a:t>他指着保罗的车，说：“看见了吗？很漂亮，对不对？这是他哥哥送给他的圣诞礼物。将来，我也要送你一辆这样的新车。到那时候，你就可以坐在车里，亲眼看看我跟你讲的那些好看的圣诞礼物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1619280" y="515772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读读想想：你又体会到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684360" y="4221000"/>
            <a:ext cx="56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黑体"/>
              </a:rPr>
              <a:t>男孩要把快乐给予弟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guibin</dc:creator>
  <dc:description/>
  <dc:language>en-US</dc:language>
  <cp:lastModifiedBy>Administrator</cp:lastModifiedBy>
  <dcterms:modified xsi:type="dcterms:W3CDTF">2015-01-22T06:30:32Z</dcterms:modified>
  <cp:revision>44</cp:revision>
  <dc:subject/>
  <dc:title>幻灯片 1</dc:title>
</cp:coreProperties>
</file>