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A5E-6FA0-4E72-9E80-358B4112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9AD-F5BF-4ED4-A412-10430431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51F-67ED-4F22-93F3-56625A2F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25E-2232-4932-B896-8BC1E24F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F56-4EB7-4057-82BF-6BE31DDB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65F-75B0-4D24-A4A6-5505080E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761-9296-40D3-AA7D-B5D31DFC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4E2-A530-42CF-9F54-A4E85CB2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4A3-D3EB-4AF5-98CE-5BF00E2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B9E-2598-443F-95DD-EA7F421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C8D-05B3-48FB-A81C-76529DB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F45-0BC2-4617-A2B9-9148E993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729-99F1-45E8-8405-00CF4FBF5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3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084720" y="1413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给予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197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还记得金吉娅在圣诞节前做了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6d75ea57ab3073a1bb6d22941477c5a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0"/>
          <p:cNvSpPr txBox="1"/>
          <p:nvPr/>
        </p:nvSpPr>
        <p:spPr>
          <a:xfrm>
            <a:off x="971640" y="1844640"/>
            <a:ext cx="734544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快乐的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501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给予在这里是指能够帮助别人，为别人付出劳动，作出奉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152360" y="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教新课标四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19700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从这件事，保罗懂得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42920" y="4437000"/>
            <a:ext cx="7561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令人快乐的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71720" y="22147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讨论：为什么给予是令人快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143000" y="10000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00080" y="30002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想想、说说：这个夜晚他们是怎样度过的？为什么这个夜晚对他们三个人来说都是难忘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95280" y="119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2133720"/>
            <a:ext cx="84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本课以后，我知道，保罗的哥哥因为（     ）而感到快乐，小男孩因为（     ）而感到快乐，保罗因为（     ）而感到快乐，我也曾经因为（     ）而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07172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如果你不管在什么时候，什么地方，留给人们的都是美好的东西，像鲜花啦，好的思想啦，还有对你的美好回忆啦，那你的生活该有多么愉快啊！那时候，你会感到所有的人都需要你。要知道，给，永远比拿愉快。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高尔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7120" y="329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生命的意义在于付出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在于给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而不是在于接受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也不是在于争取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297520" y="5083560"/>
            <a:ext cx="477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的价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当看他贡献了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应当看他取得了什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──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延伸：名人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71640" y="14324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活着就是要给我们生活中的社会添上一点光彩。这样我们的生命才会开放。一心为自己，一生安慰自己的人什么也得不到。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43146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的生命是有限的，为人民服务是无限的。我要把有限的生命，投入到无限的为人民服务。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981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自由读课文：画出课文中的生字词，并在生字上注音，读准生字的音，特别注意读准其中的前鼻音和三拼音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00000" y="335772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87280" y="2349360"/>
            <a:ext cx="22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给予  炫耀  羡慕  宽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神气  轿车  喜悦  湿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橱窗  残疾  圣诞  兜一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饶有兴趣      不由自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492360" y="234936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默读，思考：课文写了保罗和小男孩的几次对话？分别是在什么时候发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87280" y="1125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看车时         坐车时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00680" y="1285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这两次对话过程中保罗和小男孩想得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57120" y="114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为男孩希望也有一个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男孩却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自己也能当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28760" y="2357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保罗微微一笑，他理解男孩的想法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坐一辆又大又漂亮的车子回家，在小朋友的面前是很神气的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但是，保罗又错了。他指着保罗的车，说：“看见了吗？很漂亮，对不对？这是他哥哥送给他的圣诞礼物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将来，我也要送你一辆这样的新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4122016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76360" y="5445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从哪几个方面写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28760" y="2143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的哥哥把新轿车给予保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男孩要把欢乐给予弟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把自己的欢乐给予小男孩和他的弟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他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476360" y="44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我希望自己也能当这样的哥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981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2205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小男孩一心只想着给予而不是获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28800" y="8571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他指着保罗的车，说：“看见了吗？很漂亮，对不对？这是他哥哥送给他的圣诞礼物。将来，我也要送你一辆这样的新车。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19280" y="51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又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男孩要把快乐给予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6:30:32Z</dcterms:modified>
  <cp:revision>44</cp:revision>
  <dc:subject/>
  <dc:title>幻灯片 1</dc:title>
</cp:coreProperties>
</file>