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7E082-F4AA-4FAF-A594-F94420B59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EE14F-827B-4D61-99BD-2E0DEE295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FD66A-1F43-4A50-BB3A-205DD2AD3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444E2-D964-4460-B01D-C6814D784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5F2B4-E9DE-445B-9B6A-A18DBCC7E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ADEE7-46DF-45E8-8D64-13FAFC27F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B1A94-9500-4CC0-B908-92448A792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45B18-EF75-4CF4-9F3A-FEB944E79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472E9-193C-438A-BF1B-BDE969850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F4DC0-20AE-44B6-ACFD-2189F1A61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16824-CC10-4928-A8CD-116E0D233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47EA3-76C5-4B12-97F8-88632AADE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78CA0-FBBF-4F03-B846-72684E6FBB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43b"/>
          <p:cNvPicPr/>
          <p:nvPr/>
        </p:nvPicPr>
        <p:blipFill>
          <a:blip r:embed="rId1"/>
          <a:stretch/>
        </p:blipFill>
        <p:spPr>
          <a:xfrm>
            <a:off x="0" y="836640"/>
            <a:ext cx="9144000" cy="6021360"/>
          </a:xfrm>
          <a:prstGeom prst="rect">
            <a:avLst/>
          </a:prstGeom>
          <a:ln w="0">
            <a:noFill/>
          </a:ln>
        </p:spPr>
      </p:pic>
      <p:sp>
        <p:nvSpPr>
          <p:cNvPr id="42" name="Text Box 5"/>
          <p:cNvSpPr/>
          <p:nvPr/>
        </p:nvSpPr>
        <p:spPr>
          <a:xfrm>
            <a:off x="6084720" y="1413000"/>
            <a:ext cx="2880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333ff"/>
                </a:solidFill>
                <a:latin typeface="Arial"/>
                <a:ea typeface="黑体"/>
              </a:rPr>
              <a:t>给予树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6"/>
          <p:cNvSpPr/>
          <p:nvPr/>
        </p:nvSpPr>
        <p:spPr>
          <a:xfrm>
            <a:off x="179280" y="1197000"/>
            <a:ext cx="3024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  <a:ea typeface="黑体"/>
              </a:rPr>
              <a:t>       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  <a:ea typeface="黑体"/>
              </a:rPr>
              <a:t>还记得金吉娅在圣诞节前做了什么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8" descr="6d75ea57ab3073a1bb6d22941477c5a5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WordArt 10"/>
          <p:cNvSpPr txBox="1"/>
          <p:nvPr/>
        </p:nvSpPr>
        <p:spPr>
          <a:xfrm>
            <a:off x="971640" y="1844640"/>
            <a:ext cx="7345440" cy="2816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Top">
              <a:avLst>
                <a:gd name="adj" fmla="val 4675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给予是快乐的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6" name="Text Box 11"/>
          <p:cNvSpPr/>
          <p:nvPr/>
        </p:nvSpPr>
        <p:spPr>
          <a:xfrm>
            <a:off x="0" y="5013360"/>
            <a:ext cx="889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33"/>
                </a:solidFill>
                <a:latin typeface="Arial"/>
                <a:ea typeface="黑体"/>
              </a:rPr>
              <a:t>          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黑体"/>
              </a:rPr>
              <a:t>给予在这里是指能够帮助别人，为别人付出劳动，作出奉献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2"/>
          <p:cNvSpPr/>
          <p:nvPr/>
        </p:nvSpPr>
        <p:spPr>
          <a:xfrm>
            <a:off x="1152360" y="0"/>
            <a:ext cx="359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人教新课标四年级语文上册第六单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2"/>
          <p:cNvSpPr/>
          <p:nvPr/>
        </p:nvSpPr>
        <p:spPr>
          <a:xfrm>
            <a:off x="826920" y="1197000"/>
            <a:ext cx="673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  <a:ea typeface="黑体"/>
              </a:rPr>
              <a:t>从这件事，保罗懂得了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WordArt 3"/>
          <p:cNvSpPr txBox="1"/>
          <p:nvPr/>
        </p:nvSpPr>
        <p:spPr>
          <a:xfrm>
            <a:off x="1042920" y="4437000"/>
            <a:ext cx="7561440" cy="1411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给予是令人快乐的。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70" name="Text Box 5"/>
          <p:cNvSpPr/>
          <p:nvPr/>
        </p:nvSpPr>
        <p:spPr>
          <a:xfrm>
            <a:off x="1071720" y="2214720"/>
            <a:ext cx="698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讨论：为什么给予是令人快乐的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7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7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7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7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3"/>
          <p:cNvSpPr/>
          <p:nvPr/>
        </p:nvSpPr>
        <p:spPr>
          <a:xfrm>
            <a:off x="1143000" y="1000080"/>
            <a:ext cx="655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他们三个人一起过了一个难忘的夜晚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4"/>
          <p:cNvSpPr/>
          <p:nvPr/>
        </p:nvSpPr>
        <p:spPr>
          <a:xfrm>
            <a:off x="1000080" y="3000240"/>
            <a:ext cx="698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33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想想、说说：这个夜晚他们是怎样度过的？为什么这个夜晚对他们三个人来说都是难忘的？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2" dur="80"/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3" dur="80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4" dur="80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3"/>
          <p:cNvSpPr/>
          <p:nvPr/>
        </p:nvSpPr>
        <p:spPr>
          <a:xfrm>
            <a:off x="395280" y="1197000"/>
            <a:ext cx="180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总结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4"/>
          <p:cNvSpPr/>
          <p:nvPr/>
        </p:nvSpPr>
        <p:spPr>
          <a:xfrm>
            <a:off x="250920" y="2133720"/>
            <a:ext cx="8464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学习本课以后，我知道，保罗的哥哥因为（     ）而感到快乐，小男孩因为（     ）而感到快乐，保罗因为（     ）而感到快乐，我也曾经因为（     ）而感到快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9" dur="80"/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0" dur="80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1" dur="80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6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3"/>
          <p:cNvSpPr/>
          <p:nvPr/>
        </p:nvSpPr>
        <p:spPr>
          <a:xfrm>
            <a:off x="428760" y="1071720"/>
            <a:ext cx="844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ff9900"/>
                </a:solidFill>
                <a:latin typeface="黑体"/>
                <a:ea typeface="黑体"/>
              </a:rPr>
              <a:t>如果你不管在什么时候，什么地方，留给人们的都是美好的东西，像鲜花啦，好的思想啦，还有对你的美好回忆啦，那你的生活该有多么愉快啊！那时候，你会感到所有的人都需要你。要知道，给，永远比拿愉快。                     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  <a:ea typeface="黑体"/>
              </a:rPr>
              <a:t>——</a:t>
            </a:r>
            <a:r>
              <a:rPr b="1" lang="zh-CN" sz="2800" spc="-1" strike="noStrike">
                <a:solidFill>
                  <a:srgbClr val="ff9900"/>
                </a:solidFill>
                <a:latin typeface="黑体"/>
                <a:ea typeface="黑体"/>
              </a:rPr>
              <a:t>高尔基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4"/>
          <p:cNvSpPr/>
          <p:nvPr/>
        </p:nvSpPr>
        <p:spPr>
          <a:xfrm>
            <a:off x="357120" y="3292920"/>
            <a:ext cx="82868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ff00ff"/>
                </a:solidFill>
                <a:latin typeface="黑体"/>
                <a:ea typeface="黑体"/>
              </a:rPr>
              <a:t>生命的意义在于付出</a:t>
            </a:r>
            <a:r>
              <a:rPr b="1" lang="en-US" sz="3200" spc="-1" strike="noStrike">
                <a:solidFill>
                  <a:srgbClr val="ff00ff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ff00ff"/>
                </a:solidFill>
                <a:latin typeface="黑体"/>
                <a:ea typeface="黑体"/>
              </a:rPr>
              <a:t>在于给予</a:t>
            </a:r>
            <a:r>
              <a:rPr b="1" lang="en-US" sz="3200" spc="-1" strike="noStrike">
                <a:solidFill>
                  <a:srgbClr val="ff00ff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ff00ff"/>
                </a:solidFill>
                <a:latin typeface="黑体"/>
                <a:ea typeface="黑体"/>
              </a:rPr>
              <a:t>而不是在于接受</a:t>
            </a:r>
            <a:r>
              <a:rPr b="1" lang="en-US" sz="3200" spc="-1" strike="noStrike">
                <a:solidFill>
                  <a:srgbClr val="ff00ff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ff00ff"/>
                </a:solidFill>
                <a:latin typeface="黑体"/>
                <a:ea typeface="黑体"/>
              </a:rPr>
              <a:t>也不是在于争取。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  <a:ea typeface="黑体"/>
              </a:rPr>
              <a:t>          </a:t>
            </a:r>
            <a:r>
              <a:rPr b="1" lang="zh-CN" sz="3200" spc="-1" strike="noStrike">
                <a:solidFill>
                  <a:srgbClr val="ff00ff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  <a:ea typeface="黑体"/>
              </a:rPr>
              <a:t>       </a:t>
            </a:r>
            <a:r>
              <a:rPr b="1" lang="zh-CN" sz="3200" spc="-1" strike="noStrike">
                <a:solidFill>
                  <a:srgbClr val="ff00ff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  <a:ea typeface="黑体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Arial"/>
                <a:ea typeface="黑体"/>
              </a:rPr>
              <a:t>                                                </a:t>
            </a:r>
            <a:r>
              <a:rPr b="1" lang="zh-CN" sz="3200" spc="-1" strike="noStrike">
                <a:solidFill>
                  <a:srgbClr val="ff00ff"/>
                </a:solidFill>
                <a:latin typeface="黑体"/>
                <a:ea typeface="黑体"/>
              </a:rPr>
              <a:t>──</a:t>
            </a:r>
            <a:r>
              <a:rPr b="1" lang="zh-CN" sz="3200" spc="-1" strike="noStrike">
                <a:solidFill>
                  <a:srgbClr val="ff00ff"/>
                </a:solidFill>
                <a:latin typeface="黑体"/>
                <a:ea typeface="黑体"/>
              </a:rPr>
              <a:t>巴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5"/>
          <p:cNvSpPr/>
          <p:nvPr/>
        </p:nvSpPr>
        <p:spPr>
          <a:xfrm>
            <a:off x="2297520" y="5083560"/>
            <a:ext cx="4772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一个人的价值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应当看他贡献了什么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而不应当看他取得了什么。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      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 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                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       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──爱因斯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7"/>
          <p:cNvSpPr/>
          <p:nvPr/>
        </p:nvSpPr>
        <p:spPr>
          <a:xfrm>
            <a:off x="324000" y="404640"/>
            <a:ext cx="568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拓展延伸：名人名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3" dur="80"/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4" dur="80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5" dur="80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4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46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51" dur="5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6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9" dur="5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2"/>
          <p:cNvSpPr/>
          <p:nvPr/>
        </p:nvSpPr>
        <p:spPr>
          <a:xfrm>
            <a:off x="971640" y="1432440"/>
            <a:ext cx="73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人活着就是要给我们生活中的社会添上一点光彩。这样我们的生命才会开放。一心为自己，一生安慰自己的人什么也得不到。   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黑体"/>
              </a:rPr>
              <a:t>——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巴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3"/>
          <p:cNvSpPr/>
          <p:nvPr/>
        </p:nvSpPr>
        <p:spPr>
          <a:xfrm>
            <a:off x="785880" y="4314600"/>
            <a:ext cx="7345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人的生命是有限的，为人民服务是无限的。我要把有限的生命，投入到无限的为人民服务。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雷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324000" y="981000"/>
            <a:ext cx="7920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ff"/>
                </a:solidFill>
                <a:latin typeface="Arial"/>
                <a:ea typeface="黑体"/>
              </a:rPr>
              <a:t>       </a:t>
            </a:r>
            <a:r>
              <a:rPr b="1" lang="zh-CN" sz="6000" spc="-1" strike="noStrike">
                <a:solidFill>
                  <a:srgbClr val="3333ff"/>
                </a:solidFill>
                <a:latin typeface="Arial"/>
                <a:ea typeface="黑体"/>
              </a:rPr>
              <a:t>自由读课文：画出课文中的生字词，并在生字上注音，读准生字的音，特别注意读准其中的前鼻音和三拼音。</a:t>
            </a: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9"/>
          <p:cNvSpPr/>
          <p:nvPr/>
        </p:nvSpPr>
        <p:spPr>
          <a:xfrm>
            <a:off x="900000" y="3357720"/>
            <a:ext cx="4464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0"/>
          <p:cNvSpPr/>
          <p:nvPr/>
        </p:nvSpPr>
        <p:spPr>
          <a:xfrm>
            <a:off x="1187280" y="2349360"/>
            <a:ext cx="2232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5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7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" dur="80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" dur="80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" dur="80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我会读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50560" y="1125000"/>
            <a:ext cx="8497800" cy="49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333ff"/>
                </a:solidFill>
                <a:latin typeface="Arial"/>
              </a:rPr>
              <a:t>给予  炫耀  羡慕  宽裕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333ff"/>
                </a:solidFill>
                <a:latin typeface="Arial"/>
              </a:rPr>
              <a:t>神气  轿车  喜悦  湿润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333ff"/>
                </a:solidFill>
                <a:latin typeface="Arial"/>
              </a:rPr>
              <a:t>橱窗  残疾  圣诞  兜一圈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333ff"/>
                </a:solidFill>
                <a:latin typeface="Arial"/>
              </a:rPr>
              <a:t>饶有兴趣      不由自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4"/>
          <p:cNvSpPr/>
          <p:nvPr/>
        </p:nvSpPr>
        <p:spPr>
          <a:xfrm>
            <a:off x="3492360" y="2349360"/>
            <a:ext cx="4896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Arial"/>
                <a:ea typeface="黑体"/>
              </a:rPr>
              <a:t>        </a:t>
            </a:r>
            <a:r>
              <a:rPr b="1" lang="zh-CN" sz="4000" spc="-1" strike="noStrike">
                <a:solidFill>
                  <a:srgbClr val="3333ff"/>
                </a:solidFill>
                <a:latin typeface="Arial"/>
                <a:ea typeface="黑体"/>
              </a:rPr>
              <a:t>默读，思考：课文写了保罗和小男孩的几次对话？分别是在什么时候发生的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6"/>
          <p:cNvSpPr/>
          <p:nvPr/>
        </p:nvSpPr>
        <p:spPr>
          <a:xfrm>
            <a:off x="1187280" y="1125360"/>
            <a:ext cx="2808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ff"/>
                </a:solidFill>
                <a:latin typeface="黑体"/>
                <a:ea typeface="黑体"/>
              </a:rPr>
              <a:t>看车时         坐车时</a:t>
            </a: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7"/>
          <p:cNvSpPr/>
          <p:nvPr/>
        </p:nvSpPr>
        <p:spPr>
          <a:xfrm>
            <a:off x="4000680" y="1285920"/>
            <a:ext cx="46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3333ff"/>
                </a:solidFill>
                <a:latin typeface="黑体"/>
                <a:ea typeface="黑体"/>
              </a:rPr>
              <a:t>在这两次对话过程中保罗和小男孩想得一样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0" dur="80"/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1" dur="80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" dur="80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7"/>
          <p:cNvSpPr/>
          <p:nvPr/>
        </p:nvSpPr>
        <p:spPr>
          <a:xfrm>
            <a:off x="357120" y="1143000"/>
            <a:ext cx="813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保罗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以为男孩希望也有一个这样的哥哥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男孩却说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我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希望自己也能当这样的哥哥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8"/>
          <p:cNvSpPr/>
          <p:nvPr/>
        </p:nvSpPr>
        <p:spPr>
          <a:xfrm>
            <a:off x="428760" y="2357280"/>
            <a:ext cx="842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保罗微微一笑，他理解男孩的想法：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坐一辆又大又漂亮的车子回家，在小朋友的面前是很神气的事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但是，保罗又错了。他指着保罗的车，说：“看见了吗？很漂亮，对不对？这是他哥哥送给他的圣诞礼物。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将来，我也要送你一辆这样的新车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到那时候，你就可以坐在车里，亲眼看看我跟你讲的那些好看的圣诞礼物了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4" descr="2004122016435"/>
          <p:cNvPicPr/>
          <p:nvPr/>
        </p:nvPicPr>
        <p:blipFill>
          <a:blip r:embed="rId1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59" name="Text Box 5"/>
          <p:cNvSpPr/>
          <p:nvPr/>
        </p:nvSpPr>
        <p:spPr>
          <a:xfrm>
            <a:off x="1476360" y="5445000"/>
            <a:ext cx="619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课文从哪几个方面写了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给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？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2"/>
          <p:cNvSpPr/>
          <p:nvPr/>
        </p:nvSpPr>
        <p:spPr>
          <a:xfrm>
            <a:off x="428760" y="2143080"/>
            <a:ext cx="7848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保罗的哥哥把新轿车给予保罗</a:t>
            </a:r>
            <a:br>
              <a:rPr sz="3200"/>
            </a:b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小男孩要把欢乐给予弟弟</a:t>
            </a:r>
            <a:br>
              <a:rPr sz="3200"/>
            </a:b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保罗把自己的欢乐给予小男孩和他的弟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1" dur="80"/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2" dur="80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3" dur="80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6" descr="他"/>
          <p:cNvPicPr/>
          <p:nvPr/>
        </p:nvPicPr>
        <p:blipFill>
          <a:blip r:embed="rId1"/>
          <a:stretch/>
        </p:blipFill>
        <p:spPr>
          <a:xfrm>
            <a:off x="0" y="0"/>
            <a:ext cx="9144000" cy="6950160"/>
          </a:xfrm>
          <a:prstGeom prst="rect">
            <a:avLst/>
          </a:prstGeom>
          <a:ln w="0">
            <a:noFill/>
          </a:ln>
        </p:spPr>
      </p:pic>
      <p:sp>
        <p:nvSpPr>
          <p:cNvPr id="62" name="Text Box 2"/>
          <p:cNvSpPr/>
          <p:nvPr/>
        </p:nvSpPr>
        <p:spPr>
          <a:xfrm>
            <a:off x="1476360" y="4437000"/>
            <a:ext cx="31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66ff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9933ff"/>
                </a:solidFill>
                <a:latin typeface="黑体"/>
                <a:ea typeface="黑体"/>
              </a:rPr>
              <a:t>我希望自己也能当这样的哥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4"/>
          <p:cNvSpPr/>
          <p:nvPr/>
        </p:nvSpPr>
        <p:spPr>
          <a:xfrm>
            <a:off x="900000" y="981000"/>
            <a:ext cx="482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Arial"/>
                <a:ea typeface="黑体"/>
              </a:rPr>
              <a:t>读读想想：你体会到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5"/>
          <p:cNvSpPr/>
          <p:nvPr/>
        </p:nvSpPr>
        <p:spPr>
          <a:xfrm>
            <a:off x="1547640" y="2205000"/>
            <a:ext cx="374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Arial"/>
                <a:ea typeface="黑体"/>
              </a:rPr>
              <a:t>       </a:t>
            </a:r>
            <a:r>
              <a:rPr b="1" lang="zh-CN" sz="4000" spc="-1" strike="noStrike">
                <a:solidFill>
                  <a:srgbClr val="ff00ff"/>
                </a:solidFill>
                <a:latin typeface="Arial"/>
                <a:ea typeface="黑体"/>
              </a:rPr>
              <a:t>小男孩一心只想着给予而不是获取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0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3" dur="80"/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4" dur="80"/>
                                        <p:tgtEl>
                                          <p:spTgt spid="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5" dur="80"/>
                                        <p:tgtEl>
                                          <p:spTgt spid="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4"/>
          <p:cNvSpPr/>
          <p:nvPr/>
        </p:nvSpPr>
        <p:spPr>
          <a:xfrm>
            <a:off x="928800" y="857160"/>
            <a:ext cx="764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ff"/>
                </a:solidFill>
                <a:latin typeface="Arial"/>
                <a:ea typeface="黑体"/>
              </a:rPr>
              <a:t>       </a:t>
            </a: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黑体"/>
              </a:rPr>
              <a:t>他指着保罗的车，说：“看见了吗？很漂亮，对不对？这是他哥哥送给他的圣诞礼物。将来，我也要送你一辆这样的新车。到那时候，你就可以坐在车里，亲眼看看我跟你讲的那些好看的圣诞礼物了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6"/>
          <p:cNvSpPr/>
          <p:nvPr/>
        </p:nvSpPr>
        <p:spPr>
          <a:xfrm>
            <a:off x="1619280" y="5157720"/>
            <a:ext cx="54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Arial"/>
                <a:ea typeface="黑体"/>
              </a:rPr>
              <a:t>读读想想：你又体会到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7"/>
          <p:cNvSpPr/>
          <p:nvPr/>
        </p:nvSpPr>
        <p:spPr>
          <a:xfrm>
            <a:off x="684360" y="4221000"/>
            <a:ext cx="561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00"/>
                </a:solidFill>
                <a:latin typeface="Arial"/>
                <a:ea typeface="黑体"/>
              </a:rPr>
              <a:t>男孩要把快乐给予弟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4T11:45:55Z</dcterms:created>
  <dc:creator>guibin</dc:creator>
  <dc:description/>
  <dc:language>en-US</dc:language>
  <cp:lastModifiedBy>Administrator</cp:lastModifiedBy>
  <dcterms:modified xsi:type="dcterms:W3CDTF">2015-01-22T06:30:32Z</dcterms:modified>
  <cp:revision>44</cp:revision>
  <dc:subject/>
  <dc:title>幻灯片 1</dc:title>
</cp:coreProperties>
</file>