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B294-E50A-476A-9A8E-A44C06FE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D99-560E-4E79-85FA-83C91479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F991-F76C-4738-8ACB-D65869EA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52D-89BD-4D73-9E0F-1B144E13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46F9-E670-452C-B3EE-6412A6A2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FC1-5809-4F31-BD72-AAE45EC7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2BFC-A509-48F4-848A-6709EF33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1CF8-27BD-4A15-A2DC-25F31D2A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285B-D0AA-4CF7-997E-8708F3F3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A9DC-1716-4C14-8DA0-8AF9C331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2F23-3A2F-46D4-9B29-663C4C72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3E33-33C3-49C5-A5E9-F29EA9DF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635E-1E49-4D5B-A12D-7FEBEA287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43b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084720" y="1413000"/>
            <a:ext cx="28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黑体"/>
              </a:rPr>
              <a:t>给予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79280" y="1197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还记得金吉娅在圣诞节前做了什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6d75ea57ab3073a1bb6d22941477c5a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10"/>
          <p:cNvSpPr txBox="1"/>
          <p:nvPr/>
        </p:nvSpPr>
        <p:spPr>
          <a:xfrm>
            <a:off x="971640" y="1844640"/>
            <a:ext cx="7345440" cy="28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给予是快乐的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0" y="5013360"/>
            <a:ext cx="88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给予在这里是指能够帮助别人，为别人付出劳动，作出奉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1152360" y="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人教新课标四年级语文上册第六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826920" y="1197000"/>
            <a:ext cx="67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从这件事，保罗懂得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1042920" y="4437000"/>
            <a:ext cx="756144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给予是令人快乐的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71720" y="221472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讨论：为什么给予是令人快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143000" y="100008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们三个人一起过了一个难忘的夜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000080" y="30002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想想、说说：这个夜晚他们是怎样度过的？为什么这个夜晚对他们三个人来说都是难忘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395280" y="1197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总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0920" y="2133720"/>
            <a:ext cx="846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学习本课以后，我知道，保罗的哥哥因为（     ）而感到快乐，小男孩因为（     ）而感到快乐，保罗因为（     ）而感到快乐，我也曾经因为（     ）而感到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428760" y="1071720"/>
            <a:ext cx="84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如果你不管在什么时候，什么地方，留给人们的都是美好的东西，像鲜花啦，好的思想啦，还有对你的美好回忆啦，那你的生活该有多么愉快啊！那时候，你会感到所有的人都需要你。要知道，给，永远比拿愉快。              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高尔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57120" y="3292920"/>
            <a:ext cx="828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生命的意义在于付出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在于给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而不是在于接受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也不是在于争取。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         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      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黑体"/>
              </a:rPr>
              <a:t>                                                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──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巴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297520" y="5083560"/>
            <a:ext cx="477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人的价值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当看他贡献了什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不应当看他取得了什么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──爱因斯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24000" y="40464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拓展延伸：名人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971640" y="143244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人活着就是要给我们生活中的社会添上一点光彩。这样我们的生命才会开放。一心为自己，一生安慰自己的人什么也得不到。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巴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785880" y="431460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的生命是有限的，为人民服务是无限的。我要把有限的生命，投入到无限的为人民服务。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雷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98100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Arial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黑体"/>
              </a:rPr>
              <a:t>自由读课文：画出课文中的生字词，并在生字上注音，读准生字的音，特别注意读准其中的前鼻音和三拼音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900000" y="3357720"/>
            <a:ext cx="446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187280" y="2349360"/>
            <a:ext cx="223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会读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978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给予  炫耀  羡慕  宽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神气  轿车  喜悦  湿润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橱窗  残疾  圣诞  兜一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饶有兴趣      不由自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492360" y="2349360"/>
            <a:ext cx="48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默读，思考：课文写了保罗和小男孩的几次对话？分别是在什么时候发生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187280" y="112536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看车时         坐车时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000680" y="12859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在这两次对话过程中保罗和小男孩想得一样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357120" y="11430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罗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为男孩希望也有一个这样的哥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男孩却说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希望自己也能当这样的哥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28760" y="2357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保罗微微一笑，他理解男孩的想法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坐一辆又大又漂亮的车子回家，在小朋友的面前是很神气的事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但是，保罗又错了。他指着保罗的车，说：“看见了吗？很漂亮，对不对？这是他哥哥送给他的圣诞礼物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将来，我也要送你一辆这样的新车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到那时候，你就可以坐在车里，亲眼看看我跟你讲的那些好看的圣诞礼物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2004122016435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476360" y="544500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从哪几个方面写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给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28760" y="214308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保罗的哥哥把新轿车给予保罗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男孩要把欢乐给予弟弟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保罗把自己的欢乐给予小男孩和他的弟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他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1476360" y="443700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9933ff"/>
                </a:solidFill>
                <a:latin typeface="黑体"/>
                <a:ea typeface="黑体"/>
              </a:rPr>
              <a:t>我希望自己也能当这样的哥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900000" y="98100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读读想想：你体会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547640" y="2205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小男孩一心只想着给予而不是获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928800" y="85716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他指着保罗的车，说：“看见了吗？很漂亮，对不对？这是他哥哥送给他的圣诞礼物。将来，我也要送你一辆这样的新车。到那时候，你就可以坐在车里，亲眼看看我跟你讲的那些好看的圣诞礼物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619280" y="51577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读读想想：你又体会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4360" y="422100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男孩要把快乐给予弟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Administrator</cp:lastModifiedBy>
  <dcterms:modified xsi:type="dcterms:W3CDTF">2015-01-22T06:30:32Z</dcterms:modified>
  <cp:revision>44</cp:revision>
  <dc:subject/>
  <dc:title>幻灯片 1</dc:title>
</cp:coreProperties>
</file>