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229B-079F-4C58-AEA5-3B88733ED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A664-7842-475F-9959-8E02C3F09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FE13-2609-4C0F-92FC-49DD228B7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4578-69F2-4BB2-8807-0FA844795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1DDC-BDF0-4A32-82E7-78509A713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8A21-AB92-4A74-BC6F-CF9BD2FE3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18CA-6A99-42D3-A855-233602B31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69CF-5093-4D86-A4B6-BF8686685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968B-18F5-4C24-93B1-9377C5C1F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CB53-B7B1-4FDA-B963-5BF68ACB9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4406-EC15-4E2E-B4E9-6297B28BB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B155-D424-465D-9F89-7F81E1C30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214200" y="1071720"/>
            <a:ext cx="8501040" cy="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" name="Picture 47" descr="D:\ppt素材\clhwtx_05_zcool.com.cn.jpg"/>
          <p:cNvPicPr/>
          <p:nvPr/>
        </p:nvPicPr>
        <p:blipFill>
          <a:blip r:embed="rId2"/>
          <a:stretch/>
        </p:blipFill>
        <p:spPr>
          <a:xfrm>
            <a:off x="7639200" y="-6480"/>
            <a:ext cx="1285560" cy="1371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7" descr="D:\ppt素材\clhwtx_05_zcool.com.cn.jpg"/>
          <p:cNvPicPr/>
          <p:nvPr/>
        </p:nvPicPr>
        <p:blipFill>
          <a:blip r:embed="rId3"/>
          <a:stretch/>
        </p:blipFill>
        <p:spPr>
          <a:xfrm>
            <a:off x="0" y="5214960"/>
            <a:ext cx="3048120" cy="16430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6"/>
          <p:cNvSpPr/>
          <p:nvPr/>
        </p:nvSpPr>
        <p:spPr>
          <a:xfrm>
            <a:off x="0" y="6453360"/>
            <a:ext cx="9129600" cy="404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509760" y="6443640"/>
            <a:ext cx="9144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B94F-5D11-438F-95C7-F03713B91A06}" type="slidenum"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28400" y="35064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7" name="Group 17"/>
          <p:cNvGrpSpPr/>
          <p:nvPr/>
        </p:nvGrpSpPr>
        <p:grpSpPr>
          <a:xfrm>
            <a:off x="-15840" y="0"/>
            <a:ext cx="9165960" cy="6859440"/>
            <a:chOff x="-15840" y="0"/>
            <a:chExt cx="9165960" cy="6859440"/>
          </a:xfrm>
        </p:grpSpPr>
        <p:sp>
          <p:nvSpPr>
            <p:cNvPr id="8" name="AutoShape 18"/>
            <p:cNvSpPr/>
            <p:nvPr/>
          </p:nvSpPr>
          <p:spPr>
            <a:xfrm>
              <a:off x="27000" y="38160"/>
              <a:ext cx="908316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-15840" y="0"/>
              <a:ext cx="457920" cy="44784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-7560" y="6326280"/>
              <a:ext cx="387720" cy="5331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685720" y="0"/>
              <a:ext cx="457920" cy="4572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4"/>
          <p:cNvSpPr/>
          <p:nvPr/>
        </p:nvSpPr>
        <p:spPr>
          <a:xfrm>
            <a:off x="0" y="642960"/>
            <a:ext cx="4572000" cy="58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" name="Picture 47" descr="D:\ppt素材\clhwtx_05_zcool.com.cn.jpg"/>
          <p:cNvPicPr/>
          <p:nvPr/>
        </p:nvPicPr>
        <p:blipFill>
          <a:blip r:embed="rId2"/>
          <a:stretch/>
        </p:blipFill>
        <p:spPr>
          <a:xfrm>
            <a:off x="1714680" y="642960"/>
            <a:ext cx="7429320" cy="589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7" descr="D:\ppt素材\clhwtx_05_zcool.com.cn.jpg"/>
          <p:cNvPicPr/>
          <p:nvPr/>
        </p:nvPicPr>
        <p:blipFill>
          <a:blip r:embed="rId3"/>
          <a:stretch/>
        </p:blipFill>
        <p:spPr>
          <a:xfrm rot="15246000">
            <a:off x="118080" y="5043960"/>
            <a:ext cx="1332000" cy="1251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8"/>
          <p:cNvGrpSpPr/>
          <p:nvPr/>
        </p:nvGrpSpPr>
        <p:grpSpPr>
          <a:xfrm>
            <a:off x="-22320" y="642960"/>
            <a:ext cx="9165960" cy="5928840"/>
            <a:chOff x="-22320" y="642960"/>
            <a:chExt cx="9165960" cy="5928840"/>
          </a:xfrm>
        </p:grpSpPr>
        <p:sp>
          <p:nvSpPr>
            <p:cNvPr id="53" name="AutoShape 19"/>
            <p:cNvSpPr/>
            <p:nvPr/>
          </p:nvSpPr>
          <p:spPr>
            <a:xfrm>
              <a:off x="20520" y="675720"/>
              <a:ext cx="9083160" cy="586476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Freeform 20"/>
            <p:cNvSpPr/>
            <p:nvPr/>
          </p:nvSpPr>
          <p:spPr>
            <a:xfrm>
              <a:off x="-22320" y="642960"/>
              <a:ext cx="457920" cy="3870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Freeform 21"/>
            <p:cNvSpPr/>
            <p:nvPr/>
          </p:nvSpPr>
          <p:spPr>
            <a:xfrm>
              <a:off x="-14040" y="6112440"/>
              <a:ext cx="387720" cy="4593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Freeform 22"/>
            <p:cNvSpPr/>
            <p:nvPr/>
          </p:nvSpPr>
          <p:spPr>
            <a:xfrm>
              <a:off x="8741520" y="6171480"/>
              <a:ext cx="402120" cy="39492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Freeform 23"/>
            <p:cNvSpPr/>
            <p:nvPr/>
          </p:nvSpPr>
          <p:spPr>
            <a:xfrm>
              <a:off x="8679240" y="642960"/>
              <a:ext cx="457920" cy="39492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58" name="Picture 47" descr="D:\ppt素材\clhwtx_05_zcool.com.cn.jpg"/>
          <p:cNvPicPr/>
          <p:nvPr/>
        </p:nvPicPr>
        <p:blipFill>
          <a:blip r:embed="rId4"/>
          <a:stretch/>
        </p:blipFill>
        <p:spPr>
          <a:xfrm>
            <a:off x="281160" y="1420920"/>
            <a:ext cx="1285560" cy="1371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1947960"/>
            <a:ext cx="54100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c0c0"/>
                </a:solidFill>
                <a:latin typeface="微软雅黑"/>
                <a:ea typeface="宋体"/>
              </a:rPr>
              <a:t>Themegallery</a:t>
            </a:r>
            <a:r>
              <a:rPr b="1" lang="en-US" sz="4000" spc="-1" strike="noStrike">
                <a:solidFill>
                  <a:srgbClr val="9885a3"/>
                </a:solidFill>
                <a:latin typeface="微软雅黑"/>
                <a:ea typeface="宋体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微软雅黑"/>
                <a:ea typeface="宋体"/>
              </a:rPr>
              <a:t>PowerTemplat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35064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0" name="AutoShape 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0bb20"/>
                </a:gs>
                <a:gs pos="50000">
                  <a:srgbClr val="f8f1d0"/>
                </a:gs>
                <a:gs pos="100000">
                  <a:srgbClr val="e0bb2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AutoShape 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e0bb2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5" name="AutoShape 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9e8e"/>
                </a:gs>
                <a:gs pos="50000">
                  <a:srgbClr val="ceeae7"/>
                </a:gs>
                <a:gs pos="100000">
                  <a:srgbClr val="189e8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AutoShape 1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189e8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9" name="Group 1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aa5de"/>
                </a:gs>
                <a:gs pos="50000">
                  <a:srgbClr val="dcecf8"/>
                </a:gs>
                <a:gs pos="100000">
                  <a:srgbClr val="5aa5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AutoShape 1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5aa5d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Text Box 1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" name="Group 1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5" name="AutoShape 1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885a3"/>
                </a:gs>
                <a:gs pos="50000">
                  <a:srgbClr val="e9e5ec"/>
                </a:gs>
                <a:gs pos="100000">
                  <a:srgbClr val="9885a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AutoShape 2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885a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311040"/>
            <a:ext cx="70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1640" y="2708280"/>
            <a:ext cx="391320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>
                    <a:alphaModFix amt="26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观看</a:t>
            </a:r>
            <a:endParaRPr b="0" lang="en-US" sz="1800" spc="1" strike="noStrike">
              <a:ln w="0">
                <a:noFill/>
              </a:ln>
              <a:blipFill rotWithShape="0">
                <a:blip r:embed="rId2">
                  <a:alphaModFix amt="26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9:38:09Z</dcterms:created>
  <dc:creator/>
  <dc:description/>
  <cp:keywords/>
  <dc:language>en-US</dc:language>
  <cp:lastModifiedBy>admin</cp:lastModifiedBy>
  <dcterms:modified xsi:type="dcterms:W3CDTF">2015-01-15T07:08:36Z</dcterms:modified>
  <cp:revision>12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3000000000001024140</vt:lpwstr>
  </property>
</Properties>
</file>