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88BC-B4B0-45D5-AA51-FE4362B02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E8CD2-B6CE-4B16-93FE-C516F3BC0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AA13-9565-4694-9D35-B922197AC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C9AE-F184-4A8D-98EA-E7AA249F5A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1C59-2AE1-498A-8210-292A462AF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1759-9D92-4F31-8819-CE6F17462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89D3-771C-4DBF-BE9E-B3B4DC3B6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FD4B-35AA-4A4B-8827-0215B651C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BE49D-1E68-4D9D-AC6C-8B9014BC8E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A4C4-B199-4027-A18A-DF2989EE3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5D34-460E-44E1-86F1-64C185782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ADAF-63F9-40EC-8D77-80F481EA1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214200" y="1071720"/>
            <a:ext cx="8501040" cy="7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7639200" y="-6480"/>
            <a:ext cx="1285560" cy="13716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7" descr="D:\ppt素材\clhwtx_05_zcool.com.cn.jpg"/>
          <p:cNvPicPr/>
          <p:nvPr/>
        </p:nvPicPr>
        <p:blipFill>
          <a:blip r:embed="rId3"/>
          <a:stretch/>
        </p:blipFill>
        <p:spPr>
          <a:xfrm>
            <a:off x="0" y="5214960"/>
            <a:ext cx="3048120" cy="16430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6"/>
          <p:cNvSpPr/>
          <p:nvPr/>
        </p:nvSpPr>
        <p:spPr>
          <a:xfrm>
            <a:off x="0" y="6453360"/>
            <a:ext cx="9129600" cy="4046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509760" y="6443640"/>
            <a:ext cx="9144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657D-A818-488E-B0FB-DF8222368DD4}" type="slidenum"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7" name="Group 17"/>
          <p:cNvGrpSpPr/>
          <p:nvPr/>
        </p:nvGrpSpPr>
        <p:grpSpPr>
          <a:xfrm>
            <a:off x="-15840" y="0"/>
            <a:ext cx="9165960" cy="6859440"/>
            <a:chOff x="-15840" y="0"/>
            <a:chExt cx="9165960" cy="6859440"/>
          </a:xfrm>
        </p:grpSpPr>
        <p:sp>
          <p:nvSpPr>
            <p:cNvPr id="8" name="AutoShape 18"/>
            <p:cNvSpPr/>
            <p:nvPr/>
          </p:nvSpPr>
          <p:spPr>
            <a:xfrm>
              <a:off x="27000" y="38160"/>
              <a:ext cx="9083160" cy="678492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-15840" y="0"/>
              <a:ext cx="457920" cy="44784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-7560" y="6326280"/>
              <a:ext cx="387720" cy="5331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8748000" y="6396120"/>
              <a:ext cx="402120" cy="46044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685720" y="0"/>
              <a:ext cx="457920" cy="4572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4"/>
          <p:cNvSpPr/>
          <p:nvPr/>
        </p:nvSpPr>
        <p:spPr>
          <a:xfrm>
            <a:off x="0" y="642960"/>
            <a:ext cx="4572000" cy="58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" name="Picture 47" descr="D:\ppt素材\clhwtx_05_zcool.com.cn.jpg"/>
          <p:cNvPicPr/>
          <p:nvPr/>
        </p:nvPicPr>
        <p:blipFill>
          <a:blip r:embed="rId2"/>
          <a:stretch/>
        </p:blipFill>
        <p:spPr>
          <a:xfrm>
            <a:off x="1714680" y="642960"/>
            <a:ext cx="7429320" cy="5891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7" descr="D:\ppt素材\clhwtx_05_zcool.com.cn.jpg"/>
          <p:cNvPicPr/>
          <p:nvPr/>
        </p:nvPicPr>
        <p:blipFill>
          <a:blip r:embed="rId3"/>
          <a:stretch/>
        </p:blipFill>
        <p:spPr>
          <a:xfrm rot="15246000">
            <a:off x="118080" y="5043960"/>
            <a:ext cx="1332000" cy="1251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8"/>
          <p:cNvGrpSpPr/>
          <p:nvPr/>
        </p:nvGrpSpPr>
        <p:grpSpPr>
          <a:xfrm>
            <a:off x="-22320" y="642960"/>
            <a:ext cx="9165960" cy="5928840"/>
            <a:chOff x="-22320" y="642960"/>
            <a:chExt cx="9165960" cy="5928840"/>
          </a:xfrm>
        </p:grpSpPr>
        <p:sp>
          <p:nvSpPr>
            <p:cNvPr id="53" name="AutoShape 19"/>
            <p:cNvSpPr/>
            <p:nvPr/>
          </p:nvSpPr>
          <p:spPr>
            <a:xfrm>
              <a:off x="20520" y="675720"/>
              <a:ext cx="9083160" cy="586476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" name="Freeform 20"/>
            <p:cNvSpPr/>
            <p:nvPr/>
          </p:nvSpPr>
          <p:spPr>
            <a:xfrm>
              <a:off x="-22320" y="642960"/>
              <a:ext cx="457920" cy="38700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288" h="282">
                  <a:moveTo>
                    <a:pt x="2" y="282"/>
                  </a:moveTo>
                  <a:lnTo>
                    <a:pt x="82" y="144"/>
                  </a:lnTo>
                  <a:lnTo>
                    <a:pt x="165" y="36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" name="Freeform 21"/>
            <p:cNvSpPr/>
            <p:nvPr/>
          </p:nvSpPr>
          <p:spPr>
            <a:xfrm>
              <a:off x="-14040" y="6112440"/>
              <a:ext cx="387720" cy="459360"/>
            </a:xfrm>
            <a:custGeom>
              <a:avLst/>
              <a:gdLst>
                <a:gd name="textAreaLeft" fmla="*/ 0 w 387720"/>
                <a:gd name="textAreaRight" fmla="*/ 388080 w 38772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243" h="336">
                  <a:moveTo>
                    <a:pt x="243" y="335"/>
                  </a:moveTo>
                  <a:lnTo>
                    <a:pt x="122" y="239"/>
                  </a:lnTo>
                  <a:lnTo>
                    <a:pt x="30" y="144"/>
                  </a:lnTo>
                  <a:lnTo>
                    <a:pt x="0" y="0"/>
                  </a:lnTo>
                  <a:lnTo>
                    <a:pt x="1" y="336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" name="Freeform 22"/>
            <p:cNvSpPr/>
            <p:nvPr/>
          </p:nvSpPr>
          <p:spPr>
            <a:xfrm>
              <a:off x="8741520" y="6171480"/>
              <a:ext cx="402120" cy="394920"/>
            </a:xfrm>
            <a:custGeom>
              <a:avLst/>
              <a:gdLst>
                <a:gd name="textAreaLeft" fmla="*/ 0 w 402120"/>
                <a:gd name="textAreaRight" fmla="*/ 402480 w 40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32" h="290">
                  <a:moveTo>
                    <a:pt x="229" y="0"/>
                  </a:moveTo>
                  <a:lnTo>
                    <a:pt x="164" y="144"/>
                  </a:lnTo>
                  <a:lnTo>
                    <a:pt x="98" y="253"/>
                  </a:lnTo>
                  <a:lnTo>
                    <a:pt x="0" y="290"/>
                  </a:lnTo>
                  <a:lnTo>
                    <a:pt x="232" y="287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" name="Freeform 23"/>
            <p:cNvSpPr/>
            <p:nvPr/>
          </p:nvSpPr>
          <p:spPr>
            <a:xfrm>
              <a:off x="8679240" y="642960"/>
              <a:ext cx="457920" cy="39492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88" h="288">
                  <a:moveTo>
                    <a:pt x="0" y="0"/>
                  </a:moveTo>
                  <a:lnTo>
                    <a:pt x="144" y="82"/>
                  </a:lnTo>
                  <a:lnTo>
                    <a:pt x="252" y="165"/>
                  </a:lnTo>
                  <a:lnTo>
                    <a:pt x="288" y="288"/>
                  </a:lnTo>
                  <a:lnTo>
                    <a:pt x="288" y="0"/>
                  </a:lnTo>
                </a:path>
              </a:pathLst>
            </a:custGeom>
            <a:solidFill>
              <a:srgbClr val="c00000"/>
            </a:solidFill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58" name="Picture 47" descr="D:\ppt素材\clhwtx_05_zcool.com.cn.jpg"/>
          <p:cNvPicPr/>
          <p:nvPr/>
        </p:nvPicPr>
        <p:blipFill>
          <a:blip r:embed="rId4"/>
          <a:stretch/>
        </p:blipFill>
        <p:spPr>
          <a:xfrm>
            <a:off x="281160" y="1420920"/>
            <a:ext cx="128556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89e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947960"/>
            <a:ext cx="54100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c0c0"/>
                </a:solidFill>
                <a:latin typeface="微软雅黑"/>
                <a:ea typeface="宋体"/>
              </a:rPr>
              <a:t>Themegallery</a:t>
            </a:r>
            <a:r>
              <a:rPr b="1" lang="en-US" sz="4000" spc="-1" strike="noStrike">
                <a:solidFill>
                  <a:srgbClr val="9885a3"/>
                </a:solidFill>
                <a:latin typeface="微软雅黑"/>
                <a:ea typeface="宋体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微软雅黑"/>
                <a:ea typeface="宋体"/>
              </a:rPr>
              <a:t>PowerTemplat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400" y="350640"/>
            <a:ext cx="7072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0" name="AutoShape 4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0bb20"/>
                </a:gs>
                <a:gs pos="50000">
                  <a:srgbClr val="f8f1d0"/>
                </a:gs>
                <a:gs pos="100000">
                  <a:srgbClr val="e0bb2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" name="AutoShape 5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e0bb2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4" name="Group 8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5" name="AutoShape 9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9e8e"/>
                </a:gs>
                <a:gs pos="50000">
                  <a:srgbClr val="ceeae7"/>
                </a:gs>
                <a:gs pos="100000">
                  <a:srgbClr val="189e8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AutoShape 10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189e8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Text Box 11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Text Box 12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9" name="Group 13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0" name="AutoShape 14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aa5de"/>
                </a:gs>
                <a:gs pos="50000">
                  <a:srgbClr val="dcecf8"/>
                </a:gs>
                <a:gs pos="100000">
                  <a:srgbClr val="5aa5de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AutoShape 15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5aa5d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Text Box 17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" name="Group 18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5" name="AutoShape 19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885a3"/>
                </a:gs>
                <a:gs pos="50000">
                  <a:srgbClr val="e9e5ec"/>
                </a:gs>
                <a:gs pos="100000">
                  <a:srgbClr val="9885a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AutoShape 20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9885a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Text Box 21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Text Box 22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400" y="311040"/>
            <a:ext cx="70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3665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aa5d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71640" y="2708280"/>
            <a:ext cx="39132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>
                    <a:alphaModFix amt="26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观看</a:t>
            </a:r>
            <a:endParaRPr b="0" lang="en-US" sz="1800" spc="1" strike="noStrike">
              <a:ln w="0">
                <a:noFill/>
              </a:ln>
              <a:blipFill rotWithShape="0">
                <a:blip r:embed="rId2">
                  <a:alphaModFix amt="26000"/>
                </a:blip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9:38:09Z</dcterms:created>
  <dc:creator/>
  <dc:description/>
  <cp:keywords/>
  <dc:language>en-US</dc:language>
  <cp:lastModifiedBy>admin</cp:lastModifiedBy>
  <dcterms:modified xsi:type="dcterms:W3CDTF">2015-01-15T07:08:36Z</dcterms:modified>
  <cp:revision>12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3000000000001024140</vt:lpwstr>
  </property>
</Properties>
</file>