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6DF92-A9EF-4D30-883E-C2FB43D42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73708-0838-4CD0-97BA-DBAD4AE14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3DCAC-2E4F-4574-B5CC-8D404EA3B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37F1-BD73-4C8A-90F3-FBBF9323F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E1A7E-DBE3-497D-9E93-E9938E6FE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6083D-63AD-4D86-BE5E-FC421DA39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15851-F2D6-4711-A6B3-FD910566E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7C58-E98D-4122-A183-BD8923E53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3FA3-A2A8-45F1-91DE-7A17A01A0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AAE71-F97B-4CA5-98C5-BDFCD502A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6B50F-8A33-4477-8AC1-1AAB08197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22007-1548-4A93-BE7A-C45D5136A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214200" y="1071720"/>
            <a:ext cx="8501040" cy="7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" name="Picture 47" descr="D:\ppt素材\clhwtx_05_zcool.com.cn.jpg"/>
          <p:cNvPicPr/>
          <p:nvPr/>
        </p:nvPicPr>
        <p:blipFill>
          <a:blip r:embed="rId2"/>
          <a:stretch/>
        </p:blipFill>
        <p:spPr>
          <a:xfrm>
            <a:off x="7639200" y="-6480"/>
            <a:ext cx="1285560" cy="13716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7" descr="D:\ppt素材\clhwtx_05_zcool.com.cn.jpg"/>
          <p:cNvPicPr/>
          <p:nvPr/>
        </p:nvPicPr>
        <p:blipFill>
          <a:blip r:embed="rId3"/>
          <a:stretch/>
        </p:blipFill>
        <p:spPr>
          <a:xfrm>
            <a:off x="0" y="5214960"/>
            <a:ext cx="3048120" cy="16430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6"/>
          <p:cNvSpPr/>
          <p:nvPr/>
        </p:nvSpPr>
        <p:spPr>
          <a:xfrm>
            <a:off x="0" y="6453360"/>
            <a:ext cx="9129600" cy="404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509760" y="6443640"/>
            <a:ext cx="9144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AC66-12C5-4065-BF8C-1BD0B5D63FFF}" type="slidenum"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28400" y="350640"/>
            <a:ext cx="7072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7" name="Group 17"/>
          <p:cNvGrpSpPr/>
          <p:nvPr/>
        </p:nvGrpSpPr>
        <p:grpSpPr>
          <a:xfrm>
            <a:off x="-15840" y="0"/>
            <a:ext cx="9165960" cy="6859440"/>
            <a:chOff x="-15840" y="0"/>
            <a:chExt cx="9165960" cy="6859440"/>
          </a:xfrm>
        </p:grpSpPr>
        <p:sp>
          <p:nvSpPr>
            <p:cNvPr id="8" name="AutoShape 18"/>
            <p:cNvSpPr/>
            <p:nvPr/>
          </p:nvSpPr>
          <p:spPr>
            <a:xfrm>
              <a:off x="27000" y="38160"/>
              <a:ext cx="908316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-15840" y="0"/>
              <a:ext cx="457920" cy="44784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-7560" y="6326280"/>
              <a:ext cx="387720" cy="53316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8748000" y="6396120"/>
              <a:ext cx="402120" cy="460440"/>
            </a:xfrm>
            <a:custGeom>
              <a:avLst/>
              <a:gdLst>
                <a:gd name="textAreaLeft" fmla="*/ 0 w 402120"/>
                <a:gd name="textAreaRight" fmla="*/ 402480 w 40212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685720" y="0"/>
              <a:ext cx="457920" cy="45720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4"/>
          <p:cNvSpPr/>
          <p:nvPr/>
        </p:nvSpPr>
        <p:spPr>
          <a:xfrm>
            <a:off x="0" y="642960"/>
            <a:ext cx="4572000" cy="58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" name="Picture 47" descr="D:\ppt素材\clhwtx_05_zcool.com.cn.jpg"/>
          <p:cNvPicPr/>
          <p:nvPr/>
        </p:nvPicPr>
        <p:blipFill>
          <a:blip r:embed="rId2"/>
          <a:stretch/>
        </p:blipFill>
        <p:spPr>
          <a:xfrm>
            <a:off x="1714680" y="642960"/>
            <a:ext cx="7429320" cy="5891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7" descr="D:\ppt素材\clhwtx_05_zcool.com.cn.jpg"/>
          <p:cNvPicPr/>
          <p:nvPr/>
        </p:nvPicPr>
        <p:blipFill>
          <a:blip r:embed="rId3"/>
          <a:stretch/>
        </p:blipFill>
        <p:spPr>
          <a:xfrm rot="15246000">
            <a:off x="118080" y="5043960"/>
            <a:ext cx="1332000" cy="12510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18"/>
          <p:cNvGrpSpPr/>
          <p:nvPr/>
        </p:nvGrpSpPr>
        <p:grpSpPr>
          <a:xfrm>
            <a:off x="-22320" y="642960"/>
            <a:ext cx="9165960" cy="5928840"/>
            <a:chOff x="-22320" y="642960"/>
            <a:chExt cx="9165960" cy="5928840"/>
          </a:xfrm>
        </p:grpSpPr>
        <p:sp>
          <p:nvSpPr>
            <p:cNvPr id="53" name="AutoShape 19"/>
            <p:cNvSpPr/>
            <p:nvPr/>
          </p:nvSpPr>
          <p:spPr>
            <a:xfrm>
              <a:off x="20520" y="675720"/>
              <a:ext cx="9083160" cy="586476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" name="Freeform 20"/>
            <p:cNvSpPr/>
            <p:nvPr/>
          </p:nvSpPr>
          <p:spPr>
            <a:xfrm>
              <a:off x="-22320" y="642960"/>
              <a:ext cx="457920" cy="38700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" name="Freeform 21"/>
            <p:cNvSpPr/>
            <p:nvPr/>
          </p:nvSpPr>
          <p:spPr>
            <a:xfrm>
              <a:off x="-14040" y="6112440"/>
              <a:ext cx="387720" cy="45936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" name="Freeform 22"/>
            <p:cNvSpPr/>
            <p:nvPr/>
          </p:nvSpPr>
          <p:spPr>
            <a:xfrm>
              <a:off x="8741520" y="6171480"/>
              <a:ext cx="402120" cy="394920"/>
            </a:xfrm>
            <a:custGeom>
              <a:avLst/>
              <a:gdLst>
                <a:gd name="textAreaLeft" fmla="*/ 0 w 402120"/>
                <a:gd name="textAreaRight" fmla="*/ 402480 w 40212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" name="Freeform 23"/>
            <p:cNvSpPr/>
            <p:nvPr/>
          </p:nvSpPr>
          <p:spPr>
            <a:xfrm>
              <a:off x="8679240" y="642960"/>
              <a:ext cx="457920" cy="39492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58" name="Picture 47" descr="D:\ppt素材\clhwtx_05_zcool.com.cn.jpg"/>
          <p:cNvPicPr/>
          <p:nvPr/>
        </p:nvPicPr>
        <p:blipFill>
          <a:blip r:embed="rId4"/>
          <a:stretch/>
        </p:blipFill>
        <p:spPr>
          <a:xfrm>
            <a:off x="281160" y="1420920"/>
            <a:ext cx="1285560" cy="1371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1947960"/>
            <a:ext cx="54100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c0c0"/>
                </a:solidFill>
                <a:latin typeface="微软雅黑"/>
                <a:ea typeface="宋体"/>
              </a:rPr>
              <a:t>Themegallery</a:t>
            </a:r>
            <a:r>
              <a:rPr b="1" lang="en-US" sz="4000" spc="-1" strike="noStrike">
                <a:solidFill>
                  <a:srgbClr val="9885a3"/>
                </a:solidFill>
                <a:latin typeface="微软雅黑"/>
                <a:ea typeface="宋体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微软雅黑"/>
                <a:ea typeface="宋体"/>
              </a:rPr>
              <a:t>PowerTemplat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350640"/>
            <a:ext cx="7072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00" name="AutoShape 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0bb20"/>
                </a:gs>
                <a:gs pos="50000">
                  <a:srgbClr val="f8f1d0"/>
                </a:gs>
                <a:gs pos="100000">
                  <a:srgbClr val="e0bb2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" name="AutoShape 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e0bb2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" name="Text Box 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4" name="Group 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5" name="AutoShape 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9e8e"/>
                </a:gs>
                <a:gs pos="50000">
                  <a:srgbClr val="ceeae7"/>
                </a:gs>
                <a:gs pos="100000">
                  <a:srgbClr val="189e8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AutoShape 1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189e8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9" name="Group 1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10" name="AutoShape 1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aa5de"/>
                </a:gs>
                <a:gs pos="50000">
                  <a:srgbClr val="dcecf8"/>
                </a:gs>
                <a:gs pos="100000">
                  <a:srgbClr val="5aa5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AutoShape 1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5aa5d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Text Box 1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Text Box 17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4" name="Group 1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5" name="AutoShape 1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885a3"/>
                </a:gs>
                <a:gs pos="50000">
                  <a:srgbClr val="e9e5ec"/>
                </a:gs>
                <a:gs pos="100000">
                  <a:srgbClr val="9885a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AutoShape 2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885a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Text Box 2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Text Box 22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311040"/>
            <a:ext cx="70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71640" y="2708280"/>
            <a:ext cx="391320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>
                    <a:alphaModFix amt="26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观看</a:t>
            </a:r>
            <a:endParaRPr b="0" lang="en-US" sz="1800" spc="1" strike="noStrike">
              <a:ln w="0">
                <a:noFill/>
              </a:ln>
              <a:blipFill rotWithShape="0">
                <a:blip r:embed="rId2">
                  <a:alphaModFix amt="26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9:38:09Z</dcterms:created>
  <dc:creator/>
  <dc:description/>
  <cp:keywords/>
  <dc:language>en-US</dc:language>
  <cp:lastModifiedBy>admin</cp:lastModifiedBy>
  <dcterms:modified xsi:type="dcterms:W3CDTF">2015-01-15T07:08:36Z</dcterms:modified>
  <cp:revision>12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3000000000001024140</vt:lpwstr>
  </property>
</Properties>
</file>