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E5DC-C3D1-4629-92C0-B08F4126CB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728-8195-4FFB-8772-E1362A8B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725-0BF1-4988-A560-0EABD6B3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B05-A491-4BC6-894B-FE4B210B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C74-212B-46FF-AB1D-B944C841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A54-83A5-449F-9DFE-9F9B98DE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AB0-6641-4615-AADA-8A0270CD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B8C-2403-4D42-9867-EE545E37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14B-4C5E-457A-B128-7BA37E8B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38B-D593-4C09-88C4-3B83022E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B01-2CB3-44F9-B6B0-D10BC6A5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42F-FCAE-4A54-AAB2-5618154F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7D0-79F8-490E-AD2A-B5294CA1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282B-B3B0-4585-A017-E0531BBC07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21262800">
            <a:off x="2575080" y="2421000"/>
            <a:ext cx="6029280" cy="160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整理和复习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49478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马郎小学    陈伟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rcRect l="10185" t="33197" r="19733" b="50025"/>
          <a:stretch/>
        </p:blipFill>
        <p:spPr>
          <a:xfrm>
            <a:off x="30240" y="3284640"/>
            <a:ext cx="75661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rcRect l="12739" t="50474" r="7686" b="6897"/>
          <a:stretch/>
        </p:blipFill>
        <p:spPr>
          <a:xfrm>
            <a:off x="611280" y="1784520"/>
            <a:ext cx="604836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rcRect l="10208" t="6258" r="8633" b="72433"/>
          <a:stretch/>
        </p:blipFill>
        <p:spPr>
          <a:xfrm>
            <a:off x="2413080" y="1733400"/>
            <a:ext cx="5904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rcRect l="11123" t="27522" r="9301" b="38827"/>
          <a:stretch/>
        </p:blipFill>
        <p:spPr>
          <a:xfrm>
            <a:off x="2268360" y="1125360"/>
            <a:ext cx="626436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rcRect l="8633" t="61229" r="16566" b="26434"/>
          <a:stretch/>
        </p:blipFill>
        <p:spPr>
          <a:xfrm>
            <a:off x="2195640" y="1857240"/>
            <a:ext cx="64087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rcRect l="10208" t="73571" r="10208" b="8507"/>
          <a:stretch/>
        </p:blipFill>
        <p:spPr>
          <a:xfrm>
            <a:off x="2124000" y="1916280"/>
            <a:ext cx="64087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26920" y="1052640"/>
            <a:ext cx="669636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谢谢大家，望同学们好好学习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93320" y="836640"/>
            <a:ext cx="4569840" cy="64260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解方程的原理是什么？要注意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916280"/>
            <a:ext cx="77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）等式的两边同时加上或减去相等的数，等式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8200" y="3070080"/>
            <a:ext cx="7489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等式的两边同时乘或除以相等的数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除外），等式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49800" y="27936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81040" y="1541520"/>
            <a:ext cx="16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8920" y="3009960"/>
            <a:ext cx="11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63680" y="422100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χ÷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4320" y="68724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92320" y="1973160"/>
            <a:ext cx="34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4560" y="338292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÷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87440" y="4560840"/>
            <a:ext cx="24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÷5×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×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7160" y="10335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49560" y="233676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36925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82360" y="49165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0400" y="476280"/>
            <a:ext cx="1675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360" y="2205000"/>
            <a:ext cx="1667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7440" y="4005360"/>
            <a:ext cx="11772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0680" y="6093000"/>
            <a:ext cx="1344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χ÷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2565360"/>
            <a:ext cx="720720" cy="21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47640" y="2852640"/>
            <a:ext cx="1152720" cy="122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4760" y="2611440"/>
            <a:ext cx="1844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03160" y="2962440"/>
            <a:ext cx="36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4160" y="3284640"/>
            <a:ext cx="11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9000" y="361944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÷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70640" y="39592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859280" y="1989000"/>
            <a:ext cx="1081080" cy="648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94880" y="1844640"/>
            <a:ext cx="20228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2×6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96440" y="2217600"/>
            <a:ext cx="22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69000" y="2552760"/>
            <a:ext cx="31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56080" y="2874960"/>
            <a:ext cx="11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20920" y="320976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÷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2560" y="35496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2133720"/>
            <a:ext cx="2135160" cy="2374920"/>
          </a:xfrm>
          <a:custGeom>
            <a:avLst/>
            <a:gdLst/>
            <a:ahLst/>
            <a:rect l="l" t="t" r="r" b="b"/>
            <a:pathLst>
              <a:path w="1345" h="1496">
                <a:moveTo>
                  <a:pt x="1134" y="0"/>
                </a:moveTo>
                <a:cubicBezTo>
                  <a:pt x="1209" y="94"/>
                  <a:pt x="1285" y="189"/>
                  <a:pt x="1315" y="317"/>
                </a:cubicBezTo>
                <a:cubicBezTo>
                  <a:pt x="1345" y="445"/>
                  <a:pt x="1330" y="627"/>
                  <a:pt x="1315" y="771"/>
                </a:cubicBezTo>
                <a:cubicBezTo>
                  <a:pt x="1300" y="915"/>
                  <a:pt x="1337" y="1081"/>
                  <a:pt x="1224" y="1179"/>
                </a:cubicBezTo>
                <a:cubicBezTo>
                  <a:pt x="1111" y="1277"/>
                  <a:pt x="816" y="1337"/>
                  <a:pt x="635" y="1360"/>
                </a:cubicBezTo>
                <a:cubicBezTo>
                  <a:pt x="454" y="1383"/>
                  <a:pt x="242" y="1292"/>
                  <a:pt x="136" y="1315"/>
                </a:cubicBezTo>
                <a:cubicBezTo>
                  <a:pt x="30" y="1338"/>
                  <a:pt x="23" y="1466"/>
                  <a:pt x="0" y="149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24440" y="4530600"/>
            <a:ext cx="2187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）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98160" y="4856040"/>
            <a:ext cx="34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÷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87640" y="51577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0840" y="547992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0480" y="5788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4437000"/>
            <a:ext cx="93492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47120" y="4843440"/>
            <a:ext cx="1666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5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72320" y="51912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47280" y="550080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÷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8920" y="58402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976800">
            <a:off x="2554200" y="1806120"/>
            <a:ext cx="48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刚才这些方程可不可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简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解方程的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9480" y="836640"/>
            <a:ext cx="1844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7440" y="118728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+1 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48880" y="1509840"/>
            <a:ext cx="11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13720" y="184464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÷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35360" y="2184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77560" y="1628640"/>
            <a:ext cx="20228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2×6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760" y="2001960"/>
            <a:ext cx="22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1320" y="2336760"/>
            <a:ext cx="31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38400" y="2658960"/>
            <a:ext cx="11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3240" y="299412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÷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24880" y="33336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40120" y="4530600"/>
            <a:ext cx="2187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）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3840" y="4916520"/>
            <a:ext cx="34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÷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3320" y="5234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6880" y="555624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96160" y="58644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23120" y="3487680"/>
            <a:ext cx="1666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5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8320" y="383544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23280" y="414504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÷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44920" y="44845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80080" y="1197000"/>
            <a:ext cx="22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79280" y="184464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76120" y="232416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6720" y="299736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00000" y="414972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5400" y="491976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2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92560" y="555480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13407" t="18595" r="16566" b="71317"/>
          <a:stretch/>
        </p:blipFill>
        <p:spPr>
          <a:xfrm>
            <a:off x="755640" y="2708280"/>
            <a:ext cx="7632720" cy="1560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29760" y="100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幼圆"/>
              </a:rPr>
              <a:t>解下列方程，可以用你喜欢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10208" t="28688" r="10208" b="7391"/>
          <a:stretch/>
        </p:blipFill>
        <p:spPr>
          <a:xfrm>
            <a:off x="1476360" y="117360"/>
            <a:ext cx="57484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rcRect l="10208" t="16346" r="10208" b="66820"/>
          <a:stretch/>
        </p:blipFill>
        <p:spPr>
          <a:xfrm>
            <a:off x="108000" y="3138480"/>
            <a:ext cx="7921440" cy="2378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946200" y="3573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63840" y="40273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61680" y="44308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56640" y="49165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31:13Z</dcterms:created>
  <dc:creator>User</dc:creator>
  <dc:description/>
  <dc:language>en-US</dc:language>
  <cp:lastModifiedBy>User</cp:lastModifiedBy>
  <dcterms:modified xsi:type="dcterms:W3CDTF">2010-10-19T15:31:41Z</dcterms:modified>
  <cp:revision>7</cp:revision>
  <dc:subject/>
  <dc:title>幻灯片 1</dc:title>
</cp:coreProperties>
</file>