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4.png" ContentType="image/png"/>
  <Override PartName="/ppt/media/image3.jpeg" ContentType="image/jpeg"/>
  <Override PartName="/ppt/media/image16.gif" ContentType="image/gif"/>
  <Override PartName="/ppt/media/image15.jpeg" ContentType="image/jpeg"/>
  <Override PartName="/ppt/media/image14.wmf" ContentType="image/x-wmf"/>
  <Override PartName="/ppt/media/image11.gif" ContentType="image/gif"/>
  <Override PartName="/ppt/media/image13.jpeg" ContentType="image/jpeg"/>
  <Override PartName="/ppt/media/image12.png" ContentType="image/png"/>
  <Override PartName="/ppt/media/image1.jpeg" ContentType="image/jpeg"/>
  <Override PartName="/ppt/media/suction.wav" ContentType="audio/x-wav"/>
  <Override PartName="/ppt/media/chimes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C9E8-1940-498E-99D9-39EC0B8123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647-061A-4B77-994C-3CEB4635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74D-0376-472D-92DD-A650AE7A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6F5-DCD3-4CD0-BB5C-245514B6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59E-7E7E-42C5-8CE2-0ABC746D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E10F-C736-465F-92CC-71485013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E9EB-32AF-4C3A-B03E-C284E78B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98A6-D36C-4D07-82BE-668DB355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AB8A-3B15-4509-8798-7303A8AF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00ED-D1DA-4B6F-8365-E7C56887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EFBC-687B-4FED-B1EF-FC3D9891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3CA3-7777-4352-B934-0DBAB41A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4EA-46D7-49D7-B3FB-20B24C2A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DB39-9297-43B8-8A27-5C829712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47D3-374F-4766-BBF5-E1FF0E90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529C-3AB2-4C87-B91E-B56660D9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1543-B305-40C5-A814-78A3A354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58AD-AAFE-4826-A410-1D06189C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3FE-1C58-42C2-9BF6-476F8F59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37E-5A10-4C38-BF22-1D50117D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573-1874-4869-8602-3483A481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864-97F5-4A02-B48D-E47F62A8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C35-3E95-4389-B3E8-58EC7FCC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28D-1009-4A85-AD07-745C6398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939-7A80-48FD-98BA-368AF52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1114-89AD-4674-BCB8-752AA8E9164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092F-E071-431C-914C-2B39FA2F95D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uction.wav" TargetMode="External"/><Relationship Id="rId2" Type="http://schemas.microsoft.com/office/2007/relationships/media" Target="file:///tmp/home/.config/libreoffice/4/user/gallery/suction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华文彩云"/>
              </a:rPr>
              <a:t>整理和复习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79640" y="4508640"/>
            <a:ext cx="504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33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教版二年级数学下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</a:rPr>
              <a:t>再比一比，看谁算的快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 ÷5=                  6 ÷6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 ÷3=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 ÷4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 ÷1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8288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1828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7432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666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3581280"/>
            <a:ext cx="62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990720" cy="893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38080" y="4419720"/>
            <a:ext cx="78645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被除数和除数相同，商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83908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23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还要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6 ÷1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4 ÷1=                    5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2362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3623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200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32004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4038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8006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48006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一个数除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，商都是它本身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914400" cy="820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91540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23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4724640" cy="178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14800" y="1066680"/>
            <a:ext cx="685800" cy="152640"/>
          </a:xfrm>
          <a:prstGeom prst="cloudCallout">
            <a:avLst>
              <a:gd name="adj1" fmla="val -43750"/>
              <a:gd name="adj2" fmla="val 89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75280" y="52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57200"/>
            <a:ext cx="4191120" cy="1523880"/>
            <a:chOff x="3657600" y="457200"/>
            <a:chExt cx="4191120" cy="1523880"/>
          </a:xfrm>
        </p:grpSpPr>
        <p:sp>
          <p:nvSpPr>
            <p:cNvPr id="229" name=""/>
            <p:cNvSpPr/>
            <p:nvPr/>
          </p:nvSpPr>
          <p:spPr>
            <a:xfrm>
              <a:off x="3657600" y="457200"/>
              <a:ext cx="4191120" cy="1523880"/>
            </a:xfrm>
            <a:prstGeom prst="cloudCallout">
              <a:avLst>
                <a:gd name="adj1" fmla="val -44773"/>
                <a:gd name="adj2" fmla="val 680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9600" y="685800"/>
              <a:ext cx="21924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们真了不起！春天在树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爷爷的发须里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2" name=""/>
          <p:cNvSpPr txBox="1"/>
          <p:nvPr/>
        </p:nvSpPr>
        <p:spPr>
          <a:xfrm>
            <a:off x="228600" y="457200"/>
            <a:ext cx="5867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累了，休息一下！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00800" y="609480"/>
            <a:ext cx="2209680" cy="1067040"/>
          </a:xfrm>
          <a:prstGeom prst="wedgeRoundRectCallout">
            <a:avLst>
              <a:gd name="adj1" fmla="val -52800"/>
              <a:gd name="adj2" fmla="val 88541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呵呵，让我们先来解决几道数学问题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648320"/>
            <a:ext cx="2400120" cy="1090440"/>
          </a:xfrm>
          <a:prstGeom prst="cloudCallout">
            <a:avLst>
              <a:gd name="adj1" fmla="val -43754"/>
              <a:gd name="adj2" fmla="val 11363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树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rot="16200000">
            <a:off x="5013360" y="3877920"/>
            <a:ext cx="214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18920" y="765000"/>
            <a:ext cx="4428000" cy="3159360"/>
            <a:chOff x="1618920" y="765000"/>
            <a:chExt cx="4428000" cy="3159360"/>
          </a:xfrm>
        </p:grpSpPr>
        <p:grpSp>
          <p:nvGrpSpPr>
            <p:cNvPr id="239" name=""/>
            <p:cNvGrpSpPr/>
            <p:nvPr/>
          </p:nvGrpSpPr>
          <p:grpSpPr>
            <a:xfrm>
              <a:off x="1618920" y="765000"/>
              <a:ext cx="1946160" cy="663480"/>
              <a:chOff x="1618920" y="765000"/>
              <a:chExt cx="1946160" cy="66348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161892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307960" y="7887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2955600" y="7887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" name=""/>
            <p:cNvGrpSpPr/>
            <p:nvPr/>
          </p:nvGrpSpPr>
          <p:grpSpPr>
            <a:xfrm>
              <a:off x="3708000" y="765000"/>
              <a:ext cx="2193840" cy="639720"/>
              <a:chOff x="3708000" y="765000"/>
              <a:chExt cx="2193840" cy="639720"/>
            </a:xfrm>
          </p:grpSpPr>
          <p:pic>
            <p:nvPicPr>
              <p:cNvPr id="244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70800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500360" y="765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292360" y="76500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1619280" y="1989000"/>
              <a:ext cx="1977480" cy="712800"/>
              <a:chOff x="1619280" y="1989000"/>
              <a:chExt cx="1977480" cy="7128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1619280" y="1989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268360" y="20620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2987280" y="20620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1" name=""/>
            <p:cNvGrpSpPr/>
            <p:nvPr/>
          </p:nvGrpSpPr>
          <p:grpSpPr>
            <a:xfrm>
              <a:off x="3779640" y="2060640"/>
              <a:ext cx="2195280" cy="639720"/>
              <a:chOff x="3779640" y="2060640"/>
              <a:chExt cx="2195280" cy="63972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36400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77964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572000" y="2060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"/>
            <p:cNvGrpSpPr/>
            <p:nvPr/>
          </p:nvGrpSpPr>
          <p:grpSpPr>
            <a:xfrm>
              <a:off x="1692360" y="3284640"/>
              <a:ext cx="2052720" cy="639720"/>
              <a:chOff x="1692360" y="3284640"/>
              <a:chExt cx="2052720" cy="639720"/>
            </a:xfrm>
          </p:grpSpPr>
          <p:pic>
            <p:nvPicPr>
              <p:cNvPr id="256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69236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412720" y="32846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13380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9" name=""/>
            <p:cNvGrpSpPr/>
            <p:nvPr/>
          </p:nvGrpSpPr>
          <p:grpSpPr>
            <a:xfrm>
              <a:off x="3924000" y="3213000"/>
              <a:ext cx="2122920" cy="711000"/>
              <a:chOff x="3924000" y="3213000"/>
              <a:chExt cx="2122920" cy="7110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392400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464472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437080" y="321300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"/>
          <p:cNvSpPr/>
          <p:nvPr/>
        </p:nvSpPr>
        <p:spPr>
          <a:xfrm>
            <a:off x="990720" y="5410080"/>
            <a:ext cx="7238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4648320"/>
            <a:ext cx="66294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×6=18               6×3=18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18÷3=6               18÷6=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7632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1197000"/>
            <a:ext cx="533520" cy="3441600"/>
          </a:xfrm>
          <a:custGeom>
            <a:avLst/>
            <a:gdLst/>
            <a:ahLst/>
            <a:rect l="l" t="t" r="r" b="b"/>
            <a:pathLst>
              <a:path w="585" h="2361">
                <a:moveTo>
                  <a:pt x="306" y="0"/>
                </a:moveTo>
                <a:cubicBezTo>
                  <a:pt x="318" y="3"/>
                  <a:pt x="332" y="2"/>
                  <a:pt x="342" y="9"/>
                </a:cubicBezTo>
                <a:cubicBezTo>
                  <a:pt x="351" y="15"/>
                  <a:pt x="352" y="28"/>
                  <a:pt x="360" y="36"/>
                </a:cubicBezTo>
                <a:cubicBezTo>
                  <a:pt x="377" y="53"/>
                  <a:pt x="397" y="64"/>
                  <a:pt x="414" y="81"/>
                </a:cubicBezTo>
                <a:cubicBezTo>
                  <a:pt x="432" y="136"/>
                  <a:pt x="448" y="186"/>
                  <a:pt x="459" y="243"/>
                </a:cubicBezTo>
                <a:cubicBezTo>
                  <a:pt x="467" y="432"/>
                  <a:pt x="462" y="613"/>
                  <a:pt x="441" y="801"/>
                </a:cubicBezTo>
                <a:cubicBezTo>
                  <a:pt x="444" y="888"/>
                  <a:pt x="443" y="975"/>
                  <a:pt x="450" y="1062"/>
                </a:cubicBezTo>
                <a:cubicBezTo>
                  <a:pt x="452" y="1093"/>
                  <a:pt x="462" y="1122"/>
                  <a:pt x="468" y="1152"/>
                </a:cubicBezTo>
                <a:cubicBezTo>
                  <a:pt x="470" y="1161"/>
                  <a:pt x="469" y="1173"/>
                  <a:pt x="477" y="1179"/>
                </a:cubicBezTo>
                <a:cubicBezTo>
                  <a:pt x="477" y="1179"/>
                  <a:pt x="544" y="1201"/>
                  <a:pt x="558" y="1206"/>
                </a:cubicBezTo>
                <a:cubicBezTo>
                  <a:pt x="567" y="1209"/>
                  <a:pt x="585" y="1215"/>
                  <a:pt x="585" y="1215"/>
                </a:cubicBezTo>
                <a:cubicBezTo>
                  <a:pt x="567" y="1242"/>
                  <a:pt x="541" y="1265"/>
                  <a:pt x="531" y="1296"/>
                </a:cubicBezTo>
                <a:cubicBezTo>
                  <a:pt x="525" y="1314"/>
                  <a:pt x="519" y="1332"/>
                  <a:pt x="513" y="1350"/>
                </a:cubicBezTo>
                <a:cubicBezTo>
                  <a:pt x="510" y="1359"/>
                  <a:pt x="504" y="1377"/>
                  <a:pt x="504" y="1377"/>
                </a:cubicBezTo>
                <a:cubicBezTo>
                  <a:pt x="482" y="1579"/>
                  <a:pt x="499" y="1782"/>
                  <a:pt x="450" y="1980"/>
                </a:cubicBezTo>
                <a:cubicBezTo>
                  <a:pt x="447" y="2025"/>
                  <a:pt x="447" y="2070"/>
                  <a:pt x="441" y="2115"/>
                </a:cubicBezTo>
                <a:cubicBezTo>
                  <a:pt x="438" y="2134"/>
                  <a:pt x="429" y="2151"/>
                  <a:pt x="423" y="2169"/>
                </a:cubicBezTo>
                <a:cubicBezTo>
                  <a:pt x="413" y="2198"/>
                  <a:pt x="405" y="2263"/>
                  <a:pt x="387" y="2286"/>
                </a:cubicBezTo>
                <a:cubicBezTo>
                  <a:pt x="380" y="2294"/>
                  <a:pt x="369" y="2298"/>
                  <a:pt x="360" y="2304"/>
                </a:cubicBezTo>
                <a:cubicBezTo>
                  <a:pt x="322" y="2361"/>
                  <a:pt x="291" y="2338"/>
                  <a:pt x="216" y="2331"/>
                </a:cubicBezTo>
                <a:cubicBezTo>
                  <a:pt x="207" y="2328"/>
                  <a:pt x="198" y="2324"/>
                  <a:pt x="189" y="2322"/>
                </a:cubicBezTo>
                <a:cubicBezTo>
                  <a:pt x="165" y="2318"/>
                  <a:pt x="141" y="2318"/>
                  <a:pt x="117" y="2313"/>
                </a:cubicBezTo>
                <a:cubicBezTo>
                  <a:pt x="82" y="2305"/>
                  <a:pt x="35" y="2268"/>
                  <a:pt x="0" y="2268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1125360"/>
            <a:ext cx="328680" cy="122400"/>
          </a:xfrm>
          <a:custGeom>
            <a:avLst/>
            <a:gdLst/>
            <a:ahLst/>
            <a:rect l="l" t="t" r="r" b="b"/>
            <a:pathLst>
              <a:path w="207" h="77">
                <a:moveTo>
                  <a:pt x="207" y="77"/>
                </a:moveTo>
                <a:cubicBezTo>
                  <a:pt x="192" y="33"/>
                  <a:pt x="157" y="18"/>
                  <a:pt x="117" y="5"/>
                </a:cubicBezTo>
                <a:cubicBezTo>
                  <a:pt x="77" y="9"/>
                  <a:pt x="20" y="0"/>
                  <a:pt x="0" y="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048120"/>
            <a:ext cx="1371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？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40000" y="5300640"/>
            <a:ext cx="4800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3 × 6 = 18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50560" y="1268280"/>
            <a:ext cx="4428000" cy="3159360"/>
            <a:chOff x="2050560" y="1268280"/>
            <a:chExt cx="4428000" cy="3159360"/>
          </a:xfrm>
        </p:grpSpPr>
        <p:grpSp>
          <p:nvGrpSpPr>
            <p:cNvPr id="271" name=""/>
            <p:cNvGrpSpPr/>
            <p:nvPr/>
          </p:nvGrpSpPr>
          <p:grpSpPr>
            <a:xfrm>
              <a:off x="2050560" y="1268280"/>
              <a:ext cx="1946160" cy="663480"/>
              <a:chOff x="2050560" y="1268280"/>
              <a:chExt cx="1946160" cy="663480"/>
            </a:xfrm>
          </p:grpSpPr>
          <p:pic>
            <p:nvPicPr>
              <p:cNvPr id="272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05056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739600" y="12920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3387240" y="12920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5" name=""/>
            <p:cNvGrpSpPr/>
            <p:nvPr/>
          </p:nvGrpSpPr>
          <p:grpSpPr>
            <a:xfrm>
              <a:off x="4139640" y="1268280"/>
              <a:ext cx="2193840" cy="639720"/>
              <a:chOff x="4139640" y="1268280"/>
              <a:chExt cx="2193840" cy="639720"/>
            </a:xfrm>
          </p:grpSpPr>
          <p:pic>
            <p:nvPicPr>
              <p:cNvPr id="276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413964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932000" y="1268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24000" y="12682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2050920" y="2492280"/>
              <a:ext cx="1977480" cy="712800"/>
              <a:chOff x="2050920" y="2492280"/>
              <a:chExt cx="1977480" cy="7128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2050920" y="2492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700000" y="25653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3418920" y="25653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3" name=""/>
            <p:cNvGrpSpPr/>
            <p:nvPr/>
          </p:nvGrpSpPr>
          <p:grpSpPr>
            <a:xfrm>
              <a:off x="4211280" y="2563920"/>
              <a:ext cx="2195280" cy="639720"/>
              <a:chOff x="4211280" y="2563920"/>
              <a:chExt cx="2195280" cy="63972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79564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421128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5003640" y="2563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2124000" y="3787920"/>
              <a:ext cx="2052720" cy="639720"/>
              <a:chOff x="2124000" y="3787920"/>
              <a:chExt cx="2052720" cy="639720"/>
            </a:xfrm>
          </p:grpSpPr>
          <p:pic>
            <p:nvPicPr>
              <p:cNvPr id="288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12400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844360" y="378792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56544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"/>
            <p:cNvGrpSpPr/>
            <p:nvPr/>
          </p:nvGrpSpPr>
          <p:grpSpPr>
            <a:xfrm>
              <a:off x="4355640" y="3716280"/>
              <a:ext cx="2122920" cy="711000"/>
              <a:chOff x="4355640" y="3716280"/>
              <a:chExt cx="2122920" cy="7110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35564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507636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868720" y="371628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067680" cy="68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907920"/>
            <a:ext cx="4673520" cy="920880"/>
            <a:chOff x="1371600" y="907920"/>
            <a:chExt cx="4673520" cy="9208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371600" y="91440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212400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291636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378000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464328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43564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6516720" y="907920"/>
            <a:ext cx="495360" cy="4314960"/>
          </a:xfrm>
          <a:custGeom>
            <a:avLst/>
            <a:gdLst/>
            <a:ahLst/>
            <a:rect l="l" t="t" r="r" b="b"/>
            <a:pathLst>
              <a:path w="312" h="2718">
                <a:moveTo>
                  <a:pt x="9" y="0"/>
                </a:moveTo>
                <a:cubicBezTo>
                  <a:pt x="65" y="56"/>
                  <a:pt x="72" y="65"/>
                  <a:pt x="108" y="126"/>
                </a:cubicBezTo>
                <a:cubicBezTo>
                  <a:pt x="119" y="145"/>
                  <a:pt x="132" y="162"/>
                  <a:pt x="144" y="180"/>
                </a:cubicBezTo>
                <a:cubicBezTo>
                  <a:pt x="150" y="189"/>
                  <a:pt x="162" y="207"/>
                  <a:pt x="162" y="207"/>
                </a:cubicBezTo>
                <a:cubicBezTo>
                  <a:pt x="175" y="259"/>
                  <a:pt x="183" y="294"/>
                  <a:pt x="189" y="351"/>
                </a:cubicBezTo>
                <a:cubicBezTo>
                  <a:pt x="184" y="472"/>
                  <a:pt x="186" y="592"/>
                  <a:pt x="162" y="711"/>
                </a:cubicBezTo>
                <a:cubicBezTo>
                  <a:pt x="165" y="855"/>
                  <a:pt x="165" y="999"/>
                  <a:pt x="171" y="1143"/>
                </a:cubicBezTo>
                <a:cubicBezTo>
                  <a:pt x="172" y="1173"/>
                  <a:pt x="199" y="1203"/>
                  <a:pt x="225" y="1215"/>
                </a:cubicBezTo>
                <a:cubicBezTo>
                  <a:pt x="242" y="1223"/>
                  <a:pt x="279" y="1233"/>
                  <a:pt x="279" y="1233"/>
                </a:cubicBezTo>
                <a:cubicBezTo>
                  <a:pt x="265" y="1274"/>
                  <a:pt x="252" y="1263"/>
                  <a:pt x="216" y="1287"/>
                </a:cubicBezTo>
                <a:cubicBezTo>
                  <a:pt x="204" y="1305"/>
                  <a:pt x="192" y="1323"/>
                  <a:pt x="180" y="1341"/>
                </a:cubicBezTo>
                <a:cubicBezTo>
                  <a:pt x="169" y="1357"/>
                  <a:pt x="162" y="1395"/>
                  <a:pt x="162" y="1395"/>
                </a:cubicBezTo>
                <a:cubicBezTo>
                  <a:pt x="168" y="1571"/>
                  <a:pt x="147" y="1813"/>
                  <a:pt x="189" y="1980"/>
                </a:cubicBezTo>
                <a:cubicBezTo>
                  <a:pt x="188" y="2061"/>
                  <a:pt x="312" y="2718"/>
                  <a:pt x="0" y="271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3080" y="256536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14480" y="885960"/>
            <a:ext cx="900000" cy="4357440"/>
          </a:xfrm>
          <a:custGeom>
            <a:avLst/>
            <a:gdLst/>
            <a:ahLst/>
            <a:rect l="l" t="t" r="r" b="b"/>
            <a:pathLst>
              <a:path w="567" h="2745">
                <a:moveTo>
                  <a:pt x="261" y="0"/>
                </a:moveTo>
                <a:cubicBezTo>
                  <a:pt x="243" y="6"/>
                  <a:pt x="225" y="12"/>
                  <a:pt x="207" y="18"/>
                </a:cubicBezTo>
                <a:cubicBezTo>
                  <a:pt x="198" y="21"/>
                  <a:pt x="180" y="27"/>
                  <a:pt x="180" y="27"/>
                </a:cubicBezTo>
                <a:cubicBezTo>
                  <a:pt x="162" y="54"/>
                  <a:pt x="136" y="77"/>
                  <a:pt x="126" y="108"/>
                </a:cubicBezTo>
                <a:cubicBezTo>
                  <a:pt x="120" y="126"/>
                  <a:pt x="108" y="162"/>
                  <a:pt x="108" y="162"/>
                </a:cubicBezTo>
                <a:cubicBezTo>
                  <a:pt x="88" y="305"/>
                  <a:pt x="79" y="463"/>
                  <a:pt x="126" y="603"/>
                </a:cubicBezTo>
                <a:cubicBezTo>
                  <a:pt x="130" y="642"/>
                  <a:pt x="144" y="681"/>
                  <a:pt x="144" y="720"/>
                </a:cubicBezTo>
                <a:cubicBezTo>
                  <a:pt x="144" y="810"/>
                  <a:pt x="140" y="900"/>
                  <a:pt x="135" y="990"/>
                </a:cubicBezTo>
                <a:cubicBezTo>
                  <a:pt x="132" y="1033"/>
                  <a:pt x="106" y="1073"/>
                  <a:pt x="99" y="1116"/>
                </a:cubicBezTo>
                <a:cubicBezTo>
                  <a:pt x="85" y="1199"/>
                  <a:pt x="92" y="1292"/>
                  <a:pt x="0" y="1323"/>
                </a:cubicBezTo>
                <a:cubicBezTo>
                  <a:pt x="51" y="1340"/>
                  <a:pt x="55" y="1378"/>
                  <a:pt x="90" y="1413"/>
                </a:cubicBezTo>
                <a:cubicBezTo>
                  <a:pt x="99" y="1465"/>
                  <a:pt x="111" y="1515"/>
                  <a:pt x="126" y="1566"/>
                </a:cubicBezTo>
                <a:cubicBezTo>
                  <a:pt x="131" y="1584"/>
                  <a:pt x="144" y="1620"/>
                  <a:pt x="144" y="1620"/>
                </a:cubicBezTo>
                <a:cubicBezTo>
                  <a:pt x="147" y="1716"/>
                  <a:pt x="153" y="1812"/>
                  <a:pt x="153" y="1908"/>
                </a:cubicBezTo>
                <a:cubicBezTo>
                  <a:pt x="153" y="1986"/>
                  <a:pt x="142" y="2064"/>
                  <a:pt x="144" y="2142"/>
                </a:cubicBezTo>
                <a:cubicBezTo>
                  <a:pt x="146" y="2220"/>
                  <a:pt x="176" y="2298"/>
                  <a:pt x="207" y="2367"/>
                </a:cubicBezTo>
                <a:cubicBezTo>
                  <a:pt x="232" y="2424"/>
                  <a:pt x="241" y="2488"/>
                  <a:pt x="261" y="2547"/>
                </a:cubicBezTo>
                <a:cubicBezTo>
                  <a:pt x="274" y="2585"/>
                  <a:pt x="331" y="2613"/>
                  <a:pt x="360" y="2637"/>
                </a:cubicBezTo>
                <a:cubicBezTo>
                  <a:pt x="419" y="2686"/>
                  <a:pt x="485" y="2745"/>
                  <a:pt x="567" y="2745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286920" y="2514600"/>
            <a:ext cx="127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？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5562720"/>
            <a:ext cx="457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 ÷ 6 = 3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（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-76320"/>
            <a:ext cx="9220320" cy="68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1413000"/>
            <a:ext cx="4800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56536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371628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914400"/>
            <a:ext cx="522360" cy="3033720"/>
          </a:xfrm>
          <a:custGeom>
            <a:avLst/>
            <a:gdLst/>
            <a:ahLst/>
            <a:rect l="l" t="t" r="r" b="b"/>
            <a:pathLst>
              <a:path w="329" h="1911">
                <a:moveTo>
                  <a:pt x="0" y="0"/>
                </a:moveTo>
                <a:cubicBezTo>
                  <a:pt x="64" y="43"/>
                  <a:pt x="43" y="19"/>
                  <a:pt x="73" y="64"/>
                </a:cubicBezTo>
                <a:cubicBezTo>
                  <a:pt x="85" y="102"/>
                  <a:pt x="105" y="136"/>
                  <a:pt x="119" y="174"/>
                </a:cubicBezTo>
                <a:cubicBezTo>
                  <a:pt x="131" y="247"/>
                  <a:pt x="137" y="321"/>
                  <a:pt x="155" y="393"/>
                </a:cubicBezTo>
                <a:cubicBezTo>
                  <a:pt x="169" y="537"/>
                  <a:pt x="158" y="759"/>
                  <a:pt x="329" y="814"/>
                </a:cubicBezTo>
                <a:cubicBezTo>
                  <a:pt x="313" y="882"/>
                  <a:pt x="278" y="947"/>
                  <a:pt x="265" y="1015"/>
                </a:cubicBezTo>
                <a:cubicBezTo>
                  <a:pt x="254" y="1070"/>
                  <a:pt x="261" y="1046"/>
                  <a:pt x="247" y="1088"/>
                </a:cubicBezTo>
                <a:cubicBezTo>
                  <a:pt x="236" y="1226"/>
                  <a:pt x="228" y="1362"/>
                  <a:pt x="219" y="1500"/>
                </a:cubicBezTo>
                <a:cubicBezTo>
                  <a:pt x="213" y="1600"/>
                  <a:pt x="211" y="1703"/>
                  <a:pt x="164" y="1792"/>
                </a:cubicBezTo>
                <a:cubicBezTo>
                  <a:pt x="143" y="1879"/>
                  <a:pt x="113" y="1911"/>
                  <a:pt x="18" y="1911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1981080"/>
            <a:ext cx="1295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191120"/>
            <a:ext cx="838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能提出一个数学问题吗？你会解答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609840" cy="761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209680" y="5029200"/>
            <a:ext cx="4953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8÷ 3 = 6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10080" y="762120"/>
            <a:ext cx="37339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867280" y="380880"/>
            <a:ext cx="2895840" cy="1447920"/>
            <a:chOff x="5867280" y="380880"/>
            <a:chExt cx="2895840" cy="1447920"/>
          </a:xfrm>
        </p:grpSpPr>
        <p:sp>
          <p:nvSpPr>
            <p:cNvPr id="320" name=""/>
            <p:cNvSpPr/>
            <p:nvPr/>
          </p:nvSpPr>
          <p:spPr>
            <a:xfrm>
              <a:off x="5867280" y="380880"/>
              <a:ext cx="2895840" cy="1447920"/>
            </a:xfrm>
            <a:prstGeom prst="wedgeRoundRectCallout">
              <a:avLst>
                <a:gd name="adj1" fmla="val -42763"/>
                <a:gd name="adj2" fmla="val 5844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7760" y="477720"/>
              <a:ext cx="2635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们真聪明，春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在森林爷爷的怀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56144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使学生能够熟练运用所学的乘、除法知识解决问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重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高学生解决问题技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难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66880" y="3048120"/>
            <a:ext cx="914400" cy="838080"/>
          </a:xfrm>
          <a:prstGeom prst="cloudCallout">
            <a:avLst>
              <a:gd name="adj1" fmla="val -43750"/>
              <a:gd name="adj2" fmla="val 64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4114800" y="0"/>
            <a:ext cx="4645080" cy="2057400"/>
            <a:chOff x="4114800" y="0"/>
            <a:chExt cx="4645080" cy="2057400"/>
          </a:xfrm>
        </p:grpSpPr>
        <p:sp>
          <p:nvSpPr>
            <p:cNvPr id="325" name=""/>
            <p:cNvSpPr/>
            <p:nvPr/>
          </p:nvSpPr>
          <p:spPr>
            <a:xfrm>
              <a:off x="4114800" y="0"/>
              <a:ext cx="3733920" cy="2057400"/>
            </a:xfrm>
            <a:prstGeom prst="cloudCallout">
              <a:avLst>
                <a:gd name="adj1" fmla="val -42217"/>
                <a:gd name="adj2" fmla="val 8333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95680" y="457200"/>
              <a:ext cx="4264200" cy="13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同学们，你们好，只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多动脑，春天很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就会找到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  <a:ea typeface="楷体_GB2312"/>
              </a:rPr>
              <a:t>动脑筋，想一想。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根绳长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16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米，再对折，每折长几米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你能想出不同的计算方法吗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295280" y="47242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 ÷ 4 = 4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米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410080" y="228600"/>
            <a:ext cx="3429000" cy="1509840"/>
          </a:xfrm>
          <a:prstGeom prst="cloudCallout">
            <a:avLst>
              <a:gd name="adj1" fmla="val -27407"/>
              <a:gd name="adj2" fmla="val 710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孩子们，你们就是祖国的春天，春天就在你们的眼睛里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334120"/>
            <a:ext cx="3048120" cy="990360"/>
          </a:xfrm>
          <a:prstGeom prst="cloudCallout">
            <a:avLst>
              <a:gd name="adj1" fmla="val -45518"/>
              <a:gd name="adj2" fmla="val 1118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森林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3880"/>
            <a:ext cx="2286000" cy="1173240"/>
          </a:xfrm>
          <a:prstGeom prst="wedgeEllipseCallout">
            <a:avLst>
              <a:gd name="adj1" fmla="val 44166"/>
              <a:gd name="adj2" fmla="val 83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买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苹果，要分给三只小熊，你能帮我分分吗？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762120"/>
            <a:ext cx="2171880" cy="1249200"/>
          </a:xfrm>
          <a:prstGeom prst="cloudCallout">
            <a:avLst>
              <a:gd name="adj1" fmla="val -45027"/>
              <a:gd name="adj2" fmla="val 10349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828800"/>
            <a:ext cx="2743200" cy="1219320"/>
          </a:xfrm>
          <a:prstGeom prst="cloudCallout">
            <a:avLst>
              <a:gd name="adj1" fmla="val -60416"/>
              <a:gd name="adj2" fmla="val 865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419720"/>
            <a:ext cx="2895840" cy="1287360"/>
          </a:xfrm>
          <a:prstGeom prst="cloudCallout">
            <a:avLst>
              <a:gd name="adj1" fmla="val -88597"/>
              <a:gd name="adj2" fmla="val -3273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200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400800" y="5181480"/>
            <a:ext cx="2209680" cy="533520"/>
            <a:chOff x="6400800" y="5181480"/>
            <a:chExt cx="2209680" cy="533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924680" y="5181480"/>
              <a:ext cx="685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73911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6858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64008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3429000" y="5181480"/>
            <a:ext cx="2187720" cy="533520"/>
            <a:chOff x="3429000" y="5181480"/>
            <a:chExt cx="2187720" cy="53352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0292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449604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396252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34290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09480" y="5181480"/>
            <a:ext cx="2111400" cy="533520"/>
            <a:chOff x="609480" y="5181480"/>
            <a:chExt cx="2111400" cy="533520"/>
          </a:xfrm>
        </p:grpSpPr>
        <p:pic>
          <p:nvPicPr>
            <p:cNvPr id="117" name="" descr=""/>
            <p:cNvPicPr/>
            <p:nvPr/>
          </p:nvPicPr>
          <p:blipFill>
            <a:blip r:embed="rId10"/>
            <a:stretch/>
          </p:blipFill>
          <p:spPr>
            <a:xfrm>
              <a:off x="21333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1"/>
            <a:stretch/>
          </p:blipFill>
          <p:spPr>
            <a:xfrm>
              <a:off x="16002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2"/>
            <a:stretch/>
          </p:blipFill>
          <p:spPr>
            <a:xfrm>
              <a:off x="1143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3"/>
            <a:stretch/>
          </p:blipFill>
          <p:spPr>
            <a:xfrm>
              <a:off x="60948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685800" y="3581280"/>
            <a:ext cx="1577880" cy="533160"/>
            <a:chOff x="685800" y="3581280"/>
            <a:chExt cx="1577880" cy="533160"/>
          </a:xfrm>
        </p:grpSpPr>
        <p:grpSp>
          <p:nvGrpSpPr>
            <p:cNvPr id="122" name=""/>
            <p:cNvGrpSpPr/>
            <p:nvPr/>
          </p:nvGrpSpPr>
          <p:grpSpPr>
            <a:xfrm>
              <a:off x="685800" y="3581280"/>
              <a:ext cx="1044360" cy="533160"/>
              <a:chOff x="685800" y="3581280"/>
              <a:chExt cx="1044360" cy="533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58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430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" descr=""/>
            <p:cNvPicPr/>
            <p:nvPr/>
          </p:nvPicPr>
          <p:blipFill>
            <a:blip r:embed="rId16"/>
            <a:stretch/>
          </p:blipFill>
          <p:spPr>
            <a:xfrm>
              <a:off x="1676520" y="3581280"/>
              <a:ext cx="587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971800" y="3581280"/>
            <a:ext cx="3254400" cy="533520"/>
            <a:chOff x="2971800" y="3581280"/>
            <a:chExt cx="3254400" cy="533520"/>
          </a:xfrm>
        </p:grpSpPr>
        <p:pic>
          <p:nvPicPr>
            <p:cNvPr id="127" name="" descr=""/>
            <p:cNvPicPr/>
            <p:nvPr/>
          </p:nvPicPr>
          <p:blipFill>
            <a:blip r:embed="rId17"/>
            <a:stretch/>
          </p:blipFill>
          <p:spPr>
            <a:xfrm>
              <a:off x="510552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2971800" y="3581280"/>
              <a:ext cx="3254400" cy="533520"/>
              <a:chOff x="2971800" y="3581280"/>
              <a:chExt cx="3254400" cy="53352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718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505320" y="3581280"/>
                <a:ext cx="587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384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5720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386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" name=""/>
          <p:cNvGrpSpPr/>
          <p:nvPr/>
        </p:nvGrpSpPr>
        <p:grpSpPr>
          <a:xfrm>
            <a:off x="6858000" y="3581280"/>
            <a:ext cx="1577520" cy="533520"/>
            <a:chOff x="6858000" y="3581280"/>
            <a:chExt cx="1577520" cy="533520"/>
          </a:xfrm>
        </p:grpSpPr>
        <p:pic>
          <p:nvPicPr>
            <p:cNvPr id="135" name="" descr=""/>
            <p:cNvPicPr/>
            <p:nvPr/>
          </p:nvPicPr>
          <p:blipFill>
            <a:blip r:embed="rId23"/>
            <a:stretch/>
          </p:blipFill>
          <p:spPr>
            <a:xfrm>
              <a:off x="685800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4"/>
            <a:stretch/>
          </p:blipFill>
          <p:spPr>
            <a:xfrm>
              <a:off x="731484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5"/>
            <a:stretch/>
          </p:blipFill>
          <p:spPr>
            <a:xfrm>
              <a:off x="784836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85800" y="2057400"/>
            <a:ext cx="2644560" cy="533520"/>
            <a:chOff x="685800" y="2057400"/>
            <a:chExt cx="2644560" cy="533520"/>
          </a:xfrm>
        </p:grpSpPr>
        <p:pic>
          <p:nvPicPr>
            <p:cNvPr id="139" name="" descr=""/>
            <p:cNvPicPr/>
            <p:nvPr/>
          </p:nvPicPr>
          <p:blipFill>
            <a:blip r:embed="rId26"/>
            <a:stretch/>
          </p:blipFill>
          <p:spPr>
            <a:xfrm>
              <a:off x="6858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7"/>
            <a:stretch/>
          </p:blipFill>
          <p:spPr>
            <a:xfrm>
              <a:off x="121896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8"/>
            <a:stretch/>
          </p:blipFill>
          <p:spPr>
            <a:xfrm>
              <a:off x="17524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9"/>
            <a:stretch/>
          </p:blipFill>
          <p:spPr>
            <a:xfrm>
              <a:off x="22096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0"/>
            <a:stretch/>
          </p:blipFill>
          <p:spPr>
            <a:xfrm>
              <a:off x="27432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3733920" y="2057400"/>
            <a:ext cx="2187000" cy="533160"/>
            <a:chOff x="3733920" y="2057400"/>
            <a:chExt cx="2187000" cy="533160"/>
          </a:xfrm>
        </p:grpSpPr>
        <p:pic>
          <p:nvPicPr>
            <p:cNvPr id="145" name="" descr=""/>
            <p:cNvPicPr/>
            <p:nvPr/>
          </p:nvPicPr>
          <p:blipFill>
            <a:blip r:embed="rId31"/>
            <a:stretch/>
          </p:blipFill>
          <p:spPr>
            <a:xfrm>
              <a:off x="4267080" y="205740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733920" y="2057400"/>
              <a:ext cx="2187000" cy="533160"/>
              <a:chOff x="3733920" y="2057400"/>
              <a:chExt cx="2187000" cy="5331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3392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800600" y="2057400"/>
                <a:ext cx="5868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3376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"/>
          <p:cNvGrpSpPr/>
          <p:nvPr/>
        </p:nvGrpSpPr>
        <p:grpSpPr>
          <a:xfrm>
            <a:off x="6781680" y="2133720"/>
            <a:ext cx="1654200" cy="533160"/>
            <a:chOff x="6781680" y="2133720"/>
            <a:chExt cx="1654200" cy="533160"/>
          </a:xfrm>
        </p:grpSpPr>
        <p:pic>
          <p:nvPicPr>
            <p:cNvPr id="151" name="" descr=""/>
            <p:cNvPicPr/>
            <p:nvPr/>
          </p:nvPicPr>
          <p:blipFill>
            <a:blip r:embed="rId35"/>
            <a:stretch/>
          </p:blipFill>
          <p:spPr>
            <a:xfrm>
              <a:off x="6781680" y="2133720"/>
              <a:ext cx="587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6"/>
            <a:stretch/>
          </p:blipFill>
          <p:spPr>
            <a:xfrm>
              <a:off x="731484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7"/>
            <a:stretch/>
          </p:blipFill>
          <p:spPr>
            <a:xfrm>
              <a:off x="784836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6201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每份分得同样多，就是平均分。可以用除法来计算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12     ÷    3    =       4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6094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9718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89548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2895480"/>
            <a:ext cx="0" cy="1371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被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6576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4267080"/>
            <a:ext cx="838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6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990720"/>
            <a:ext cx="754380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067040" cy="1373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62320" y="2209680"/>
            <a:ext cx="5715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苹果，如果每只小熊分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，可以分给几只小熊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4800600"/>
            <a:ext cx="4876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2÷2=6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（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30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52680" y="533520"/>
            <a:ext cx="4953240" cy="28191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-38088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14400" y="3200400"/>
            <a:ext cx="251460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343400" y="2971800"/>
            <a:ext cx="3429000" cy="1752480"/>
            <a:chOff x="4343400" y="2971800"/>
            <a:chExt cx="3429000" cy="1752480"/>
          </a:xfrm>
        </p:grpSpPr>
        <p:sp>
          <p:nvSpPr>
            <p:cNvPr id="174" name=""/>
            <p:cNvSpPr/>
            <p:nvPr/>
          </p:nvSpPr>
          <p:spPr>
            <a:xfrm>
              <a:off x="4343400" y="2971800"/>
              <a:ext cx="2895480" cy="1752480"/>
            </a:xfrm>
            <a:prstGeom prst="cloudCallout">
              <a:avLst>
                <a:gd name="adj1" fmla="val -88652"/>
                <a:gd name="adj2" fmla="val -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124080"/>
              <a:ext cx="2895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你们去问小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吧，春天在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鸟的歌声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3520" y="1066680"/>
            <a:ext cx="838080" cy="7621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-304920" y="228600"/>
            <a:ext cx="2590920" cy="1143000"/>
            <a:chOff x="-304920" y="228600"/>
            <a:chExt cx="2590920" cy="1143000"/>
          </a:xfrm>
        </p:grpSpPr>
        <p:sp>
          <p:nvSpPr>
            <p:cNvPr id="178" name=""/>
            <p:cNvSpPr/>
            <p:nvPr/>
          </p:nvSpPr>
          <p:spPr>
            <a:xfrm>
              <a:off x="-304920" y="228600"/>
              <a:ext cx="2590920" cy="1143000"/>
            </a:xfrm>
            <a:prstGeom prst="flowChartMagneticTap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335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33"/>
                  </a:solidFill>
                  <a:latin typeface="Times New Roman"/>
                  <a:ea typeface="楷体_GB2312"/>
                </a:rPr>
                <a:t>你真棒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4724280" cy="178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1143000" cy="846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838080" y="4038480"/>
            <a:ext cx="2743200" cy="1295640"/>
            <a:chOff x="838080" y="4038480"/>
            <a:chExt cx="2743200" cy="1295640"/>
          </a:xfrm>
        </p:grpSpPr>
        <p:sp>
          <p:nvSpPr>
            <p:cNvPr id="184" name=""/>
            <p:cNvSpPr/>
            <p:nvPr/>
          </p:nvSpPr>
          <p:spPr>
            <a:xfrm>
              <a:off x="838080" y="4038480"/>
              <a:ext cx="2743200" cy="1295640"/>
            </a:xfrm>
            <a:prstGeom prst="cloudCallout">
              <a:avLst>
                <a:gd name="adj1" fmla="val -42708"/>
                <a:gd name="adj2" fmla="val 14289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9400" y="4287960"/>
              <a:ext cx="1278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小鸟小鸟，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天在哪里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724280" y="0"/>
            <a:ext cx="3124440" cy="1295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029200" y="0"/>
            <a:ext cx="3352680" cy="1905120"/>
            <a:chOff x="5029200" y="0"/>
            <a:chExt cx="3352680" cy="1905120"/>
          </a:xfrm>
        </p:grpSpPr>
        <p:sp>
          <p:nvSpPr>
            <p:cNvPr id="188" name=""/>
            <p:cNvSpPr/>
            <p:nvPr/>
          </p:nvSpPr>
          <p:spPr>
            <a:xfrm>
              <a:off x="5029200" y="0"/>
              <a:ext cx="3352680" cy="1905120"/>
            </a:xfrm>
            <a:prstGeom prst="cloudCallout">
              <a:avLst>
                <a:gd name="adj1" fmla="val -63921"/>
                <a:gd name="adj2" fmla="val 651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88520" y="485640"/>
              <a:ext cx="184176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咱们比比吧，如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赢了，就告诉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36÷6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÷5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 ÷3=                   24 ÷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8÷2=                     16 ÷4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÷4=                   12 ÷3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0 ÷2=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÷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71800" y="1752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17524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590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25146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352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352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029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50292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6:05Z</dcterms:created>
  <dc:creator/>
  <dc:description/>
  <cp:keywords/>
  <dc:language>en-US</dc:language>
  <cp:lastModifiedBy>微软用户</cp:lastModifiedBy>
  <dcterms:modified xsi:type="dcterms:W3CDTF">2012-02-29T00:45:33Z</dcterms:modified>
  <cp:revision>26</cp:revision>
  <dc:subject/>
  <dc:title/>
</cp:coreProperties>
</file>