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11.png" ContentType="image/png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6AB-824A-4285-94D3-7FEE2DBE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9BE-B3B3-4BE8-B906-A1E4A55F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3477E-FCD2-4EEB-B453-571B265C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6379E-85C8-4E04-9237-6E978105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A864B-6BBE-413B-AAF6-417D97B0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A15FD-0080-4B98-A3F8-4199AA1F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ECFFB-C85E-4981-A5C8-BCB5D3F7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D21E3-3079-4A43-9A40-18D3148D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266EA-C607-4C15-BFB9-C8AF7B05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0B1F3-EF0D-43FD-9B0A-DF15237F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225A5-F1BA-47BD-9798-6CCE8101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6CE32-A366-40B2-B20F-9486ED24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1D6-0EFC-4B1A-8601-9EA425B2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F6DA2-FF81-4AB3-A60B-C1D618E6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1E63E-B4B9-4259-9BDE-729C1E02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39B60-01F7-443C-8D4F-27EB1AAD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6F6BB-A127-4F37-9357-CFB6E7D2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5FCDA-9408-4B8D-9AA9-45CBA2CB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958C5-F02F-499E-BDBF-20323CFA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C631A-8F03-4F13-8BA6-E9D0DAE1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E0A6A-7ED3-4B8B-87B6-39A65701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B3C6B-2A3C-4497-BD3A-717491B3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C2F23-AC59-4447-BA5E-FB605696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010-1E09-4AF9-BE32-6B793D3B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5C9FB-7E4A-450A-BA8C-58B6FBB7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2215F-AA12-4909-AD0D-7B190883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6994B-A72A-4DEF-8F3C-FCEB4D0C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93411-B9AE-4520-AFD0-E0BF08A2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90EE0-4774-41D5-93F5-38A5FC03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F36DF-1946-4BA4-BEDD-4BBD92D1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55520-D875-4731-94E8-6085E32C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DA1EA-1885-428C-99D0-45DCE440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E6338-FBFE-479C-96E6-54021EE0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D929A-861C-46B4-8C08-BEA2D618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29EC-732D-441E-81AF-C5BA521B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82594-D667-4272-B08A-5964C9C0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F1515-6324-49D3-810E-A561A683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E1103-438B-4343-82D1-C514DDDF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8ADB3-75D7-4682-A6C2-72A28F03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88D73-9C84-4440-AC99-2EC14090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89781-2A19-473E-B866-605BC1F3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E942D-9746-4CE6-BA1A-E8AA4E99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9F978-A765-42FE-8AFF-10997B15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AC845-9974-4532-AF8B-4437626A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8FD17-DB18-448B-8222-25563B75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6B4D-BE8F-477D-85E9-24F5DC42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04B92-112B-4878-A900-F8279CB9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70740-5D85-479F-BD2F-D8030E8F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C6B13-96FB-47A3-9C09-AB5FB945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13316-0B16-41D5-85CF-F1CD7061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C5382-976D-4BDB-BB8D-CBD4B6EA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9CA3-A10C-46CD-B498-6884A92F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92ED-85C5-4248-A564-EB3FB71B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EB05-304A-4510-9F6F-36E23B40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1162-48AE-453B-867D-C9063286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5351-4874-4527-B390-E165F240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D59A-EEED-4155-8C59-64714CA2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BBEF-AD8B-4306-A4BD-B48F83F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C6EE-C8E1-4F6F-A44D-56789E6B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F261-577F-412C-B05F-5BF1DBCD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26EA-FFCA-4454-8153-74BEA556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1779-F888-412C-9A47-1BF2ACD9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39FC3-6E31-4DA6-8CCD-59F76D2B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1684D-FEF8-4853-A9A9-44900D3D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88B8-B1CD-4A7C-A051-3731F2F5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9E5B-D404-41FA-99A2-811E9734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18BD-BA29-4172-AF76-604FD1E6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0F3-7F73-41D7-A21F-C37879BB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D0477-9DA6-445B-86C2-0374EC98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0315-048F-4D6C-84A2-FC2263F3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0528-4C4B-439A-B674-B0BDBB7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C7B6-4B6F-4BDE-9667-88933FE6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A9FD6-29DE-411B-AFC5-08772CB0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4FBD-0869-4184-95FE-40DE46BA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EA5A-C477-438C-B40F-CC629442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7048D-6D8C-459F-9887-1A19F23B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5BCD-19E4-4209-BF8F-CAEE8D5C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52A1-81C2-4A42-8B41-2B02D590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39F-3175-48D6-B88A-D1EEFE9E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FDEDA-CF1A-48B2-8B80-F356E1A5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631E-4C6F-406A-86D3-3BCD8C64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5FB03-4DCD-490E-925F-A86C53F8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D5D6A-BC27-41B0-B020-D482FBFF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0CA0C-68E7-4DF3-A369-8820CCA6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8F456-D88C-421D-B1F1-EAE65711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F47DF-A2A6-457D-A48F-6B4AD2EF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89005-9EC1-4231-91AA-84AFE6D2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EC10-88D9-4B04-A50A-8FD0A509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3EC73-A65F-4580-8901-2FBF7213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C18-FE4A-4E65-AD79-B2EB83B9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42E17-DDA0-481D-AE73-23BE9D5B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3B62-2805-4642-9A6C-A45F1863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B3273-D004-4D92-AD10-CC229BE6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58953-C42B-40C9-92BC-A7494CC7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7617D-663B-46A0-8560-BD023CA6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12EF7-18A2-4291-B037-3ACC736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E2DF3-D047-44E1-A564-6D18F2BD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78A0E-E251-4128-A79F-EEB86CED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352B7-AB1E-4244-81AD-F8855EE9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FAB9F-317A-4F21-A8EC-21CC1F3E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6F7-7777-4339-AF27-8EB3402A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E4544-502D-409B-B3A2-B69E5E55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EFA72-E1FA-4597-9855-1AFFC58A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4DA8E-DC71-43C3-A29C-BBB6E99A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9673-7326-4CA2-BB2A-9BC21198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221DA-54AC-4B50-976F-23CA4BCA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601E6-E0CD-4E4D-813F-538E52FD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29103-2E39-4C4D-A2F0-7327EA49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B705B-F576-4E25-9A69-E005623A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1A3E8-22FF-42CF-BA09-91AD3B41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25B01-ED29-4536-B65B-352A4B27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D44-08F0-46FD-9DF4-CB123431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53CD2-359B-461C-9392-132E9002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459E8-72B6-4E5D-9919-23A9B23E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3D4CB-B085-4270-95B1-BE8B5B8B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00167-5524-4BB7-9BEB-938102CB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D3169-A270-489E-8B97-BB7F45BD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7BB74-EEEC-41BA-96C2-29560313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BA520-1C34-41CA-978F-127556DE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E33D8-B6D6-4C38-8F84-BDBEDAC0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FE9DA-2453-4EE2-8A07-4E232459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75EFE-2C9D-4D13-B7E5-37F7E6B1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B05-B751-4056-A79A-80491CDF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E6E7E-A514-4AFA-ACD3-3A4025DE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3DD8A-F6CA-45A4-BE06-681E2BD0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61B5B-B7CF-46A5-891E-DA512E7E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A56B1-6780-44C3-A549-3A6C756A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7306A-C98B-4957-821F-ADC7E8A5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D9B42-86E4-4FEE-BBD4-89F1FFBF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53708-44BF-49B0-BD6D-B3805C24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B0C75-1A41-40F8-A5F1-81D03FC1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056F9-F974-4446-9BAA-A5D5C72E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1844E-C5E1-4154-AD88-625CBB17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F7B-0C67-473C-B0CD-06636209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1CBFA-6033-445B-9AE4-44795683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E332A-DD95-4074-A085-F0130F84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958FF-0B26-4588-96BF-7E3793D5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47C02-5182-4BDB-8691-06D4C59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D9E95-3AD9-446E-B202-E633F0C0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B36FD-EB12-4AE5-BB02-0BBBA9F5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EF691-C2A9-4794-902E-1DA8E363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20C73-4930-4B8E-8257-38CE1F2F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BF086-5853-41F7-8194-92D5A8A4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ECFA9-4824-480B-AC34-99608E8F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3B5A-8056-4ADF-A83E-4EAEA7C4CC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0E90-9690-40F1-9DC2-0661353803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88A1-E3B2-454B-B4A2-E3D2689DD9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1F43-D01A-40CE-8DE9-F197F9130E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DD53-932C-4D3A-9C2C-B7FBE89200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1460-01E3-4807-BBC6-0504462F09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20C0-AA0B-45A7-9D5F-738A727FD2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9425-BC4E-4762-9D69-176485D9FD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CF45-5D7C-4919-BC7A-7533A3CA0C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0CFD-92E7-40D4-8449-A4988A0D71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8DED-DB5F-470A-8069-9C2028DAB3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8758-2382-4A43-A225-B7D5A2D03E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RM_0457"/>
          <p:cNvPicPr/>
          <p:nvPr/>
        </p:nvPicPr>
        <p:blipFill>
          <a:blip r:embed="rId1"/>
          <a:stretch/>
        </p:blipFill>
        <p:spPr>
          <a:xfrm>
            <a:off x="1692360" y="1455840"/>
            <a:ext cx="5545080" cy="45054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3"/>
          <p:cNvSpPr/>
          <p:nvPr/>
        </p:nvSpPr>
        <p:spPr>
          <a:xfrm>
            <a:off x="2809440" y="333360"/>
            <a:ext cx="27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5*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手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2009880" y="2392200"/>
            <a:ext cx="5461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拇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3782880" y="1816200"/>
            <a:ext cx="546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食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5105520" y="1816200"/>
            <a:ext cx="5461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中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5146200" y="2968560"/>
            <a:ext cx="91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无名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6087960" y="37609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468360" y="1341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他因为身体最长，取物时，往往最先碰到物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539640" y="333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舞蹈演员的手指不是常作兰花状吗？这两根手指正是这朵兰花中最优美的两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539640" y="33336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舞蹈演员的手指不是常作兰花状吗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？</a:t>
            </a: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这两根手指正是这朵兰花中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最</a:t>
            </a: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优美的两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6836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手指的全体，同人群体的全体一样，五根手指如果能团结一致，成为一个拳头，那就根根有用，根根有力量，不再有什么强弱、美丑之分了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" descr="mr734v23624l"/>
          <p:cNvPicPr/>
          <p:nvPr/>
        </p:nvPicPr>
        <p:blipFill>
          <a:blip r:embed="rId2"/>
          <a:stretch/>
        </p:blipFill>
        <p:spPr>
          <a:xfrm>
            <a:off x="5435640" y="4581360"/>
            <a:ext cx="273672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8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2"/>
          <p:cNvSpPr/>
          <p:nvPr/>
        </p:nvSpPr>
        <p:spPr>
          <a:xfrm>
            <a:off x="1527120" y="3500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57"/>
          <p:cNvSpPr/>
          <p:nvPr/>
        </p:nvSpPr>
        <p:spPr>
          <a:xfrm>
            <a:off x="1692360" y="2637000"/>
            <a:ext cx="570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通过描写五根手指各自不同的特点，想告诉我们一个什么道理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3"/>
          <p:cNvSpPr/>
          <p:nvPr/>
        </p:nvSpPr>
        <p:spPr>
          <a:xfrm>
            <a:off x="1527120" y="3500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826920" y="1700280"/>
            <a:ext cx="71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团结就是力量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7" descr="20100515165601207"/>
          <p:cNvPicPr/>
          <p:nvPr/>
        </p:nvPicPr>
        <p:blipFill>
          <a:blip r:embed="rId2"/>
          <a:stretch/>
        </p:blipFill>
        <p:spPr>
          <a:xfrm>
            <a:off x="1042920" y="3141720"/>
            <a:ext cx="4392720" cy="33829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mr734v23624l"/>
          <p:cNvPicPr/>
          <p:nvPr/>
        </p:nvPicPr>
        <p:blipFill>
          <a:blip r:embed="rId3"/>
          <a:stretch/>
        </p:blipFill>
        <p:spPr>
          <a:xfrm>
            <a:off x="5508720" y="3716280"/>
            <a:ext cx="2735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6" descr="mr734v23624l"/>
          <p:cNvPicPr/>
          <p:nvPr/>
        </p:nvPicPr>
        <p:blipFill>
          <a:blip r:embed="rId2"/>
          <a:stretch/>
        </p:blipFill>
        <p:spPr>
          <a:xfrm>
            <a:off x="468360" y="333360"/>
            <a:ext cx="2087640" cy="16556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2843280" y="692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说说有关团结的名言警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539640" y="2133720"/>
            <a:ext cx="820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人心齐，泰山移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中国谚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一支独秀不是春，百花齐放春满园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雷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天时不如地利，地利不如人和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先秦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孟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团结就是力量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谚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单丝不成线，独木不成林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俗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五人团结一只虎，十人团结一条龙，百人团结像泰山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邓中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RX_004"/>
          <p:cNvPicPr/>
          <p:nvPr/>
        </p:nvPicPr>
        <p:blipFill>
          <a:blip r:embed="rId1"/>
          <a:stretch/>
        </p:blipFill>
        <p:spPr>
          <a:xfrm>
            <a:off x="8101080" y="228600"/>
            <a:ext cx="1042920" cy="1828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20100701_087a8ed2a4cb4c2bd6gfGF8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2" name="众人划桨开大船.mp3" descr=""/>
          <p:cNvPicPr/>
          <p:nvPr/>
        </p:nvPicPr>
        <p:blipFill>
          <a:blip r:embed="rId3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7"/>
          <p:cNvSpPr/>
          <p:nvPr/>
        </p:nvSpPr>
        <p:spPr>
          <a:xfrm>
            <a:off x="324000" y="69228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99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众人划桨开大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12923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539640" y="333360"/>
            <a:ext cx="8209080" cy="57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手张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一朵鲜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人的一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定为美挥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手合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一枚果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含辛茹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收藏天地精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39640" y="33336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歌谣一：食指拇指碰碰，做个小鸡叫叫，叽，叽，叽！食指中指并拢，做把剪刀玩玩，嚓，嚓，嚓！五个手指捏捏，做个榔头敲敲，咚，咚，咚！伸出拇指翘翘，夸你戴上红花，好，好，好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6"/>
          <p:cNvSpPr/>
          <p:nvPr/>
        </p:nvSpPr>
        <p:spPr>
          <a:xfrm>
            <a:off x="1692360" y="409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gifmb044"/>
          <p:cNvPicPr/>
          <p:nvPr/>
        </p:nvPicPr>
        <p:blipFill>
          <a:blip r:embed="rId1"/>
          <a:stretch/>
        </p:blipFill>
        <p:spPr>
          <a:xfrm>
            <a:off x="0" y="-24300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3"/>
          <p:cNvSpPr/>
          <p:nvPr/>
        </p:nvSpPr>
        <p:spPr>
          <a:xfrm>
            <a:off x="684360" y="47628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认真读读课文，读时要做到两点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画出生字词，联系上下文，借助工具书和生活积累理解词语，读通课文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想想课文主要讲的是什么，找出能够概括文章主要内容的句子读一读。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539640" y="333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大拇哥，二拇弟，中山羊，四小弟，小妞妞，来看戏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53964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歌谣二：一个手指显得太孤单，两个手指就能握笔杆，三个手指就能系纽扣，四个手指就能把碗端，五个手指如果都出来，团结的力量大无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RX_004"/>
          <p:cNvPicPr/>
          <p:nvPr/>
        </p:nvPicPr>
        <p:blipFill>
          <a:blip r:embed="rId2"/>
          <a:stretch/>
        </p:blipFill>
        <p:spPr>
          <a:xfrm>
            <a:off x="8101080" y="228600"/>
            <a:ext cx="1042920" cy="18288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8"/>
          <p:cNvSpPr/>
          <p:nvPr/>
        </p:nvSpPr>
        <p:spPr>
          <a:xfrm>
            <a:off x="539640" y="69228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想想说说身边有哪些事物让你有所感触，有所启发，学习本课的表达方法，把事物的特点和自己的感悟写下来，与同学交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"/>
          <p:cNvSpPr/>
          <p:nvPr/>
        </p:nvSpPr>
        <p:spPr>
          <a:xfrm>
            <a:off x="53964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9640" y="404640"/>
            <a:ext cx="828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搔痒 堂皇   渺小附庸    养尊处优窈窕  秽物  纽扣鼻涕   爱憎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8"/>
          <p:cNvSpPr/>
          <p:nvPr/>
        </p:nvSpPr>
        <p:spPr>
          <a:xfrm>
            <a:off x="324000" y="206064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只手上的五根手指，各有不同的姿态，各具不同的性格，各有所长，各有所短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403280" y="1052640"/>
          <a:ext cx="6553440" cy="3475080"/>
        </p:xfrm>
        <a:graphic>
          <a:graphicData uri="http://schemas.openxmlformats.org/drawingml/2006/table">
            <a:tbl>
              <a:tblPr/>
              <a:tblGrid>
                <a:gridCol w="1305000"/>
                <a:gridCol w="2687760"/>
                <a:gridCol w="256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手指名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缺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拇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食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名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4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468360" y="981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例如拉胡琴，总由其他四指按弦，却由他相帮扶助琴身；水要喷出来，叫他死力抵住；血要流出来，叫他拼命按住；重东西翻倒去，叫他用劲扳住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468360" y="981000"/>
            <a:ext cx="83534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例如拉胡琴，总由其他四指按弦，却由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相帮扶助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琴身；水要喷出来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死力抵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；血要流出来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拼命按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；重东西翻倒去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用劲扳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46836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拿笔的时候，全靠它推动笔杆；遇到危险的事，都要由他去试探或冒险；秽物、毒物、烈物，他接触得最多；刀伤、烫伤、轧伤、咬伤，他消受的机会最多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468360" y="981000"/>
            <a:ext cx="83534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他永远不受外物冲撞，所以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曲线优美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，处处显示着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养尊处优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2-02T00:48:27Z</dcterms:modified>
  <cp:revision>51</cp:revision>
  <dc:subject>第一PPT模板网-WWW.1PPT.COM</dc:subject>
  <dc:title>第一PPT模板网-WWW.1PPT.COM</dc:title>
</cp:coreProperties>
</file>