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11F-5A35-4DC8-85D7-F01D0C6D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47B-E6DA-442F-9E89-FB44DEAA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62A6E-CE79-4322-8773-7A40054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90E03-4100-4C94-80C7-8F15BFD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44BDC-4F1C-45E2-98A6-8EAD0877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72206-014C-45DE-992C-5BE1343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A21A1-E234-4E71-849D-F480F69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75F76-985D-460F-A2CF-5D13B02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BFE11-A577-43E2-961A-C51F0F34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B4F43-DBBB-4120-9D55-1EEC58B1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F4FAE-18B0-4B34-B811-70B006F5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0B82B-31C8-465E-917E-91ADC807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EB5-3ED9-4084-BC6B-6B72149F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48F36-1994-4E83-B32F-743193FD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AA60B-FEC1-4638-BB64-45CF53B6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A1AE7-DD14-4F85-BDF1-5DCFC91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EFF9D-C808-48CE-B5E5-B7F3490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571EA-9EFC-4B54-B088-7CA91BC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3BDE8-1291-484B-98ED-8F94F409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3C6B7-50A5-4DC0-BE1A-59B065B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01E76-3A9A-430E-AE0A-36C15145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72E7F-6842-4A56-8E55-A30EDB45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C3689-724C-4630-9182-B2F4FE37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E1A-69BC-4A55-AA60-C45FFFA1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25742-823E-412F-AF08-85630FE8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203FD-D130-47BE-9621-9BBB8FBD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24BDF-336A-47AB-9740-EF866E13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0914-B9AB-4FC0-B04A-989B82D3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642B2-DB7E-4292-95B1-FD723E95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A1CB7-86D1-4C25-AF55-EC0382D4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22B98-E190-4998-9149-02EE2D3E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C66AF-9601-4F7F-B21C-00DCD31A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C464-DE93-4912-996C-340AA28B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CFB47-A8E7-4779-954E-E9701349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BAE3-A1B2-4EA1-8365-53B3852F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57030-302F-4F0A-AEF7-FD1BFB3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D60E3-160B-425C-8C5D-70E75E49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E85D9-D536-4B2B-A270-C71CC744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5E958-455A-4305-AFA0-9DCF6EAB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300DC-3EE2-45AC-A322-8DD41AA7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37A52-4C6E-403C-BC17-59FAC3BD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6F710-71CC-4367-AD1B-C7D0E08D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1447F-709D-42CB-8D33-34CA97A8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B7F16-7D21-4F2E-8EA0-D2C5B451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E2568-F8F2-460F-8121-1EAA837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6CCF-E977-408E-A61E-8A435A41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8650F-BBCB-4B75-8256-2D46138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CCA05-5C06-4A6D-BDC2-72CB369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0BB4C-DA2D-45B8-9F7B-E5F0ACDB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415F1-9B31-4A1A-B24A-8DA61C24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1842D-E8EA-4DB1-8338-047DA617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D0B0-7528-4D0B-9FA6-A65065F4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90AF-9459-4BA7-8538-DCD06EE3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11EE-2B10-4638-B2FF-941EEF1E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6DE9-C8AB-4CE2-B52A-56EE987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FA13-6044-4701-AE47-F718037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45F-A606-49FB-84C5-7D66D4F5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5518-2C29-40CD-A84E-ABDC5AE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5E42-ED30-41DB-B288-A3C979D2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2F8E-797D-4BD6-93C3-716AEBC1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F8AE-EA19-4FC7-9C4F-1B925960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A430-6BC9-49BE-A371-77A4724B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8815-244B-4B86-9823-3843DC74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17E0-E62F-4F97-84EC-46AC32CE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4DEA-941C-4A80-B131-9E9C23FB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8AF8-05D9-440F-A9E5-D9CE3E75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28DC-5241-46A5-9C96-15CB58F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018-D0A0-42B5-B098-5851BCE6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C984-9D57-4C62-9263-C642B960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952D-DAAA-4B55-8F02-54BFE5D9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C8C8-185F-4387-AF26-5B6F295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F8BB-864A-4AC6-B771-EC5CF5E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B19F-5294-48A7-9F3D-14712730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EA6E-EBDF-4581-9649-9CEFFF0A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D602-9C17-4ABF-8B86-E0B92795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C7CA-5DBB-4ACD-87AB-8FC828C3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1258-2B46-4397-8328-A6B8F86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2EA2-924F-4D0B-AFD9-CA3EC91E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E56-1560-4AEE-8553-F647272F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733B-C719-4D61-A764-3F374007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DB1F-A8D9-4475-A566-1541A059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29B33-13D0-4237-B148-B532BDC1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F506-332C-4A1E-B1A8-CD50E476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558F3-DF55-4BF0-BF8C-5F977BE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664B-940B-4D56-9676-CEBB6F12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BF51-8410-4D80-A769-0DC69E84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A2F4-3109-4EF2-B2C2-D90FA2B9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FF673-19A7-4992-A649-F30146E0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1A00-69DD-46C0-98CF-0535B891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901-E280-4CB5-A14A-FC7E215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0B111-2127-4FD0-ACEB-2CA2A68A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68815-3928-41FC-873B-B79175FE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16AC3-D4B4-4D49-B7EC-67CA3D22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3ADE1-0C4A-4C14-9117-FD45AF7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C40F-6FA4-466E-97C1-46B189ED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3DC1E-3937-42DD-8CEA-286E3285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EEFF-D892-42AB-98DA-BC294B88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B1ED2-5D91-4257-A05A-5A7C570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7E1F-3DDA-4691-AEDF-B5773A2F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08FD-9B65-4D81-B354-02C5AD76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434-8BA9-4112-972E-35CEA1F4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56AA-5F85-4EDA-9394-511E7FF6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A97AB-B20B-47C3-B29A-3256F0FA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F85C-4405-412D-8810-E6231CF9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3BC0-379D-4E6A-8A80-02BAC3D0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3F4D1-F6DA-4509-B295-11131674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358B4-64EE-42F4-ADFF-12A81799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CC35C-F5AE-4A70-8E73-EA886AFC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5ECD9-EF9B-4917-A5F7-DCDA761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F9B7-A08B-4C0F-B904-F9B1C0A3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FA34-D871-4AC0-B58A-A62137EB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CB3-7B23-4F34-A5C4-D548E95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C8A47-913D-4D1B-82B3-DA08B8ED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68107-9579-44D4-A0E5-9CF85A7A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3AA5-9289-4A79-B144-4651CD25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91D59-E465-4B3F-8BA0-6994231A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8B00-8039-44FE-961D-FBFA84CF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62133-3774-4CDA-9314-C9D337AE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3AEE4-9AD1-48FD-93BF-112F833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318C-A0B9-4D2B-AF9A-C4D0E85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C55B9-60BB-4087-9527-95825F5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50DD-276E-4B3D-A47B-1916DFA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7CB-A4CE-4F2B-A25A-5BD4BBB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07B15-CE07-4F00-ABC9-CF367BD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C163-B908-4824-AB86-AA33F23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F30DC-5859-4BB8-B1E6-14942748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46F9F-C7E0-43BE-9FC6-E6E537CB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5BAF-1A6C-4C05-8EC0-21A93744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86AA-6C9B-43FB-8F0A-EFD873CB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1C54-AA9E-41A9-8F6D-C6EAD81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DB7C7-6EE7-4BB9-9DD5-976BF4E6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6F3D5-B428-4819-926F-9A6E5ACA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BB68D-1F26-4CB5-86A6-EB57A66C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2D0-A6F2-4934-B49E-ABF8CD4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ECD3-C666-4CAA-AEF1-CF7740C2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266F9-C862-427C-951A-83D8D38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74B7F-59FE-49AF-BC53-121D1157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AAAD9-E597-4545-82FA-04245E5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1AA9B-B022-4177-9C07-0FE98AF1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16FE9-2AB4-494D-9991-A359DBF3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0594B-5605-4E87-B163-FA37BDF9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2085E-8570-45A9-993A-6C7DFDE8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32D63-7F57-4EC9-8692-D0387606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86A79-B09F-412C-9E3D-4CE30BFA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5D36-44F7-488B-982B-2C8A20A7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CA59-A696-4ADB-B1DE-A1FF21FFDA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F4B-3731-4D6B-AC2C-B5D77CF7CD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FEDB-29D7-41FC-8663-2E399DF481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A35F-88EF-45AB-8702-AE403603DD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2CDB-2CE2-4675-AED3-5D5148716C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A28-F5DC-4D0D-A810-EBEE779057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ED5-B531-48FB-B8D6-BA4248D7B2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B0F-2CAB-4A2A-B895-DDC94ED1A0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34F3-BB24-4F13-B364-A744B24B3C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0CE-ABB6-4444-A89F-7E2AB886FF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6692-3F2B-4DB5-B544-59AE90513B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ext Box 2" descr=""/>
          <p:cNvPicPr/>
          <p:nvPr/>
        </p:nvPicPr>
        <p:blipFill>
          <a:blip r:embed="rId2"/>
          <a:stretch/>
        </p:blipFill>
        <p:spPr>
          <a:xfrm>
            <a:off x="743040" y="1427040"/>
            <a:ext cx="7048440" cy="4699080"/>
          </a:xfrm>
          <a:prstGeom prst="rect">
            <a:avLst/>
          </a:prstGeom>
          <a:ln w="0">
            <a:noFill/>
          </a:ln>
        </p:spPr>
      </p:pic>
      <p:sp>
        <p:nvSpPr>
          <p:cNvPr id="493" name="矩形 6"/>
          <p:cNvSpPr/>
          <p:nvPr/>
        </p:nvSpPr>
        <p:spPr>
          <a:xfrm>
            <a:off x="2295000" y="6021360"/>
            <a:ext cx="34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371600" y="457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齐读第四段，找出能表现作者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由感悟而发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心境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523880" y="1905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赤裸裸来到这世界，转眼间也将赤裸裸的回去罢？但不能平的，为什么偏要白白走这一遭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600200" y="19810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作者在最后一段再次强调要珍惜时间，并与首段遥相呼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523880" y="685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齐读、共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523880" y="60948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1676520" y="213372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从语言、写法、 修辞等角度谈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295280" y="457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采用第一人称的好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1447920" y="20574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显得亲切、自然、真实，便于直接抒发感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zzq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211640" y="1197000"/>
            <a:ext cx="2705040" cy="37432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7956720" y="620640"/>
            <a:ext cx="100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6200280" y="2492280"/>
            <a:ext cx="18262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朱自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179280" y="0"/>
            <a:ext cx="3961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朱自清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8—19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字佩弦，江苏扬州人，原籍浙江绍兴。现代著名散文家、诗人、学者、民主战士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他贫病交加，但坚决不向反动派屈服。该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在北平逝世。对此，毛泽东给予高度评价：“朱自清一身重病，宁可饿死，不领美国的‘救济粮’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现了我们民族的英雄气概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他一生勤奋，共有诗歌、散文、评论、学术研究著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，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万字。 他的散文代表作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荷塘月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背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去了，有再来的时候；杨柳枯了，有再青的时候；桃花谢了，有再开的时候。但是，聪明的，你告诉我，我们的日子为什么一去不复返呢？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有人偷了他们罢：那是谁？又藏在何处呢？是他们自己逃走了罢：现在又到了哪里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彩云简体"/>
              </a:rPr>
              <a:t>          </a:t>
            </a:r>
            <a:r>
              <a:rPr b="1" i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不知道他们给了我多少日子；但我的手确乎是渐渐空虚了。在默默里算着，八千多日子已经从我手中溜去；像针尖上一滴水滴在大海里，我的日子滴在时间的流里，没有声音，也没有影子。我不禁头涔涔而泪潸潸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逃去如飞的日子里，在千门万户的世界里的我能做些什么呢？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但不能平的，为什么偏要白白走这一遭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聪明的，告诉我，我们的日子为什么一去不复返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                                               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仿宋_GB2312"/>
              </a:rPr>
              <a:t>１９２２年３月２８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026" descr="031031SE1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027"/>
          <p:cNvSpPr/>
          <p:nvPr/>
        </p:nvSpPr>
        <p:spPr>
          <a:xfrm>
            <a:off x="324000" y="76500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快速浏览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“匆匆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本文旨在叙述时间的流逝，请同学们用“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（什么样的）时间”句式来概括时间的特点。（用文中词或短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26" descr="031031SE177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027"/>
          <p:cNvSpPr/>
          <p:nvPr/>
        </p:nvSpPr>
        <p:spPr>
          <a:xfrm>
            <a:off x="468360" y="0"/>
            <a:ext cx="867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品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划出你喜欢的句子，说出自己为什么喜欢这些句子？请你设计如何读才能把这些句子读好。（ 除了想象作者当时的心情，还要加进我们自己的感受。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1295280" y="457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采用第一人称的好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447920" y="20574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显得亲切、自然、真实，便于直接抒发感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0266"/>
          <p:cNvPicPr/>
          <p:nvPr/>
        </p:nvPicPr>
        <p:blipFill>
          <a:blip r:embed="rId1"/>
          <a:stretch/>
        </p:blipFill>
        <p:spPr>
          <a:xfrm>
            <a:off x="4630680" y="0"/>
            <a:ext cx="4513320" cy="3357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jd-houshiwu"/>
          <p:cNvPicPr/>
          <p:nvPr/>
        </p:nvPicPr>
        <p:blipFill>
          <a:blip r:embed="rId2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图片1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5"/>
          <p:cNvSpPr/>
          <p:nvPr/>
        </p:nvSpPr>
        <p:spPr>
          <a:xfrm>
            <a:off x="3564000" y="836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924360" y="620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5435640" y="2852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422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有何感触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0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324000" y="115920"/>
            <a:ext cx="856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Arial"/>
                <a:ea typeface="华文新魏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请仿照作者，用生活中的小事来写写日子也从我们身边悄悄溜走，同桌合作完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thumb_2004492486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250920" y="981000"/>
            <a:ext cx="88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年少的你从文章中悟出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说说与本文内容有关的的格言、警句、诗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026"/>
          <p:cNvSpPr/>
          <p:nvPr/>
        </p:nvSpPr>
        <p:spPr>
          <a:xfrm>
            <a:off x="609480" y="99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课文是朱自清的一篇散文。文章一开始就提出“我们的日子为什么一去不复返呢？”这个问题，作者没有直接作出回答，而是通过具体描述日子来去的匆匆，告诉我们时光容易流逝，要珍惜美好的时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1027"/>
          <p:cNvSpPr txBox="1"/>
          <p:nvPr/>
        </p:nvSpPr>
        <p:spPr>
          <a:xfrm>
            <a:off x="1905120" y="525780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隶书"/>
              </a:rPr>
              <a:t>课文朗读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564" name="《匆匆》课文朗读.MP3" descr=""/>
          <p:cNvPicPr/>
          <p:nvPr/>
        </p:nvPicPr>
        <p:blipFill>
          <a:blip r:embed="rId3"/>
          <a:stretch/>
        </p:blipFill>
        <p:spPr>
          <a:xfrm>
            <a:off x="533412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chu2277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036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031031SE1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24000" y="76500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快速浏览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“匆匆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本文旨在叙述时间的流逝，请同学们用“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（什么样的）时间”句式来概括时间的特点。（用文中词或短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031031SE177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468360" y="0"/>
            <a:ext cx="867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品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划出你喜欢的句子，说出自己为什么喜欢这些句子？请你设计如何读才能把这些句子读好。（ 除了想象作者当时的心情，还要加进我们自己的感受。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4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八千多日子已经从我手中溜去；像针尖上一滴水滴在大海里，我的日子滴在时间的流里，没有声音，也没有影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句话形象生动地写出了诗人因没有成就，虚度年华而惶恐的心态。朗读时应读出日子溜去的悄无声息，舒缓低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个句子应读出作者的思考、无奈、彷徨的心态，应平缓凝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不能平的，为什么偏要白白走这一遭啊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句话应读出作者追求事业的情怀和信心，要读得沉稳坚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4"/>
          <p:cNvSpPr/>
          <p:nvPr/>
        </p:nvSpPr>
        <p:spPr>
          <a:xfrm>
            <a:off x="0" y="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洗手的时候，日子从水盆里过去；吃饭的时候，日子从饭碗里过去；默默时，便从凝然的双眼前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句话运用了排比的修辞方法，既增强了文章的气势，又形象地写出了时间的匆匆流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黑时，我躺在床上，他便伶伶俐俐地从我脚边飞去了。等我和太阳说再见，这又算溜走了一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句话运用了拟人的修辞方法，把时间的匆匆流逝写得有形有声，可见可闻非常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读①②两个句子时应读出日子的匆匆和永不停息，紧促低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0266"/>
          <p:cNvPicPr/>
          <p:nvPr/>
        </p:nvPicPr>
        <p:blipFill>
          <a:blip r:embed="rId1"/>
          <a:stretch/>
        </p:blipFill>
        <p:spPr>
          <a:xfrm>
            <a:off x="4630680" y="0"/>
            <a:ext cx="4513320" cy="3357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jd-houshiwu"/>
          <p:cNvPicPr/>
          <p:nvPr/>
        </p:nvPicPr>
        <p:blipFill>
          <a:blip r:embed="rId2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图片1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3564000" y="836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3924360" y="620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5435640" y="2852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0"/>
          <p:cNvSpPr/>
          <p:nvPr/>
        </p:nvSpPr>
        <p:spPr>
          <a:xfrm>
            <a:off x="2700360" y="422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有何感触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0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179280" y="0"/>
            <a:ext cx="856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Arial"/>
                <a:ea typeface="华文新魏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请仿照作者，用生活中的小事来写写日子也从我们身边悄悄溜走，同桌合作完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11"/>
          <p:cNvSpPr/>
          <p:nvPr/>
        </p:nvSpPr>
        <p:spPr>
          <a:xfrm>
            <a:off x="270036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2057400" y="1600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8594640" y="914400"/>
            <a:ext cx="549360" cy="1752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8213760" y="838080"/>
            <a:ext cx="54936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7299360" y="914400"/>
            <a:ext cx="54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7680240" y="762120"/>
            <a:ext cx="549360" cy="1904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082680" y="380880"/>
            <a:ext cx="6061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imes New Roman"/>
                <a:ea typeface="隶书"/>
              </a:rPr>
              <a:t>长歌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少壮不努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老大徒伤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thumb_2004492486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250920" y="981000"/>
            <a:ext cx="88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年少的你从文章中悟出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说说与本文内容有关的的格言、警句、诗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371600" y="6858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600200" y="19810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饭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029200" y="19810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伶  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600200" y="35956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徘   徊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029200" y="3505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裸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600200" y="50752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涔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5029200" y="50752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泪潸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2209680" y="1523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w3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1600200" y="3048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p2i hu2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876920" y="1506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l0ng l@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638680" y="30481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lu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2209680" y="45720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c6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486400" y="45720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h1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609480" y="231624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这篇文章中想要告诉我们的主要意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章每一段讲的是什么内容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读懂了哪些内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有哪些读不懂的问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2666880" y="1066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阅读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609480" y="1752480"/>
            <a:ext cx="8305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光阴易逝，岂容我待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有一道难题，那就是如何使一寸光阴等于一寸生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间是没有声音的锉刀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间是一笔贷款，即使是守信用的借贷者也还不起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最大的幸福，莫过于连一分钟都无法休息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除了时间，什么也不属于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048120" y="685800"/>
            <a:ext cx="30477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时间格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28600" y="304920"/>
            <a:ext cx="8686800" cy="76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自清是中国著名的诗人和杰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散文家。他的著作十分有 特色，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响很大。朱自清是在 “五四”浪潮的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下，走上生活道路，开始文学生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，直至逝世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自清有著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言，包括诗歌、散文、文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批评、学术研究等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版的散文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朱自清成为当时负有盛名的散文作家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桨声灯影里的秦淮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塘月色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其代表佳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朱自清1"/>
          <p:cNvPicPr/>
          <p:nvPr/>
        </p:nvPicPr>
        <p:blipFill>
          <a:blip r:embed="rId1"/>
          <a:stretch/>
        </p:blipFill>
        <p:spPr>
          <a:xfrm>
            <a:off x="304920" y="380880"/>
            <a:ext cx="2368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江主席题字"/>
          <p:cNvPicPr/>
          <p:nvPr/>
        </p:nvPicPr>
        <p:blipFill>
          <a:blip r:embed="rId1"/>
          <a:stretch/>
        </p:blipFill>
        <p:spPr>
          <a:xfrm>
            <a:off x="1676520" y="152280"/>
            <a:ext cx="5790960" cy="16304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朱自清故居"/>
          <p:cNvPicPr/>
          <p:nvPr/>
        </p:nvPicPr>
        <p:blipFill>
          <a:blip r:embed="rId2"/>
          <a:stretch/>
        </p:blipFill>
        <p:spPr>
          <a:xfrm>
            <a:off x="2666880" y="1965240"/>
            <a:ext cx="382284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朱自清手迹"/>
          <p:cNvPicPr/>
          <p:nvPr/>
        </p:nvPicPr>
        <p:blipFill>
          <a:blip r:embed="rId1"/>
          <a:srcRect l="3548" t="0" r="2473" b="0"/>
          <a:stretch/>
        </p:blipFill>
        <p:spPr>
          <a:xfrm>
            <a:off x="4935600" y="228600"/>
            <a:ext cx="3879720" cy="5867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散文集《背影》"/>
          <p:cNvPicPr/>
          <p:nvPr/>
        </p:nvPicPr>
        <p:blipFill>
          <a:blip r:embed="rId2"/>
          <a:stretch/>
        </p:blipFill>
        <p:spPr>
          <a:xfrm>
            <a:off x="304920" y="228600"/>
            <a:ext cx="4144680" cy="58672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>
            <a:off x="914400" y="6248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散文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背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5791320" y="620244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朱自清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26" descr="“自清亭”"/>
          <p:cNvPicPr/>
          <p:nvPr/>
        </p:nvPicPr>
        <p:blipFill>
          <a:blip r:embed="rId1"/>
          <a:stretch/>
        </p:blipFill>
        <p:spPr>
          <a:xfrm>
            <a:off x="533520" y="379440"/>
            <a:ext cx="8153280" cy="552924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27"/>
          <p:cNvSpPr/>
          <p:nvPr/>
        </p:nvSpPr>
        <p:spPr>
          <a:xfrm>
            <a:off x="3657600" y="6095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自清”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朱自清雕像远景"/>
          <p:cNvPicPr/>
          <p:nvPr/>
        </p:nvPicPr>
        <p:blipFill>
          <a:blip r:embed="rId1"/>
          <a:stretch/>
        </p:blipFill>
        <p:spPr>
          <a:xfrm>
            <a:off x="457200" y="379440"/>
            <a:ext cx="8229600" cy="548964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3048120" y="6019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朱自清雕像远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朱自清书斋一角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37720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3048120" y="5181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朱自清书斋一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img183035_3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3962520" y="30492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朱自清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(1898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11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22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—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1948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8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12)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原名自华，号秋实，后改名自清，字佩弦，现代著名的散文家、诗人、学者。原籍浙江绍兴，生于江苏东海，作品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浆声灯影里的秦淮河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》 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、 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背影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、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荷塘月色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都是烩炙人口的名篇。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9300" spc="-1" strike="noStrike">
                <a:solidFill>
                  <a:srgbClr val="ff0000"/>
                </a:solidFill>
                <a:latin typeface="Arial"/>
                <a:ea typeface="隶书"/>
              </a:rPr>
              <a:t>泪</a:t>
            </a:r>
            <a:r>
              <a:rPr b="0" lang="zh-CN" sz="9300" spc="-1" strike="noStrike">
                <a:solidFill>
                  <a:srgbClr val="ff0000"/>
                </a:solidFill>
                <a:latin typeface="Arial"/>
              </a:rPr>
              <a:t>潸</a:t>
            </a:r>
            <a:r>
              <a:rPr b="0" lang="zh-CN" sz="24000" spc="-1" strike="noStrike">
                <a:solidFill>
                  <a:srgbClr val="ff0000"/>
                </a:solidFill>
                <a:latin typeface="Arial"/>
              </a:rPr>
              <a:t>潸</a:t>
            </a:r>
            <a:r>
              <a:rPr b="0" lang="en-US" sz="9700" spc="-1" strike="noStrike">
                <a:solidFill>
                  <a:srgbClr val="000066"/>
                </a:solidFill>
                <a:latin typeface="Arial"/>
              </a:rPr>
              <a:t>shan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5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5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533520" y="533520"/>
            <a:ext cx="80769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初步感知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听朗读，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</a:t>
            </a: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、注意生字新词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</a:t>
            </a: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、划出自己最喜欢的或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认为含义深刻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447920" y="533520"/>
            <a:ext cx="693396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生字新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涔涔             潸潸               赤裸裸         徘徊             遮挽             蒸融                            伶伶俐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048120" y="1828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én  c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6629400" y="182880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shān 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581280" y="266688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uǒ l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6477120" y="26668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pái  hu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28954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  w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6553080" y="3505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ng  r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4267080" y="4343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íng líng  lì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295280" y="457200"/>
            <a:ext cx="7315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自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找出描写时间来去匆匆的相应段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609480"/>
            <a:ext cx="129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修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219320" y="228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752480" y="3049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段：</a:t>
            </a:r>
            <a:r>
              <a:rPr b="1" lang="zh-CN" sz="3600" spc="-1" strike="noStrike">
                <a:solidFill>
                  <a:srgbClr val="1233da"/>
                </a:solidFill>
                <a:latin typeface="Times New Roman"/>
              </a:rPr>
              <a:t>写时间一去不复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第三段：</a:t>
            </a:r>
            <a:r>
              <a:rPr b="1" lang="zh-CN" sz="3600" spc="-1" strike="noStrike">
                <a:solidFill>
                  <a:srgbClr val="1233da"/>
                </a:solidFill>
                <a:latin typeface="Times New Roman"/>
              </a:rPr>
              <a:t>具体写时间匆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914400" y="990720"/>
            <a:ext cx="144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2362320" y="152388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：①排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5562720" y="685800"/>
            <a:ext cx="35812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优美又浅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990720" y="0"/>
            <a:ext cx="48765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通过写三种春天的景物，不仅意向优美，而且有潜在的含义：我们的青春一去不复返，实在值得珍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4495680" y="1523880"/>
            <a:ext cx="464832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表现“我”对时间一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不复返的惶急的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362320" y="3733920"/>
            <a:ext cx="3733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段：①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1828800" y="762120"/>
            <a:ext cx="4952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把时间的流逝写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有形有声，可见可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2"/>
          <p:cNvSpPr/>
          <p:nvPr/>
        </p:nvSpPr>
        <p:spPr>
          <a:xfrm>
            <a:off x="3809880" y="4572000"/>
            <a:ext cx="533412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33da"/>
                </a:solidFill>
                <a:latin typeface="Times New Roman"/>
              </a:rPr>
              <a:t>写出时间无时不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33da"/>
                </a:solidFill>
                <a:latin typeface="Times New Roman"/>
              </a:rPr>
              <a:t>匆匆流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7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29528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意识到了时间匆匆吗？他的表现又如何？找出文中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905120" y="19810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438280" y="213372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不禁头涔涔而泪潸潸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掩着面叹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658080" y="1981080"/>
            <a:ext cx="139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为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371600" y="4191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隶书"/>
              </a:rPr>
              <a:t>时间流逝而一事无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09:58:11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9T09:30:39Z</dcterms:modified>
  <cp:revision>69</cp:revision>
  <dc:subject>第一PPT模板网-WWW.1PPT.COM</dc:subject>
  <dc:title>第一PPT模板网-WWW.1PPT.COM</dc:title>
</cp:coreProperties>
</file>