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.png" ContentType="image/pn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11.jpeg" ContentType="image/jpeg"/>
  <Override PartName="/ppt/media/image1.gif" ContentType="image/gif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53ED-171F-44AA-8F63-F65F947C7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3BC1-A769-4078-8084-294D4082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DC781F-CD42-4E97-B744-EDB04675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4D398-F4C5-4AFB-8637-D5289641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AF1A1-A756-4064-88C7-9EA18659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E5E9A-93FF-4F9A-8303-AAF823EF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10255-891F-4290-9547-C8A6900E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346BE-246E-4161-96C9-3B763380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C5E657-E515-40EA-A2B0-E8A93BB5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D06C7-D78D-4E68-8920-CFB970003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ED65B-40B3-4A0D-9B88-320D0B00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862A4-3DEF-48C9-8A67-C858AB49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2BB1-B10C-44EE-AF46-D791510B4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6D6FB-4A0D-4FF6-A3B2-3E876BE5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5B65E-E1DA-4D09-91FA-49602B19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9F0022-AE2C-4E05-A082-61C1113F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0019E-7A8D-4B54-A19E-E9C0D63E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78353D-4F19-4C30-8960-B0F7B5BF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809E94-5F4B-484C-9B58-2B2516CA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1657EB-2180-4FB6-8C5F-E3BFA946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EF24C-D6FA-40D8-982C-3C6DF95B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F8948-1AB5-42B7-A3A4-349F61E7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3B608-28A2-4019-B834-A1A341A9C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0915-E20E-4434-BD71-D71F82091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5B8047-98F8-4D86-878B-D01D145B2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1B99A-EE7C-4EF7-821A-67B45A1C2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4DB78-30CE-4237-AC1D-D04BA578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8E181-EBC0-4FE0-84D4-4EFB40FF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2F900E-895E-43C5-ACA1-2E575DE2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3ACE1-89DD-466E-86E2-7034A585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52CFA-A82B-4BD5-99C0-97F4DC98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932C3-333C-4282-ABF8-D69136B5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6AC28-A96E-477E-9F81-79CED92B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74860-2646-4483-AE23-FD9AEA1A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1D81-9533-475E-8E51-69105906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A7758-BA7C-451A-AB20-90515C35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043EB-BFDB-45D9-A8EF-779A00D33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24437-ACD4-48D3-B971-7482A053C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78C6D1-51B5-4C9F-8216-8C69AFD38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7DA7D6-37FA-42BC-A16A-AB68D94F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2ACCFD-BA2E-4CDA-89CC-E8523BB5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56EBD4-8FD1-40F8-98A3-6A66989F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540308-EDB7-4CE0-BE62-76EE6E03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F49F51-BB00-47AB-BB6B-04EEC7BF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87C689-50EC-4EBC-8D67-7084DCEE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0FA3-1F34-4038-A71B-869F3604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04AE59-FD33-47F4-9D0C-34DF79E9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40F59A-5E36-4889-BBD7-060FF4D1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50C2C8-A9A9-4A9A-BF7B-DF4EA170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8849D4-B8DF-40A5-9E25-D7768F1E7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3BDE4F-5FC1-48D2-A60C-E6F01B13C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743422-40B0-4B59-B862-2D22F1E8B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8997BE-D8ED-42D7-A174-7F2318F5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ED32E4-DEED-4688-ABE8-A6AE968C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F2BCA7-90C4-424E-A218-635B930C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D1E763-505C-4826-9ABA-B35EC24B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77F0-2956-488C-B86C-CFBFFE50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679AE4-3469-4494-BC88-E10D579F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AF6700-4652-436E-A0E4-B831BC0A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23E4C9-AEBE-4010-848F-5410E500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C1C41A-7A5D-4FA5-A544-FC868794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3A67E6-65C3-4822-B742-8739C8BB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408862-C6FF-42D9-9D9D-9BDE4360E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8D1F71-8ED2-4B06-AD4A-2B204646E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355003-331E-482F-A2D4-767829188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85A5B6-C80F-400D-A785-CCD993F0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25720E-7ABF-4D83-B096-2CB15233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ECC92-278E-433A-84FF-8B45D3EB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47A519-EAD6-4D14-9E12-F4010E41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6C0DB6-19B7-4AAC-9BDF-94B4FE06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CCD2B8-1C6F-4D2B-A46E-EFD38818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700785-8311-416E-AC35-7462672A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2B8341-8D41-4853-8692-FA568420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69B1B1-A87F-48E7-8EE1-A5EB50D1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B99201-E2AA-4038-ADEE-AC5E6029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B49CAA-C815-443C-92A6-4C5D01D32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9D57FB-E259-411A-B531-DBBD159ED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3D78-8561-4271-A379-B1374358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F847-4F34-4326-8A19-EC744861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6FB8-B87F-4DC6-A8EE-A0539C40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A0A4-4FEC-4363-B80C-92E0D15D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56CE-B964-497E-970E-3E970840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F351-8ED8-4A55-AEDF-F62CF61F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1AAB-7E96-41CF-9A5F-2F97FACD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E8E3-0A7C-410A-9002-A85CED8B2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7BAF-8111-44CD-8D36-49F32AD16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0C210-BC34-4915-B06B-7945118C9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C73BC-272D-409F-8DF3-2BC8CDAC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97265-813C-4B24-A5C5-BD7A8BB2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08FEA-A8C1-4703-92C4-D07BA994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95582-277C-4459-9A4A-2893CEA3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63A8-5D04-4CDD-AD43-D5F7B058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56562-F6E4-415A-81A0-42E61D23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BAD84-D2F7-4463-96CC-873865E7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5ADAC-7D38-40ED-AB79-DB3268FB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1BF66-23B3-46B5-8409-6CEFBD59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399CA-1BA3-4DC6-BBC2-623EFFA7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525FE-CD89-40D2-B63B-4CD7D6A44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EAA2D-3355-44BF-A04C-DD8D1FB3F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2CF14-2A87-49F7-A048-8712AD26D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E84AB-EE57-4A38-8582-67EA671D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19AFB-251E-4DB3-A8BD-F71C96B4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3AFA-A78C-45A9-8ED4-E7C59B0C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A4D93-0075-477C-9D44-F7E14D6D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51945-A1F6-455C-8642-F1595FED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91C9E-23FA-4CAB-997D-F473CBAE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72497-0A5D-4FFA-9515-66364590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CDF49-9A62-4E22-B048-E146BBD5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DA528-28CE-4646-8EB3-089FAAEA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88DAD-414C-4040-87B9-6492995B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B53B7-60EF-4FDA-932C-236174BAD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733EA-0F05-439D-80F3-C86EB285C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A9432-E4E5-437C-85F9-03A5975A8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6F56-D46E-4B6A-91DA-4EF16C0F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BDDFD-3B1C-4949-8F64-621688B1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7A33E-BF0C-460D-B188-3F3B89DA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3F2A5-CDFD-4E8B-9019-4115C12B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AA64D-5225-4CC7-B92F-82C2AECB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7DF20-CADB-4CE0-816A-07A3B2BE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C130D-2239-4DA0-BAB2-F945A7F4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60BAD-5BD9-4598-89EE-2DB309B4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382AE-61FF-49B5-ACDB-D433E60E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A2522-9D07-41B4-A0FB-AEFC63B2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AACC7-7BD4-48D2-8486-48805105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4411-EE17-46AD-AA90-409E3D5E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2285E-0AAE-43BF-9EB0-750EDE8F4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7526C-EBEE-4558-BAF7-E7EB78E9A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98340-3C69-44B4-B967-FFAAC7BE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A9DDD-9500-4869-A37C-18A5D766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DC490-A002-466F-A661-CD3725CE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533A7-EC32-4377-9B7A-EA23D541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13C84-0755-40F7-9099-4CCA1330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4E339-BFCB-4245-82C9-EF6FEFA5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AE494-713E-48D1-B3A7-72206ACB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0303C-968C-4C41-97FC-81FD7CCC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439E-5E6E-4621-AEDF-F3CFF3E7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06ACC-682B-4C33-BF92-1B353F89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87B89-00EA-46A5-8BD0-61F34A384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F0AAA-3B2A-40A5-8888-4F9278115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0B875-1FDB-48B7-9274-9B7A70771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8FD9D-2CA1-4450-9F15-87F172A5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9837F-4708-4EDE-9480-64EEBE3E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6D5B7-3DBA-4CC3-9FBD-BF2B872F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63427-5A5D-475E-A138-6A46F3B7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63EF0-19E7-4247-9829-0BA11F92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60352-2AAC-4269-959B-D0EABE71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0150-4D30-4A95-986C-03F59D86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0A463-DA8C-4665-B344-CF5EA07D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7548B-DDE9-4DF6-B0C7-9CCE6677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139C2-4533-43A7-97F1-26AC3475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B1655-5632-496D-8832-F773E93F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19B66-5A27-43DA-87A3-9FE448D32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F9E27-C853-4E4C-A967-718045DE9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1A1B6-F858-451A-836D-6531177F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201ED-674B-43DB-8E21-74F71C7E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B00B9-C978-4616-9380-841CDC5C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DE2D7-4AFA-44BC-80C1-A55A90CB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75EF-BC5F-467C-88A9-8A1A9DC2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13D36-CB1D-470C-B282-8E992683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F6097-4F4A-44C7-9270-96E21AFE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80E72-0644-4726-8503-D39CE4F6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C40FB-4612-4CAA-B28B-B6074884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E03D6-9BA2-4064-B898-A9BF25E8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8834A-DB3E-468F-8154-F56A18DCC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01820-FD71-4646-AA97-800ABC97C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8BE4B-E316-4C43-A54E-87A061235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1CEE3E-79B5-40FA-8C91-C797FDEA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0A9A74-4767-4BA4-AAB5-394B7E15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AA77-504B-4F11-BE1E-6E3B3C0F69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EF9E-FCBE-4B61-AB38-D0A73E748A2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80B5-CB9F-4394-B81B-5FC7AAF701F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6F2E-8D2A-401F-882E-E2D4496E888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B1B9-AC55-4FD9-8CEC-6A13F6247E9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205B-7591-4A77-8B37-EC2A2966762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2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未知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未知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未知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未知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未知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未知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未知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未知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未知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未知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未知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未知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未知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未知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未知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未知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未知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未知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未知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未知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88" name="未知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02" name="未知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未知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16" name="未知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30" name="未知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未知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未知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未知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未知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未知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未知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未知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未知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未知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未知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未知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未知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44" name="未知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未知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未知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未知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未知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未知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未知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未知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未知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未知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未知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未知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58" name="未知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未知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未知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未知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未知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未知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未知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未知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未知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未知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未知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未知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232"/>
          <p:cNvGrpSpPr/>
          <p:nvPr/>
        </p:nvGrpSpPr>
        <p:grpSpPr>
          <a:xfrm>
            <a:off x="6934320" y="-6480"/>
            <a:ext cx="2317680" cy="2062080"/>
            <a:chOff x="6934320" y="-6480"/>
            <a:chExt cx="2317680" cy="2062080"/>
          </a:xfrm>
        </p:grpSpPr>
        <p:sp>
          <p:nvSpPr>
            <p:cNvPr id="272" name="未知"/>
            <p:cNvSpPr/>
            <p:nvPr/>
          </p:nvSpPr>
          <p:spPr>
            <a:xfrm>
              <a:off x="7041600" y="-6480"/>
              <a:ext cx="2102760" cy="19123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Group 234"/>
            <p:cNvGrpSpPr/>
            <p:nvPr/>
          </p:nvGrpSpPr>
          <p:grpSpPr>
            <a:xfrm>
              <a:off x="6934320" y="0"/>
              <a:ext cx="2317680" cy="2055600"/>
              <a:chOff x="6934320" y="0"/>
              <a:chExt cx="2317680" cy="2055600"/>
            </a:xfrm>
          </p:grpSpPr>
          <p:sp>
            <p:nvSpPr>
              <p:cNvPr id="274" name="未知"/>
              <p:cNvSpPr/>
              <p:nvPr/>
            </p:nvSpPr>
            <p:spPr>
              <a:xfrm>
                <a:off x="7045200" y="0"/>
                <a:ext cx="383760" cy="14220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未知"/>
              <p:cNvSpPr/>
              <p:nvPr/>
            </p:nvSpPr>
            <p:spPr>
              <a:xfrm>
                <a:off x="6934320" y="0"/>
                <a:ext cx="2317680" cy="205560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未知"/>
              <p:cNvSpPr/>
              <p:nvPr/>
            </p:nvSpPr>
            <p:spPr>
              <a:xfrm>
                <a:off x="7485120" y="966240"/>
                <a:ext cx="186480" cy="21528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未知"/>
              <p:cNvSpPr/>
              <p:nvPr/>
            </p:nvSpPr>
            <p:spPr>
              <a:xfrm>
                <a:off x="7314120" y="1054800"/>
                <a:ext cx="16272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未知"/>
              <p:cNvSpPr/>
              <p:nvPr/>
            </p:nvSpPr>
            <p:spPr>
              <a:xfrm>
                <a:off x="7211520" y="477360"/>
                <a:ext cx="534960" cy="24192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未知"/>
              <p:cNvSpPr/>
              <p:nvPr/>
            </p:nvSpPr>
            <p:spPr>
              <a:xfrm>
                <a:off x="7818120" y="1162800"/>
                <a:ext cx="383760" cy="39204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未知"/>
              <p:cNvSpPr/>
              <p:nvPr/>
            </p:nvSpPr>
            <p:spPr>
              <a:xfrm>
                <a:off x="8701200" y="76608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未知"/>
              <p:cNvSpPr/>
              <p:nvPr/>
            </p:nvSpPr>
            <p:spPr>
              <a:xfrm>
                <a:off x="8831880" y="75096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未知"/>
              <p:cNvSpPr/>
              <p:nvPr/>
            </p:nvSpPr>
            <p:spPr>
              <a:xfrm>
                <a:off x="8820360" y="90108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未知"/>
              <p:cNvSpPr/>
              <p:nvPr/>
            </p:nvSpPr>
            <p:spPr>
              <a:xfrm>
                <a:off x="8566200" y="103572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未知"/>
              <p:cNvSpPr/>
              <p:nvPr/>
            </p:nvSpPr>
            <p:spPr>
              <a:xfrm>
                <a:off x="8625960" y="115920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未知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未知"/>
              <p:cNvSpPr/>
              <p:nvPr/>
            </p:nvSpPr>
            <p:spPr>
              <a:xfrm>
                <a:off x="8895600" y="1101240"/>
                <a:ext cx="257400" cy="65016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6F24-11D0-4119-81B7-29C8606AC0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24B6-3502-44D3-B91E-2D4A491C433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未知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71" name="未知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未知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未知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85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未知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未知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未知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未知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未知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未知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未知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未知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未知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未知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未知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未知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未知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未知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未知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未知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未知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未知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未知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未知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未知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未知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未知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未知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未知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未知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未知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未知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未知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未知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未知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未知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未知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未知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未知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未知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未知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未知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未知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未知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未知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未知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未知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未知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未知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未知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未知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未知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未知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未知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未知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未知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未知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未知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未知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未知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未知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未知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未知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未知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未知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未知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未知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未知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未知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未知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未知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未知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531" name="未知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未知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未知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未知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未知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未知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未知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未知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未知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未知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未知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未知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未知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10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1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0084-EA35-4131-9F75-E0B8D04A8C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F104-65DE-40CF-A758-BDF3FD29DC9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D067-6475-4F7C-8584-AA19124725E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250C-F7FF-4155-ABA1-7BBC787F403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AE7E-FAC1-4059-AB54-2FDEB0573E2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B24B-68B3-4A6B-AA8C-49321DC59C1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2004.163.com/special/t/tpzx.html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2004.163.com/special/t/tpzx.html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2004.163.com/special/t/tpzx.html" TargetMode="External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5" name="Picture 2" descr="30_1816_642377c62cdc6cd"/>
          <p:cNvPicPr/>
          <p:nvPr/>
        </p:nvPicPr>
        <p:blipFill>
          <a:blip r:embed="rId1"/>
          <a:stretch/>
        </p:blipFill>
        <p:spPr>
          <a:xfrm>
            <a:off x="0" y="-303120"/>
            <a:ext cx="7238880" cy="6323040"/>
          </a:xfrm>
          <a:prstGeom prst="rect">
            <a:avLst/>
          </a:prstGeom>
          <a:ln w="0">
            <a:noFill/>
          </a:ln>
        </p:spPr>
      </p:pic>
      <p:sp>
        <p:nvSpPr>
          <p:cNvPr id="996" name="Text Box 3"/>
          <p:cNvSpPr/>
          <p:nvPr/>
        </p:nvSpPr>
        <p:spPr>
          <a:xfrm>
            <a:off x="6663240" y="533520"/>
            <a:ext cx="164268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一 面  五  星  红   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4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35" name="Picture 4" descr="U397P6T12D1542191F44DT20050504184540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6" name="Text Box 5"/>
            <p:cNvSpPr/>
            <p:nvPr/>
          </p:nvSpPr>
          <p:spPr>
            <a:xfrm>
              <a:off x="4191120" y="533520"/>
              <a:ext cx="4952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奥运赛场上挥舞国旗呐喊助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5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7" name="Group 2"/>
          <p:cNvGrpSpPr/>
          <p:nvPr/>
        </p:nvGrpSpPr>
        <p:grpSpPr>
          <a:xfrm>
            <a:off x="0" y="0"/>
            <a:ext cx="9144000" cy="5578200"/>
            <a:chOff x="0" y="0"/>
            <a:chExt cx="9144000" cy="5578200"/>
          </a:xfrm>
        </p:grpSpPr>
        <p:pic>
          <p:nvPicPr>
            <p:cNvPr id="1038" name="Picture 3" descr="http:/cimg.163.com/2004/2004/8/29/20040829062725dd24d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2514600"/>
              <a:ext cx="4648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9" name="Picture 4" descr="http:/all.163.com/sports/29/q06.jpg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4648320" cy="25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5" descr="http:/cimg.163.com/2004/2004/8/29/2004082904481581f2e.jpg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4724280" y="0"/>
              <a:ext cx="4419720" cy="249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1" name="Picture 6" descr="http:/cimg.163.com/2004/2004/8/29/200408290627570592a.jpg"/>
            <p:cNvPicPr/>
            <p:nvPr/>
          </p:nvPicPr>
          <p:blipFill>
            <a:blip r:embed="rId7"/>
            <a:stretch/>
          </p:blipFill>
          <p:spPr>
            <a:xfrm>
              <a:off x="4724280" y="2514600"/>
              <a:ext cx="441972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2" name="Text Box 7"/>
            <p:cNvSpPr/>
            <p:nvPr/>
          </p:nvSpPr>
          <p:spPr>
            <a:xfrm>
              <a:off x="0" y="505764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9900"/>
                  </a:solidFill>
                  <a:latin typeface="Arial"/>
                </a:rPr>
                <a:t>2004</a:t>
              </a:r>
              <a:r>
                <a:rPr b="1" lang="zh-CN" sz="2800" spc="-1" strike="noStrike">
                  <a:solidFill>
                    <a:srgbClr val="009900"/>
                  </a:solidFill>
                  <a:latin typeface="Arial"/>
                </a:rPr>
                <a:t>年雅典奥运会女子排球决赛中，中国队获得冠军。姑娘们激动地簇拥着五星红旗在赛场上奔跑着，在冉冉升起的五星红旗下，是多么的骄傲啊！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8000">
    <p:random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2"/>
          <p:cNvSpPr/>
          <p:nvPr/>
        </p:nvSpPr>
        <p:spPr>
          <a:xfrm>
            <a:off x="2428920" y="3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3"/>
          <p:cNvSpPr/>
          <p:nvPr/>
        </p:nvSpPr>
        <p:spPr>
          <a:xfrm>
            <a:off x="219060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4"/>
          <p:cNvSpPr/>
          <p:nvPr/>
        </p:nvSpPr>
        <p:spPr>
          <a:xfrm>
            <a:off x="242892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6" name="Group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47" name="Picture 6" descr="http:/cimg.163.com/2004/2004/8/28/2004082804411199856.jpg"/>
            <p:cNvPicPr/>
            <p:nvPr/>
          </p:nvPicPr>
          <p:blipFill>
            <a:blip r:embed="rId1"/>
            <a:stretch/>
          </p:blipFill>
          <p:spPr>
            <a:xfrm>
              <a:off x="4343400" y="0"/>
              <a:ext cx="4800600" cy="35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8" name="Picture 7" descr="http:/cimg.163.com/2004/2004/8/28/20040828041107759be.jp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2861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9" name="Picture 8" descr="http:/cimg.163.com/2004/2004/8/28/2004082805504846388.jpg"/>
            <p:cNvPicPr/>
            <p:nvPr/>
          </p:nvPicPr>
          <p:blipFill>
            <a:blip r:embed="rId3"/>
            <a:stretch/>
          </p:blipFill>
          <p:spPr>
            <a:xfrm>
              <a:off x="4381560" y="3657600"/>
              <a:ext cx="476244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0" name="Text Box 9"/>
            <p:cNvSpPr/>
            <p:nvPr/>
          </p:nvSpPr>
          <p:spPr>
            <a:xfrm>
              <a:off x="304920" y="1828800"/>
              <a:ext cx="8458200" cy="1556280"/>
            </a:xfrm>
            <a:prstGeom prst="rect">
              <a:avLst/>
            </a:prstGeom>
            <a:solidFill>
              <a:srgbClr val="bbe0e3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99"/>
                  </a:solidFill>
                  <a:latin typeface="Arial"/>
                  <a:ea typeface="Arial"/>
                </a:rPr>
                <a:t>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004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年在雅典奥运会男子</a:t>
              </a: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10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米栏决赛中，中国选手刘翔以</a:t>
              </a: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2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秒</a:t>
              </a: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91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夺得冠军并平了世界记录。这也是中国体育代表团在奥运会上的首枚男子田径金牌。 比赛结束后，刘翔身披国旗绕场狂奔，在领奖台上，刘翔仍然双手高举国旗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9000"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3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3" name="Group 4"/>
          <p:cNvGrpSpPr/>
          <p:nvPr/>
        </p:nvGrpSpPr>
        <p:grpSpPr>
          <a:xfrm>
            <a:off x="0" y="0"/>
            <a:ext cx="9144000" cy="6022080"/>
            <a:chOff x="0" y="0"/>
            <a:chExt cx="9144000" cy="6022080"/>
          </a:xfrm>
        </p:grpSpPr>
        <p:pic>
          <p:nvPicPr>
            <p:cNvPr id="1054" name="Picture 5" descr="001d7d24a4a50a1c9f2313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1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5" name="Text Box 6"/>
            <p:cNvSpPr/>
            <p:nvPr/>
          </p:nvSpPr>
          <p:spPr>
            <a:xfrm>
              <a:off x="0" y="5257800"/>
              <a:ext cx="914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008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奥运会，中国拳击选手张小平获得冠军，身披国旗激动不已。</a:t>
              </a:r>
              <a:r>
                <a:rPr b="1" lang="zh-CN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8000"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7" name="Picture 3" descr="五星红旗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1058" name="Text Box 4"/>
          <p:cNvSpPr/>
          <p:nvPr/>
        </p:nvSpPr>
        <p:spPr>
          <a:xfrm>
            <a:off x="1143000" y="914400"/>
            <a:ext cx="7162920" cy="43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五星红旗，你是我的骄傲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五星红旗，我为你自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为你欢呼，我为你祝福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你的名字，比我生命更重要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未知"/>
          <p:cNvSpPr/>
          <p:nvPr/>
        </p:nvSpPr>
        <p:spPr>
          <a:xfrm>
            <a:off x="1447920" y="5257800"/>
            <a:ext cx="6019560" cy="318960"/>
          </a:xfrm>
          <a:custGeom>
            <a:avLst/>
            <a:gdLst/>
            <a:ahLst/>
            <a:rect l="l" t="t" r="r" b="b"/>
            <a:pathLst>
              <a:path w="2704" h="201">
                <a:moveTo>
                  <a:pt x="0" y="33"/>
                </a:moveTo>
                <a:cubicBezTo>
                  <a:pt x="28" y="53"/>
                  <a:pt x="40" y="75"/>
                  <a:pt x="74" y="87"/>
                </a:cubicBezTo>
                <a:cubicBezTo>
                  <a:pt x="86" y="84"/>
                  <a:pt x="119" y="77"/>
                  <a:pt x="128" y="67"/>
                </a:cubicBezTo>
                <a:cubicBezTo>
                  <a:pt x="185" y="0"/>
                  <a:pt x="84" y="74"/>
                  <a:pt x="156" y="26"/>
                </a:cubicBezTo>
                <a:cubicBezTo>
                  <a:pt x="183" y="35"/>
                  <a:pt x="194" y="56"/>
                  <a:pt x="217" y="74"/>
                </a:cubicBezTo>
                <a:cubicBezTo>
                  <a:pt x="221" y="81"/>
                  <a:pt x="222" y="92"/>
                  <a:pt x="230" y="94"/>
                </a:cubicBezTo>
                <a:cubicBezTo>
                  <a:pt x="250" y="100"/>
                  <a:pt x="284" y="70"/>
                  <a:pt x="298" y="60"/>
                </a:cubicBezTo>
                <a:cubicBezTo>
                  <a:pt x="325" y="80"/>
                  <a:pt x="336" y="99"/>
                  <a:pt x="366" y="114"/>
                </a:cubicBezTo>
                <a:cubicBezTo>
                  <a:pt x="375" y="112"/>
                  <a:pt x="385" y="112"/>
                  <a:pt x="393" y="108"/>
                </a:cubicBezTo>
                <a:cubicBezTo>
                  <a:pt x="400" y="105"/>
                  <a:pt x="405" y="95"/>
                  <a:pt x="413" y="94"/>
                </a:cubicBezTo>
                <a:cubicBezTo>
                  <a:pt x="422" y="92"/>
                  <a:pt x="448" y="111"/>
                  <a:pt x="454" y="114"/>
                </a:cubicBezTo>
                <a:cubicBezTo>
                  <a:pt x="482" y="106"/>
                  <a:pt x="491" y="105"/>
                  <a:pt x="508" y="80"/>
                </a:cubicBezTo>
                <a:cubicBezTo>
                  <a:pt x="538" y="91"/>
                  <a:pt x="548" y="99"/>
                  <a:pt x="576" y="80"/>
                </a:cubicBezTo>
                <a:cubicBezTo>
                  <a:pt x="583" y="85"/>
                  <a:pt x="588" y="93"/>
                  <a:pt x="596" y="94"/>
                </a:cubicBezTo>
                <a:cubicBezTo>
                  <a:pt x="621" y="98"/>
                  <a:pt x="670" y="71"/>
                  <a:pt x="691" y="60"/>
                </a:cubicBezTo>
                <a:cubicBezTo>
                  <a:pt x="693" y="67"/>
                  <a:pt x="691" y="79"/>
                  <a:pt x="698" y="80"/>
                </a:cubicBezTo>
                <a:cubicBezTo>
                  <a:pt x="708" y="82"/>
                  <a:pt x="716" y="70"/>
                  <a:pt x="725" y="67"/>
                </a:cubicBezTo>
                <a:cubicBezTo>
                  <a:pt x="740" y="61"/>
                  <a:pt x="757" y="58"/>
                  <a:pt x="772" y="53"/>
                </a:cubicBezTo>
                <a:cubicBezTo>
                  <a:pt x="802" y="63"/>
                  <a:pt x="819" y="49"/>
                  <a:pt x="847" y="40"/>
                </a:cubicBezTo>
                <a:cubicBezTo>
                  <a:pt x="854" y="47"/>
                  <a:pt x="862" y="52"/>
                  <a:pt x="867" y="60"/>
                </a:cubicBezTo>
                <a:cubicBezTo>
                  <a:pt x="883" y="84"/>
                  <a:pt x="860" y="84"/>
                  <a:pt x="894" y="74"/>
                </a:cubicBezTo>
                <a:cubicBezTo>
                  <a:pt x="914" y="99"/>
                  <a:pt x="939" y="117"/>
                  <a:pt x="948" y="148"/>
                </a:cubicBezTo>
                <a:cubicBezTo>
                  <a:pt x="988" y="135"/>
                  <a:pt x="1029" y="117"/>
                  <a:pt x="1064" y="94"/>
                </a:cubicBezTo>
                <a:cubicBezTo>
                  <a:pt x="1066" y="108"/>
                  <a:pt x="1061" y="124"/>
                  <a:pt x="1070" y="135"/>
                </a:cubicBezTo>
                <a:cubicBezTo>
                  <a:pt x="1075" y="141"/>
                  <a:pt x="1084" y="131"/>
                  <a:pt x="1091" y="128"/>
                </a:cubicBezTo>
                <a:cubicBezTo>
                  <a:pt x="1136" y="105"/>
                  <a:pt x="1083" y="120"/>
                  <a:pt x="1138" y="108"/>
                </a:cubicBezTo>
                <a:cubicBezTo>
                  <a:pt x="1143" y="101"/>
                  <a:pt x="1144" y="89"/>
                  <a:pt x="1152" y="87"/>
                </a:cubicBezTo>
                <a:cubicBezTo>
                  <a:pt x="1174" y="82"/>
                  <a:pt x="1173" y="113"/>
                  <a:pt x="1179" y="121"/>
                </a:cubicBezTo>
                <a:cubicBezTo>
                  <a:pt x="1184" y="127"/>
                  <a:pt x="1192" y="130"/>
                  <a:pt x="1199" y="135"/>
                </a:cubicBezTo>
                <a:cubicBezTo>
                  <a:pt x="1237" y="122"/>
                  <a:pt x="1267" y="95"/>
                  <a:pt x="1301" y="74"/>
                </a:cubicBezTo>
                <a:cubicBezTo>
                  <a:pt x="1308" y="78"/>
                  <a:pt x="1317" y="80"/>
                  <a:pt x="1321" y="87"/>
                </a:cubicBezTo>
                <a:cubicBezTo>
                  <a:pt x="1329" y="99"/>
                  <a:pt x="1335" y="128"/>
                  <a:pt x="1335" y="128"/>
                </a:cubicBezTo>
                <a:cubicBezTo>
                  <a:pt x="1373" y="122"/>
                  <a:pt x="1395" y="113"/>
                  <a:pt x="1430" y="101"/>
                </a:cubicBezTo>
                <a:cubicBezTo>
                  <a:pt x="1457" y="82"/>
                  <a:pt x="1469" y="74"/>
                  <a:pt x="1497" y="94"/>
                </a:cubicBezTo>
                <a:cubicBezTo>
                  <a:pt x="1515" y="180"/>
                  <a:pt x="1488" y="91"/>
                  <a:pt x="1524" y="141"/>
                </a:cubicBezTo>
                <a:cubicBezTo>
                  <a:pt x="1567" y="201"/>
                  <a:pt x="1511" y="156"/>
                  <a:pt x="1558" y="189"/>
                </a:cubicBezTo>
                <a:cubicBezTo>
                  <a:pt x="1602" y="157"/>
                  <a:pt x="1575" y="174"/>
                  <a:pt x="1640" y="141"/>
                </a:cubicBezTo>
                <a:cubicBezTo>
                  <a:pt x="1655" y="133"/>
                  <a:pt x="1666" y="117"/>
                  <a:pt x="1680" y="108"/>
                </a:cubicBezTo>
                <a:cubicBezTo>
                  <a:pt x="1711" y="154"/>
                  <a:pt x="1692" y="143"/>
                  <a:pt x="1728" y="155"/>
                </a:cubicBezTo>
                <a:cubicBezTo>
                  <a:pt x="1827" y="80"/>
                  <a:pt x="1742" y="141"/>
                  <a:pt x="1816" y="94"/>
                </a:cubicBezTo>
                <a:cubicBezTo>
                  <a:pt x="1830" y="85"/>
                  <a:pt x="1843" y="76"/>
                  <a:pt x="1856" y="67"/>
                </a:cubicBezTo>
                <a:cubicBezTo>
                  <a:pt x="1863" y="62"/>
                  <a:pt x="1877" y="53"/>
                  <a:pt x="1877" y="53"/>
                </a:cubicBezTo>
                <a:cubicBezTo>
                  <a:pt x="1893" y="116"/>
                  <a:pt x="1905" y="91"/>
                  <a:pt x="1945" y="74"/>
                </a:cubicBezTo>
                <a:cubicBezTo>
                  <a:pt x="1954" y="70"/>
                  <a:pt x="1963" y="70"/>
                  <a:pt x="1972" y="67"/>
                </a:cubicBezTo>
                <a:cubicBezTo>
                  <a:pt x="1984" y="63"/>
                  <a:pt x="1995" y="58"/>
                  <a:pt x="2006" y="53"/>
                </a:cubicBezTo>
                <a:cubicBezTo>
                  <a:pt x="2024" y="45"/>
                  <a:pt x="2060" y="26"/>
                  <a:pt x="2060" y="26"/>
                </a:cubicBezTo>
                <a:cubicBezTo>
                  <a:pt x="2064" y="33"/>
                  <a:pt x="2070" y="39"/>
                  <a:pt x="2073" y="47"/>
                </a:cubicBezTo>
                <a:cubicBezTo>
                  <a:pt x="2077" y="56"/>
                  <a:pt x="2076" y="66"/>
                  <a:pt x="2080" y="74"/>
                </a:cubicBezTo>
                <a:cubicBezTo>
                  <a:pt x="2087" y="88"/>
                  <a:pt x="2107" y="114"/>
                  <a:pt x="2107" y="114"/>
                </a:cubicBezTo>
                <a:cubicBezTo>
                  <a:pt x="2132" y="95"/>
                  <a:pt x="2153" y="89"/>
                  <a:pt x="2175" y="67"/>
                </a:cubicBezTo>
                <a:cubicBezTo>
                  <a:pt x="2182" y="71"/>
                  <a:pt x="2191" y="73"/>
                  <a:pt x="2195" y="80"/>
                </a:cubicBezTo>
                <a:cubicBezTo>
                  <a:pt x="2203" y="92"/>
                  <a:pt x="2209" y="121"/>
                  <a:pt x="2209" y="121"/>
                </a:cubicBezTo>
                <a:cubicBezTo>
                  <a:pt x="2243" y="87"/>
                  <a:pt x="2280" y="75"/>
                  <a:pt x="2324" y="60"/>
                </a:cubicBezTo>
                <a:cubicBezTo>
                  <a:pt x="2326" y="67"/>
                  <a:pt x="2331" y="73"/>
                  <a:pt x="2331" y="80"/>
                </a:cubicBezTo>
                <a:cubicBezTo>
                  <a:pt x="2331" y="87"/>
                  <a:pt x="2317" y="100"/>
                  <a:pt x="2324" y="101"/>
                </a:cubicBezTo>
                <a:cubicBezTo>
                  <a:pt x="2338" y="104"/>
                  <a:pt x="2351" y="92"/>
                  <a:pt x="2365" y="87"/>
                </a:cubicBezTo>
                <a:cubicBezTo>
                  <a:pt x="2372" y="85"/>
                  <a:pt x="2385" y="80"/>
                  <a:pt x="2385" y="80"/>
                </a:cubicBezTo>
                <a:cubicBezTo>
                  <a:pt x="2406" y="59"/>
                  <a:pt x="2424" y="50"/>
                  <a:pt x="2453" y="40"/>
                </a:cubicBezTo>
                <a:cubicBezTo>
                  <a:pt x="2481" y="68"/>
                  <a:pt x="2484" y="109"/>
                  <a:pt x="2493" y="148"/>
                </a:cubicBezTo>
                <a:cubicBezTo>
                  <a:pt x="2524" y="138"/>
                  <a:pt x="2536" y="106"/>
                  <a:pt x="2568" y="94"/>
                </a:cubicBezTo>
                <a:cubicBezTo>
                  <a:pt x="2590" y="85"/>
                  <a:pt x="2614" y="82"/>
                  <a:pt x="2636" y="74"/>
                </a:cubicBezTo>
                <a:cubicBezTo>
                  <a:pt x="2697" y="27"/>
                  <a:pt x="2649" y="80"/>
                  <a:pt x="2676" y="101"/>
                </a:cubicBezTo>
                <a:cubicBezTo>
                  <a:pt x="2683" y="107"/>
                  <a:pt x="2695" y="101"/>
                  <a:pt x="2704" y="101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Text Box 2"/>
          <p:cNvSpPr/>
          <p:nvPr/>
        </p:nvSpPr>
        <p:spPr>
          <a:xfrm>
            <a:off x="380880" y="1828800"/>
            <a:ext cx="8382240" cy="24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华文楷体"/>
                <a:ea typeface="华文楷体"/>
              </a:rPr>
              <a:t>漂流  无奈  漆黑  鼓劲 防止 无影无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华文楷体"/>
                <a:ea typeface="华文楷体"/>
              </a:rPr>
              <a:t>处境  凝视  交易  趔趔趄趄  荒无人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华文楷体"/>
                <a:ea typeface="华文楷体"/>
              </a:rPr>
              <a:t>筏子  犹豫  摔倒  双手一摊  竖起大拇指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AutoShape 3"/>
          <p:cNvSpPr/>
          <p:nvPr/>
        </p:nvSpPr>
        <p:spPr>
          <a:xfrm>
            <a:off x="1371600" y="2362320"/>
            <a:ext cx="152280" cy="152280"/>
          </a:xfrm>
          <a:prstGeom prst="octagon">
            <a:avLst>
              <a:gd name="adj" fmla="val 29287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AutoShape 4"/>
          <p:cNvSpPr/>
          <p:nvPr/>
        </p:nvSpPr>
        <p:spPr>
          <a:xfrm>
            <a:off x="990720" y="2362320"/>
            <a:ext cx="152280" cy="152280"/>
          </a:xfrm>
          <a:prstGeom prst="octagon">
            <a:avLst>
              <a:gd name="adj" fmla="val 29287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AutoShape 5"/>
          <p:cNvSpPr/>
          <p:nvPr/>
        </p:nvSpPr>
        <p:spPr>
          <a:xfrm>
            <a:off x="838080" y="38862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AutoShape 6"/>
          <p:cNvSpPr/>
          <p:nvPr/>
        </p:nvSpPr>
        <p:spPr>
          <a:xfrm>
            <a:off x="1219320" y="38862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7"/>
          <p:cNvSpPr/>
          <p:nvPr/>
        </p:nvSpPr>
        <p:spPr>
          <a:xfrm>
            <a:off x="1371600" y="3505320"/>
            <a:ext cx="54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Line 8"/>
          <p:cNvSpPr/>
          <p:nvPr/>
        </p:nvSpPr>
        <p:spPr>
          <a:xfrm>
            <a:off x="1447920" y="4114800"/>
            <a:ext cx="380880" cy="38088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7" name="Picture 9" descr="200611249235588253"/>
          <p:cNvPicPr/>
          <p:nvPr/>
        </p:nvPicPr>
        <p:blipFill>
          <a:blip r:embed="rId1"/>
          <a:stretch/>
        </p:blipFill>
        <p:spPr>
          <a:xfrm>
            <a:off x="76320" y="4572000"/>
            <a:ext cx="2895480" cy="214632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0" descr="200605290504_106455"/>
          <p:cNvPicPr/>
          <p:nvPr/>
        </p:nvPicPr>
        <p:blipFill>
          <a:blip r:embed="rId2"/>
          <a:stretch/>
        </p:blipFill>
        <p:spPr>
          <a:xfrm>
            <a:off x="6324480" y="3962520"/>
            <a:ext cx="2819520" cy="2895480"/>
          </a:xfrm>
          <a:prstGeom prst="rect">
            <a:avLst/>
          </a:prstGeom>
          <a:ln w="0">
            <a:noFill/>
          </a:ln>
        </p:spPr>
      </p:pic>
      <p:sp>
        <p:nvSpPr>
          <p:cNvPr id="1069" name="Rectangle 11"/>
          <p:cNvSpPr/>
          <p:nvPr/>
        </p:nvSpPr>
        <p:spPr>
          <a:xfrm>
            <a:off x="1143000" y="4572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驾着无动力的小舟，利用船桨掌握好方向，在时而湍急时而平缓的水流中顺流而下，在与大自然抗争中演绎精彩的瞬间，这就是漂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Line 12"/>
          <p:cNvSpPr/>
          <p:nvPr/>
        </p:nvSpPr>
        <p:spPr>
          <a:xfrm flipV="1">
            <a:off x="1371600" y="1295280"/>
            <a:ext cx="380880" cy="60984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3"/>
          <p:cNvSpPr/>
          <p:nvPr/>
        </p:nvSpPr>
        <p:spPr>
          <a:xfrm>
            <a:off x="1600200" y="2057400"/>
            <a:ext cx="54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 Box 14"/>
          <p:cNvSpPr/>
          <p:nvPr/>
        </p:nvSpPr>
        <p:spPr>
          <a:xfrm>
            <a:off x="3603600" y="2506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 Box 15"/>
          <p:cNvSpPr/>
          <p:nvPr/>
        </p:nvSpPr>
        <p:spPr>
          <a:xfrm>
            <a:off x="3908520" y="292572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WordArt 16"/>
          <p:cNvSpPr txBox="1"/>
          <p:nvPr/>
        </p:nvSpPr>
        <p:spPr>
          <a:xfrm rot="5400000">
            <a:off x="-990720" y="144792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我能读准字音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6" name="Rectangle 3"/>
          <p:cNvSpPr/>
          <p:nvPr/>
        </p:nvSpPr>
        <p:spPr>
          <a:xfrm>
            <a:off x="2133720" y="388620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课文写了一件什么事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7" name="Picture 16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078" name="Rectangle 4"/>
          <p:cNvSpPr/>
          <p:nvPr/>
        </p:nvSpPr>
        <p:spPr>
          <a:xfrm>
            <a:off x="4435560" y="304920"/>
            <a:ext cx="120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写了一件什么事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5"/>
          <p:cNvSpPr/>
          <p:nvPr/>
        </p:nvSpPr>
        <p:spPr>
          <a:xfrm>
            <a:off x="1066680" y="1371600"/>
            <a:ext cx="80773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我”在一次（       ）中遇到（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在处境（       ）时，“我”向（                     ）求助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可是（                     ）却要求“我”用（        ）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        ），“我”（        ）了。最后，“我”还是得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了（                       ）的帮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 Box 6"/>
          <p:cNvSpPr/>
          <p:nvPr/>
        </p:nvSpPr>
        <p:spPr>
          <a:xfrm>
            <a:off x="3809880" y="13716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漂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 Box 7"/>
          <p:cNvSpPr/>
          <p:nvPr/>
        </p:nvSpPr>
        <p:spPr>
          <a:xfrm>
            <a:off x="6400800" y="1371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危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 Box 8"/>
          <p:cNvSpPr/>
          <p:nvPr/>
        </p:nvSpPr>
        <p:spPr>
          <a:xfrm>
            <a:off x="2057400" y="22096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艰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Text Box 9"/>
          <p:cNvSpPr/>
          <p:nvPr/>
        </p:nvSpPr>
        <p:spPr>
          <a:xfrm>
            <a:off x="5638680" y="22096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面包店老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10"/>
          <p:cNvSpPr/>
          <p:nvPr/>
        </p:nvSpPr>
        <p:spPr>
          <a:xfrm>
            <a:off x="2057400" y="3048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面包店老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11"/>
          <p:cNvSpPr/>
          <p:nvPr/>
        </p:nvSpPr>
        <p:spPr>
          <a:xfrm>
            <a:off x="1828800" y="47242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面包店老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 Box 12"/>
          <p:cNvSpPr/>
          <p:nvPr/>
        </p:nvSpPr>
        <p:spPr>
          <a:xfrm>
            <a:off x="6858000" y="3048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国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Text Box 13"/>
          <p:cNvSpPr/>
          <p:nvPr/>
        </p:nvSpPr>
        <p:spPr>
          <a:xfrm>
            <a:off x="1371600" y="3886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面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 Box 14"/>
          <p:cNvSpPr/>
          <p:nvPr/>
        </p:nvSpPr>
        <p:spPr>
          <a:xfrm>
            <a:off x="3886200" y="3886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拒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0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0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0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0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0" name="Text Box 3"/>
          <p:cNvSpPr/>
          <p:nvPr/>
        </p:nvSpPr>
        <p:spPr>
          <a:xfrm>
            <a:off x="838080" y="106668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自由朗读课文，用横线画出使你感受到中国留学生对国旗的热爱的句子，然后同桌再交流交流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AutoShape 4"/>
          <p:cNvSpPr/>
          <p:nvPr/>
        </p:nvSpPr>
        <p:spPr>
          <a:xfrm>
            <a:off x="1066680" y="5029200"/>
            <a:ext cx="96228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AutoShape 5"/>
          <p:cNvSpPr/>
          <p:nvPr/>
        </p:nvSpPr>
        <p:spPr>
          <a:xfrm>
            <a:off x="2666880" y="5029200"/>
            <a:ext cx="96228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AutoShape 6"/>
          <p:cNvSpPr/>
          <p:nvPr/>
        </p:nvSpPr>
        <p:spPr>
          <a:xfrm>
            <a:off x="4572000" y="50292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AutoShape 7"/>
          <p:cNvSpPr/>
          <p:nvPr/>
        </p:nvSpPr>
        <p:spPr>
          <a:xfrm>
            <a:off x="6400800" y="50292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5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6" name="Text Box 3"/>
          <p:cNvSpPr/>
          <p:nvPr/>
        </p:nvSpPr>
        <p:spPr>
          <a:xfrm>
            <a:off x="5943600" y="1066680"/>
            <a:ext cx="32004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收拾好背包，我把它系在筏子上，手举一面鲜艳的五星红旗，便出发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7" name="Picture 4" descr="未命名"/>
          <p:cNvPicPr/>
          <p:nvPr/>
        </p:nvPicPr>
        <p:blipFill>
          <a:blip r:embed="rId2"/>
          <a:stretch/>
        </p:blipFill>
        <p:spPr>
          <a:xfrm>
            <a:off x="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1098" name="AutoShape 5">
            <a:hlinkClick r:id="" action="ppaction://hlinkshowjump?jump=previousslide"/>
          </p:cNvPr>
          <p:cNvSpPr/>
          <p:nvPr/>
        </p:nvSpPr>
        <p:spPr>
          <a:xfrm>
            <a:off x="8534520" y="6424560"/>
            <a:ext cx="609480" cy="433440"/>
          </a:xfrm>
          <a:custGeom>
            <a:avLst/>
            <a:gdLst>
              <a:gd name="textAreaLeft" fmla="*/ 28080 w 609480"/>
              <a:gd name="textAreaRight" fmla="*/ 581400 w 6094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0365" h="21600">
                <a:moveTo>
                  <a:pt x="0" y="0"/>
                </a:moveTo>
                <a:lnTo>
                  <a:pt x="30365" y="0"/>
                </a:lnTo>
                <a:lnTo>
                  <a:pt x="30365" y="21600"/>
                </a:lnTo>
                <a:lnTo>
                  <a:pt x="0" y="21600"/>
                </a:lnTo>
                <a:close/>
              </a:path>
              <a:path fill="lightenLess" w="30365" h="21600">
                <a:moveTo>
                  <a:pt x="0" y="0"/>
                </a:moveTo>
                <a:lnTo>
                  <a:pt x="30365" y="0"/>
                </a:lnTo>
                <a:lnTo>
                  <a:pt x="28965" y="1400"/>
                </a:lnTo>
                <a:lnTo>
                  <a:pt x="1400" y="1400"/>
                </a:lnTo>
                <a:close/>
              </a:path>
              <a:path fill="darken" w="30365" h="21600">
                <a:moveTo>
                  <a:pt x="30365" y="0"/>
                </a:moveTo>
                <a:lnTo>
                  <a:pt x="30365" y="21600"/>
                </a:lnTo>
                <a:lnTo>
                  <a:pt x="28965" y="20200"/>
                </a:lnTo>
                <a:lnTo>
                  <a:pt x="28965" y="1400"/>
                </a:lnTo>
                <a:close/>
              </a:path>
              <a:path fill="darkenLess" w="30365" h="21600">
                <a:moveTo>
                  <a:pt x="30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65" y="20200"/>
                </a:lnTo>
                <a:close/>
              </a:path>
              <a:path fill="lighten" w="30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65" h="21600">
                <a:moveTo>
                  <a:pt x="8176" y="10800"/>
                </a:moveTo>
                <a:lnTo>
                  <a:pt x="22189" y="3794"/>
                </a:lnTo>
                <a:lnTo>
                  <a:pt x="221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矩形 6"/>
          <p:cNvSpPr/>
          <p:nvPr/>
        </p:nvSpPr>
        <p:spPr>
          <a:xfrm>
            <a:off x="4013280" y="838080"/>
            <a:ext cx="660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8" name="Picture 2" descr="200792116101682175"/>
          <p:cNvPicPr/>
          <p:nvPr/>
        </p:nvPicPr>
        <p:blipFill>
          <a:blip r:embed="rId1"/>
          <a:stretch/>
        </p:blipFill>
        <p:spPr>
          <a:xfrm>
            <a:off x="0" y="-303120"/>
            <a:ext cx="9144000" cy="7161120"/>
          </a:xfrm>
          <a:prstGeom prst="rect">
            <a:avLst/>
          </a:prstGeom>
          <a:ln w="0">
            <a:noFill/>
          </a:ln>
        </p:spPr>
      </p:pic>
      <p:pic>
        <p:nvPicPr>
          <p:cNvPr id="999" name="WordArt 3" descr=""/>
          <p:cNvPicPr/>
          <p:nvPr/>
        </p:nvPicPr>
        <p:blipFill>
          <a:blip r:embed="rId2"/>
          <a:stretch/>
        </p:blipFill>
        <p:spPr>
          <a:xfrm>
            <a:off x="4346640" y="512640"/>
            <a:ext cx="4340160" cy="3084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14" dur="5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9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0" name="Text Box 3"/>
          <p:cNvSpPr/>
          <p:nvPr/>
        </p:nvSpPr>
        <p:spPr>
          <a:xfrm>
            <a:off x="990720" y="106668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ext Box 4"/>
          <p:cNvSpPr/>
          <p:nvPr/>
        </p:nvSpPr>
        <p:spPr>
          <a:xfrm>
            <a:off x="4343400" y="1143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5"/>
          <p:cNvSpPr/>
          <p:nvPr/>
        </p:nvSpPr>
        <p:spPr>
          <a:xfrm>
            <a:off x="5638680" y="1219320"/>
            <a:ext cx="35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为了防止丢失，也为了行动方便，我把国旗从旗杆上抽下来，系在脖子上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3" name="Picture 6" descr="未命名1"/>
          <p:cNvPicPr/>
          <p:nvPr/>
        </p:nvPicPr>
        <p:blipFill>
          <a:blip r:embed="rId2"/>
          <a:stretch/>
        </p:blipFill>
        <p:spPr>
          <a:xfrm>
            <a:off x="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1104" name="AutoShape 7"/>
          <p:cNvSpPr/>
          <p:nvPr/>
        </p:nvSpPr>
        <p:spPr>
          <a:xfrm>
            <a:off x="8686800" y="6424560"/>
            <a:ext cx="457200" cy="433440"/>
          </a:xfrm>
          <a:custGeom>
            <a:avLst/>
            <a:gdLst>
              <a:gd name="textAreaLeft" fmla="*/ 28080 w 457200"/>
              <a:gd name="textAreaRight" fmla="*/ 429120 w 4572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2783" h="21600">
                <a:moveTo>
                  <a:pt x="0" y="0"/>
                </a:moveTo>
                <a:lnTo>
                  <a:pt x="22783" y="0"/>
                </a:lnTo>
                <a:lnTo>
                  <a:pt x="22783" y="21600"/>
                </a:lnTo>
                <a:lnTo>
                  <a:pt x="0" y="21600"/>
                </a:lnTo>
                <a:close/>
              </a:path>
              <a:path fill="lightenLess" w="22783" h="21600">
                <a:moveTo>
                  <a:pt x="0" y="0"/>
                </a:moveTo>
                <a:lnTo>
                  <a:pt x="22783" y="0"/>
                </a:lnTo>
                <a:lnTo>
                  <a:pt x="21383" y="1400"/>
                </a:lnTo>
                <a:lnTo>
                  <a:pt x="1400" y="1400"/>
                </a:lnTo>
                <a:close/>
              </a:path>
              <a:path fill="darken" w="22783" h="21600">
                <a:moveTo>
                  <a:pt x="22783" y="0"/>
                </a:moveTo>
                <a:lnTo>
                  <a:pt x="22783" y="21600"/>
                </a:lnTo>
                <a:lnTo>
                  <a:pt x="21383" y="20200"/>
                </a:lnTo>
                <a:lnTo>
                  <a:pt x="21383" y="1400"/>
                </a:lnTo>
                <a:close/>
              </a:path>
              <a:path fill="darkenLess" w="22783" h="21600">
                <a:moveTo>
                  <a:pt x="22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83" y="20200"/>
                </a:lnTo>
                <a:close/>
              </a:path>
              <a:path fill="lighten" w="22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83" h="21600">
                <a:moveTo>
                  <a:pt x="4385" y="10800"/>
                </a:moveTo>
                <a:lnTo>
                  <a:pt x="18398" y="3794"/>
                </a:lnTo>
                <a:lnTo>
                  <a:pt x="18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5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6" name="Text Box 3"/>
          <p:cNvSpPr/>
          <p:nvPr/>
        </p:nvSpPr>
        <p:spPr>
          <a:xfrm>
            <a:off x="57150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我犹豫了一下，把国旗慢慢解下来，再展开。这面做工精致的五星红旗，经过河水的冲洗，依然是那么鲜艳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 Box 4"/>
          <p:cNvSpPr/>
          <p:nvPr/>
        </p:nvSpPr>
        <p:spPr>
          <a:xfrm>
            <a:off x="6248520" y="3808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犹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5"/>
          <p:cNvSpPr/>
          <p:nvPr/>
        </p:nvSpPr>
        <p:spPr>
          <a:xfrm>
            <a:off x="5715000" y="160020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慢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Picture 6" descr="未命2"/>
          <p:cNvPicPr/>
          <p:nvPr/>
        </p:nvPicPr>
        <p:blipFill>
          <a:blip r:embed="rId2"/>
          <a:stretch/>
        </p:blipFill>
        <p:spPr>
          <a:xfrm>
            <a:off x="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1110" name="AutoShape 7"/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8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9154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愣了一下，然后久久地凝视着手中的五星红旗。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3"/>
          <p:cNvSpPr/>
          <p:nvPr/>
        </p:nvSpPr>
        <p:spPr>
          <a:xfrm>
            <a:off x="2209680" y="1905120"/>
            <a:ext cx="1295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4"/>
          <p:cNvSpPr/>
          <p:nvPr/>
        </p:nvSpPr>
        <p:spPr>
          <a:xfrm>
            <a:off x="1600200" y="53352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4" name="Picture 5" descr="未命名3"/>
          <p:cNvPicPr/>
          <p:nvPr/>
        </p:nvPicPr>
        <p:blipFill>
          <a:blip r:embed="rId2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0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761760" y="167616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醒来的时候，发现自己被一块巨石挡住了，头和身子被撞伤了好几处，筏子和背包都无影无踪。我迷路了，在荒无人烟的大山里转来转去。直到第三天中午，我才来到一座小镇，走进一家面包店。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7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8" name="Text Box 3"/>
          <p:cNvSpPr/>
          <p:nvPr/>
        </p:nvSpPr>
        <p:spPr>
          <a:xfrm>
            <a:off x="838080" y="5335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板听懂了我的话，却把双手一摊，表示一脸的无奈，说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讲究平等交易，我给你面包，你能给我什么呢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9" name="Picture 4" descr="未命名5"/>
          <p:cNvPicPr/>
          <p:nvPr/>
        </p:nvPicPr>
        <p:blipFill>
          <a:blip r:embed="rId2"/>
          <a:stretch/>
        </p:blipFill>
        <p:spPr>
          <a:xfrm>
            <a:off x="1295280" y="2066760"/>
            <a:ext cx="6629400" cy="47912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1" name="Text Box 3"/>
          <p:cNvSpPr/>
          <p:nvPr/>
        </p:nvSpPr>
        <p:spPr>
          <a:xfrm>
            <a:off x="838080" y="5335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板听懂了我的话，却把双手一摊，表示一脸的无奈，说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讲究平等交易，我给你面包，你能给我什么呢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2" name="Picture 4" descr="未命名5"/>
          <p:cNvPicPr/>
          <p:nvPr/>
        </p:nvPicPr>
        <p:blipFill>
          <a:blip r:embed="rId2"/>
          <a:stretch/>
        </p:blipFill>
        <p:spPr>
          <a:xfrm>
            <a:off x="1295280" y="2066760"/>
            <a:ext cx="6629400" cy="47912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9154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愣了一下，然后久久地凝视着手中的五星红旗。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3"/>
          <p:cNvSpPr/>
          <p:nvPr/>
        </p:nvSpPr>
        <p:spPr>
          <a:xfrm>
            <a:off x="2209680" y="1905120"/>
            <a:ext cx="1295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 Box 4"/>
          <p:cNvSpPr/>
          <p:nvPr/>
        </p:nvSpPr>
        <p:spPr>
          <a:xfrm>
            <a:off x="5486400" y="53352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久久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 Box 5"/>
          <p:cNvSpPr/>
          <p:nvPr/>
        </p:nvSpPr>
        <p:spPr>
          <a:xfrm>
            <a:off x="7162920" y="53352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凝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6"/>
          <p:cNvSpPr/>
          <p:nvPr/>
        </p:nvSpPr>
        <p:spPr>
          <a:xfrm>
            <a:off x="5867280" y="129528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我想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  <a:ea typeface="楷体_GB2312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7"/>
          <p:cNvSpPr/>
          <p:nvPr/>
        </p:nvSpPr>
        <p:spPr>
          <a:xfrm>
            <a:off x="1600200" y="53352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9" name="Picture 8" descr="未命名3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1" dur="2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296280" cy="6916680"/>
          </a:xfrm>
          <a:prstGeom prst="rect">
            <a:avLst/>
          </a:prstGeom>
          <a:ln w="0">
            <a:noFill/>
          </a:ln>
        </p:spPr>
      </p:pic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-455760" y="3657600"/>
            <a:ext cx="959976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我摇摇头，吃力地穿上大衣，拿着鲜艳的国旗，趔趔趄趄地向外走去。突然，我摔倒在地上，就什么也不知道了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2" name="Picture 4" descr="未命名4"/>
          <p:cNvPicPr/>
          <p:nvPr/>
        </p:nvPicPr>
        <p:blipFill>
          <a:blip r:embed="rId2"/>
          <a:stretch/>
        </p:blipFill>
        <p:spPr>
          <a:xfrm>
            <a:off x="1981080" y="0"/>
            <a:ext cx="5486400" cy="39639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3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-379800" y="762120"/>
            <a:ext cx="9294840" cy="48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摇摇头，吃力地穿上大衣，拿着鲜艳的国旗，趔趔趄趄地向外走去。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5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296280" cy="6916680"/>
          </a:xfrm>
          <a:prstGeom prst="rect">
            <a:avLst/>
          </a:prstGeom>
          <a:ln w="0">
            <a:noFill/>
          </a:ln>
        </p:spPr>
      </p:pic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-379800" y="762120"/>
            <a:ext cx="9294840" cy="48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摇摇头，吃力地穿上大衣，拿着鲜艳的国旗，趔趔趄趄地向外走去。突然，我摔倒在地上，就什么也不知道了。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Group 4"/>
          <p:cNvGrpSpPr/>
          <p:nvPr/>
        </p:nvGrpSpPr>
        <p:grpSpPr>
          <a:xfrm>
            <a:off x="0" y="-150840"/>
            <a:ext cx="9144000" cy="7008480"/>
            <a:chOff x="0" y="-150840"/>
            <a:chExt cx="9144000" cy="7008480"/>
          </a:xfrm>
        </p:grpSpPr>
        <p:pic>
          <p:nvPicPr>
            <p:cNvPr id="1003" name="Picture 5" descr="无标题"/>
            <p:cNvPicPr/>
            <p:nvPr/>
          </p:nvPicPr>
          <p:blipFill>
            <a:blip r:embed="rId1"/>
            <a:stretch/>
          </p:blipFill>
          <p:spPr>
            <a:xfrm>
              <a:off x="0" y="-150840"/>
              <a:ext cx="9144000" cy="700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Text Box 6"/>
            <p:cNvSpPr/>
            <p:nvPr/>
          </p:nvSpPr>
          <p:spPr>
            <a:xfrm>
              <a:off x="4419720" y="316080"/>
              <a:ext cx="4419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天安门升旗仪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5" name="红旗飘飘3.mp3" descr=""/>
          <p:cNvPicPr/>
          <p:nvPr/>
        </p:nvPicPr>
        <p:blipFill>
          <a:blip r:embed="rId2"/>
          <a:stretch/>
        </p:blipFill>
        <p:spPr>
          <a:xfrm>
            <a:off x="1522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10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9154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愣了一下，然后久久地凝视着手中的五星红旗。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 Box 3"/>
          <p:cNvSpPr/>
          <p:nvPr/>
        </p:nvSpPr>
        <p:spPr>
          <a:xfrm>
            <a:off x="2209680" y="1905120"/>
            <a:ext cx="1295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4"/>
          <p:cNvSpPr/>
          <p:nvPr/>
        </p:nvSpPr>
        <p:spPr>
          <a:xfrm>
            <a:off x="5486400" y="53352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久久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5"/>
          <p:cNvSpPr/>
          <p:nvPr/>
        </p:nvSpPr>
        <p:spPr>
          <a:xfrm>
            <a:off x="7162920" y="53352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凝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6"/>
          <p:cNvSpPr/>
          <p:nvPr/>
        </p:nvSpPr>
        <p:spPr>
          <a:xfrm>
            <a:off x="4952880" y="13716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我想：宁可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也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7"/>
          <p:cNvSpPr/>
          <p:nvPr/>
        </p:nvSpPr>
        <p:spPr>
          <a:xfrm>
            <a:off x="1600200" y="53352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3" name="Picture 8" descr="未命名3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2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4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5" name="Text Box 3"/>
          <p:cNvSpPr/>
          <p:nvPr/>
        </p:nvSpPr>
        <p:spPr>
          <a:xfrm>
            <a:off x="152280" y="0"/>
            <a:ext cx="8991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醒来的时候，发现自己躺在医院的病房里，身边站着的就是面包店的老板。他见我醒了，冲我竖起大拇指，说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心养一养，费用由我来付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6" name="Picture 4" descr="未命名6"/>
          <p:cNvPicPr/>
          <p:nvPr/>
        </p:nvPicPr>
        <p:blipFill>
          <a:blip r:embed="rId2"/>
          <a:stretch/>
        </p:blipFill>
        <p:spPr>
          <a:xfrm>
            <a:off x="1981080" y="2452680"/>
            <a:ext cx="6096240" cy="4405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7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8" name="Text Box 3"/>
          <p:cNvSpPr/>
          <p:nvPr/>
        </p:nvSpPr>
        <p:spPr>
          <a:xfrm>
            <a:off x="152280" y="0"/>
            <a:ext cx="8991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醒来的时候，发现自己躺在医院的病房里，身边站着的就是面包店的老板。他见我醒了，冲我竖起大拇指，说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安心养一养，费用由我来付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9" name="Picture 4" descr="未命名6"/>
          <p:cNvPicPr/>
          <p:nvPr/>
        </p:nvPicPr>
        <p:blipFill>
          <a:blip r:embed="rId2"/>
          <a:stretch/>
        </p:blipFill>
        <p:spPr>
          <a:xfrm>
            <a:off x="1981080" y="2452680"/>
            <a:ext cx="6096240" cy="4405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0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1" name="Text Box 3"/>
          <p:cNvSpPr/>
          <p:nvPr/>
        </p:nvSpPr>
        <p:spPr>
          <a:xfrm>
            <a:off x="1066680" y="2895480"/>
            <a:ext cx="80773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醒来的时候，发现自己躺在医院的病房里，身边站着的就是面包店的老板。他见我醒了，冲我竖起大拇指，说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心养一养，费用由我来付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 Box 4"/>
          <p:cNvSpPr/>
          <p:nvPr/>
        </p:nvSpPr>
        <p:spPr>
          <a:xfrm>
            <a:off x="1066680" y="685800"/>
            <a:ext cx="79059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板听懂了我的话，却把双手一摊，表示一脸的无奈，说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讲究平等交易，我给你面包，你能给我什么呢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 Box 5"/>
          <p:cNvSpPr/>
          <p:nvPr/>
        </p:nvSpPr>
        <p:spPr>
          <a:xfrm>
            <a:off x="3809880" y="579132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感    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2"/>
          <p:cNvSpPr/>
          <p:nvPr/>
        </p:nvSpPr>
        <p:spPr>
          <a:xfrm>
            <a:off x="5105520" y="459720"/>
            <a:ext cx="38862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美丽的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庄严的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革命的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团结的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四颗金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朝向一颗大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万众一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朝向人民革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们爱五星红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像爱自己的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没有了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就没有了生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们守卫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它是我们的尊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们跟随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它引我们前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革命的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团结的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旗到哪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哪里就胜利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艾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4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5" name="Picture 3" descr="504504044c86f5538c4a7e326472e4b3"/>
          <p:cNvPicPr/>
          <p:nvPr/>
        </p:nvPicPr>
        <p:blipFill>
          <a:blip r:embed="rId1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pic>
        <p:nvPicPr>
          <p:cNvPr id="1156" name="歌唱祖国.mp3" descr=""/>
          <p:cNvPicPr/>
          <p:nvPr/>
        </p:nvPicPr>
        <p:blipFill>
          <a:blip r:embed="rId2"/>
          <a:stretch/>
        </p:blipFill>
        <p:spPr>
          <a:xfrm>
            <a:off x="6095880" y="62485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21" dur="indefinite" restart="never" nodeType="tmRoot">
          <p:childTnLst>
            <p:seq>
              <p:cTn id="322" restart="whenNotActive" nodeType="interactiveSeq" fill="hold">
                <p:stCondLst>
                  <p:cond evt="onClick">
                    <p:tgtEl>
                      <p:spTgt spid="1156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1156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6" dur="216535" fill="hold"/>
                                        <p:tgtEl>
                                          <p:spTgt spid="1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Picture 2" descr="1c593117ef8ee410c83d6dce"/>
          <p:cNvPicPr/>
          <p:nvPr/>
        </p:nvPicPr>
        <p:blipFill>
          <a:blip r:embed="rId1"/>
          <a:stretch/>
        </p:blipFill>
        <p:spPr>
          <a:xfrm>
            <a:off x="-150840" y="-112680"/>
            <a:ext cx="9752040" cy="6970680"/>
          </a:xfrm>
          <a:prstGeom prst="rect">
            <a:avLst/>
          </a:prstGeom>
          <a:ln w="0">
            <a:noFill/>
          </a:ln>
        </p:spPr>
      </p:pic>
      <p:sp>
        <p:nvSpPr>
          <p:cNvPr id="1158" name="WordArt 3"/>
          <p:cNvSpPr txBox="1"/>
          <p:nvPr/>
        </p:nvSpPr>
        <p:spPr>
          <a:xfrm>
            <a:off x="838080" y="1828800"/>
            <a:ext cx="46483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latin typeface="隶书"/>
              </a:rPr>
              <a:t>再见！</a:t>
            </a:r>
            <a:endParaRPr b="0" lang="en-US" sz="9600" spc="1" strike="noStrike">
              <a:ln w="9360">
                <a:solidFill>
                  <a:srgbClr val="ffff00"/>
                </a:solidFill>
                <a:miter/>
              </a:ln>
              <a:solidFill>
                <a:srgbClr val="00ff00"/>
              </a:solidFill>
              <a:latin typeface="隶书"/>
              <a:ea typeface="隶书"/>
            </a:endParaRPr>
          </a:p>
        </p:txBody>
      </p:sp>
    </p:spTree>
  </p:cSld>
  <p:transition spd="slow">
    <p:random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autoRev="1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2" dur="5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07" name="Picture 3" descr="雪峰上的红旗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8" name="Text Box 4"/>
            <p:cNvSpPr/>
            <p:nvPr/>
          </p:nvSpPr>
          <p:spPr>
            <a:xfrm>
              <a:off x="457200" y="304920"/>
              <a:ext cx="815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首次走进北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Group 4"/>
          <p:cNvGrpSpPr/>
          <p:nvPr/>
        </p:nvGrpSpPr>
        <p:grpSpPr>
          <a:xfrm>
            <a:off x="-3630600" y="0"/>
            <a:ext cx="13079520" cy="6858000"/>
            <a:chOff x="-3630600" y="0"/>
            <a:chExt cx="13079520" cy="6858000"/>
          </a:xfrm>
        </p:grpSpPr>
        <p:pic>
          <p:nvPicPr>
            <p:cNvPr id="1012" name="Picture 5" descr="Img241037268"/>
            <p:cNvPicPr/>
            <p:nvPr/>
          </p:nvPicPr>
          <p:blipFill>
            <a:blip r:embed="rId1"/>
            <a:stretch/>
          </p:blipFill>
          <p:spPr>
            <a:xfrm>
              <a:off x="-3630600" y="0"/>
              <a:ext cx="130795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3" name="Text Box 6"/>
            <p:cNvSpPr/>
            <p:nvPr/>
          </p:nvSpPr>
          <p:spPr>
            <a:xfrm>
              <a:off x="5563080" y="476280"/>
              <a:ext cx="326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幼圆"/>
                </a:rPr>
                <a:t>首次走进南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5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2"/>
          <p:cNvSpPr/>
          <p:nvPr/>
        </p:nvSpPr>
        <p:spPr>
          <a:xfrm>
            <a:off x="285840" y="149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3" descr="1_1-1-21-21_20031015185829"/>
          <p:cNvPicPr/>
          <p:nvPr/>
        </p:nvPicPr>
        <p:blipFill>
          <a:blip r:embed="rId1"/>
          <a:stretch/>
        </p:blipFill>
        <p:spPr>
          <a:xfrm>
            <a:off x="3352680" y="1600200"/>
            <a:ext cx="5791320" cy="5257800"/>
          </a:xfrm>
          <a:prstGeom prst="rect">
            <a:avLst/>
          </a:prstGeom>
          <a:ln w="0">
            <a:noFill/>
          </a:ln>
        </p:spPr>
      </p:pic>
      <p:sp>
        <p:nvSpPr>
          <p:cNvPr id="1016" name="Text Box 4"/>
          <p:cNvSpPr/>
          <p:nvPr/>
        </p:nvSpPr>
        <p:spPr>
          <a:xfrm>
            <a:off x="0" y="530532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中国航天员杨利伟乘坐“神舟五号”飞船在太空中展示中国国旗和联合国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7" name="Group 5"/>
          <p:cNvGrpSpPr/>
          <p:nvPr/>
        </p:nvGrpSpPr>
        <p:grpSpPr>
          <a:xfrm>
            <a:off x="0" y="0"/>
            <a:ext cx="9144000" cy="4952880"/>
            <a:chOff x="0" y="0"/>
            <a:chExt cx="9144000" cy="4952880"/>
          </a:xfrm>
        </p:grpSpPr>
        <p:pic>
          <p:nvPicPr>
            <p:cNvPr id="1018" name="Picture 6" descr="1_1-1-21-312_20031016164011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5029200" cy="49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9" name="Text Box 7"/>
            <p:cNvSpPr/>
            <p:nvPr/>
          </p:nvSpPr>
          <p:spPr>
            <a:xfrm>
              <a:off x="5105520" y="0"/>
              <a:ext cx="4038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2003</a:t>
              </a:r>
              <a:r>
                <a:rPr b="1" lang="zh-CN" sz="2400" spc="-1" strike="noStrike">
                  <a:solidFill>
                    <a:srgbClr val="008000"/>
                  </a:solidFill>
                  <a:latin typeface="Times New Roman"/>
                </a:rPr>
                <a:t>年</a:t>
              </a: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10</a:t>
              </a:r>
              <a:r>
                <a:rPr b="1" lang="zh-CN" sz="2400" spc="-1" strike="noStrike">
                  <a:solidFill>
                    <a:srgbClr val="008000"/>
                  </a:solidFill>
                  <a:latin typeface="Times New Roman"/>
                </a:rPr>
                <a:t>月</a:t>
              </a: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15</a:t>
              </a:r>
              <a:r>
                <a:rPr b="1" lang="zh-CN" sz="2400" spc="-1" strike="noStrike">
                  <a:solidFill>
                    <a:srgbClr val="008000"/>
                  </a:solidFill>
                  <a:latin typeface="Times New Roman"/>
                </a:rPr>
                <a:t>日</a:t>
              </a:r>
              <a:r>
                <a:rPr b="1" lang="zh-CN" sz="2400" spc="-1" strike="noStrike">
                  <a:solidFill>
                    <a:srgbClr val="009900"/>
                  </a:solidFill>
                  <a:latin typeface="Times New Roman"/>
                </a:rPr>
                <a:t>各族人民手持国旗欢聚天安门广场，庆祝中国首次载人飞船“神州五号”顺利升上太空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0000"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3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3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2" name="Group 4"/>
          <p:cNvGrpSpPr/>
          <p:nvPr/>
        </p:nvGrpSpPr>
        <p:grpSpPr>
          <a:xfrm>
            <a:off x="0" y="-4680"/>
            <a:ext cx="9144000" cy="6869160"/>
            <a:chOff x="0" y="-4680"/>
            <a:chExt cx="9144000" cy="6869160"/>
          </a:xfrm>
        </p:grpSpPr>
        <p:pic>
          <p:nvPicPr>
            <p:cNvPr id="1023" name="Picture 5" descr="Img227232552"/>
            <p:cNvPicPr/>
            <p:nvPr/>
          </p:nvPicPr>
          <p:blipFill>
            <a:blip r:embed="rId1"/>
            <a:stretch/>
          </p:blipFill>
          <p:spPr>
            <a:xfrm>
              <a:off x="0" y="-4680"/>
              <a:ext cx="914400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4" name="Text Box 6"/>
            <p:cNvSpPr/>
            <p:nvPr/>
          </p:nvSpPr>
          <p:spPr>
            <a:xfrm>
              <a:off x="914400" y="1440"/>
              <a:ext cx="8229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005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年</a:t>
              </a:r>
              <a:r>
                <a:rPr b="1" lang="en-US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月</a:t>
              </a:r>
              <a:r>
                <a:rPr b="1" lang="en-US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6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日孩子们手举国旗，欢庆神州六号回家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7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28" name="Picture 5" descr="W02008092476290594126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9" name="Text Box 6"/>
            <p:cNvSpPr/>
            <p:nvPr/>
          </p:nvSpPr>
          <p:spPr>
            <a:xfrm>
              <a:off x="0" y="228600"/>
              <a:ext cx="883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008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年</a:t>
              </a:r>
              <a:r>
                <a:rPr b="1" lang="en-US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9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月</a:t>
              </a:r>
              <a:r>
                <a:rPr b="1" lang="en-US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日，神舟七号载人航天飞行任务航天员在国旗前与记者见面 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7000"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5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0" name="Group 2"/>
          <p:cNvGrpSpPr/>
          <p:nvPr/>
        </p:nvGrpSpPr>
        <p:grpSpPr>
          <a:xfrm>
            <a:off x="0" y="0"/>
            <a:ext cx="9144000" cy="6114960"/>
            <a:chOff x="0" y="0"/>
            <a:chExt cx="9144000" cy="6114960"/>
          </a:xfrm>
        </p:grpSpPr>
        <p:pic>
          <p:nvPicPr>
            <p:cNvPr id="1031" name="Picture 3" descr="光荣属于五星红旗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5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Text Box 4"/>
            <p:cNvSpPr/>
            <p:nvPr/>
          </p:nvSpPr>
          <p:spPr>
            <a:xfrm>
              <a:off x="0" y="5472360"/>
              <a:ext cx="876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000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年，</a:t>
              </a: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008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年奥运申办成功，人民手持国旗，涌上街头欢呼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3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>第一PPT模板网-WWW.1PPT.COM
</dc:description>
  <cp:keywords>第一PPT模板网-WWW.1PPT.COM</cp:keywords>
  <dc:language>en-US</dc:language>
  <cp:lastModifiedBy>admin</cp:lastModifiedBy>
  <dcterms:modified xsi:type="dcterms:W3CDTF">2015-01-28T01:27:26Z</dcterms:modified>
  <cp:revision>15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  <property fmtid="{D5CDD505-2E9C-101B-9397-08002B2CF9AE}" pid="3" name="Version">
    <vt:r8>1</vt:r8>
  </property>
</Properties>
</file>