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FD4-B693-49B5-838E-C08736ED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E78-C156-4327-8E29-DEBB7BF5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E1E-3AAF-4174-89BA-AABFFBA3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225-B4C4-4E49-83C8-BADDCDC0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A0C-85B9-410E-A37F-875A28C6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74F-7AED-4942-8DE3-9078F569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08D-508D-46F8-96AC-55969DC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F47-C783-4057-BC83-BCDB93AE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D66-B751-4D62-8EC0-7305444C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7E5-3EBC-4E59-B6FB-178F2049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57A-DA7E-4E2F-824A-27127D0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88A-C7B5-4AF1-83D9-E8F857FD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90E0-E7B2-439E-9E9F-331590CA7FEA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195640" cy="10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9280" y="11592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口语交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63640" y="1700280"/>
            <a:ext cx="59770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丰富多彩的世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50920" y="260280"/>
            <a:ext cx="23288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德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美国</a:t>
            </a:r>
            <a:br>
              <a:rPr sz="3200"/>
            </a:b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若非亲朋好友，美国人一般不会主动与对方亲吻、拥抱。正式场合，握手致意。非正式场合见面，礼节比较随意，往往以点头、微笑为礼，或者只是向对方“嗨”上一声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2484360" cy="141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260280"/>
            <a:ext cx="23414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见面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俄罗斯</a:t>
            </a:r>
            <a:br>
              <a:rPr sz="3200"/>
            </a:b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和初次见面的人一般行握手礼，熟悉的人大多会热情拥抱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2484360" cy="141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260280"/>
            <a:ext cx="23414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见面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日本</a:t>
            </a:r>
            <a:br>
              <a:rPr sz="3200"/>
            </a:b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正式社交活动要鞠躬，两手放在膝上，并且频频弯腰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约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度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；日常使用的鞠躬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(15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度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，两手垂在身旁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2484360" cy="141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260280"/>
            <a:ext cx="23414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见面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马来西亚</a:t>
            </a:r>
            <a:br>
              <a:rPr sz="3200"/>
            </a:b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见面时，男子一般是一面举起右手放在胸前，一面深鞠躬；女子一般是先双腿稍微弯曲，然后鞠躬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2484360" cy="141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260280"/>
            <a:ext cx="23414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见面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韩国</a:t>
            </a:r>
            <a:br>
              <a:rPr sz="3200"/>
            </a:b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韩国人见面时也行鞠躬礼，不过男子既可鞠躬，也可握手，而妇女一般只鞠躬或点头示意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2484360" cy="141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260280"/>
            <a:ext cx="23414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见面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东南亚</a:t>
            </a:r>
            <a:br>
              <a:rPr sz="3200"/>
            </a:b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双手合十礼盛行于印度、泰国、柬埔寨、缅甸、斯里兰卡、尼泊尔以及东南亚国家、人们见面时，通常把双手手掌对合于胸前，十指并拢，并微微弯腰顿首以此表示敬意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2484360" cy="141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260280"/>
            <a:ext cx="23414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8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见面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讲的同学要讲清楚，让别人听明白；听的同学要认真听，可以提问，也可以补充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2484360" cy="141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333360"/>
            <a:ext cx="23241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5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交际要求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0"/>
            <a:ext cx="2521080" cy="119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260280"/>
            <a:ext cx="1800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习作提示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写最想写的，内容要具体，把句子写通顺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2411280" cy="1341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0"/>
            <a:ext cx="2286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0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习作要求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108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84360" cy="145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87640" y="5300640"/>
            <a:ext cx="468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奥运五环旗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内容写具体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如写事情的要仔细看清楚事情的经过和前因后果；如写景物的，要理清顺序；如写人物的，要想想为什么喜欢或不喜欢他（她）？……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2627280" cy="1484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89000"/>
            <a:ext cx="22860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温馨寄语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                           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桃花开了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 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春寒料峭，那在视野中飘浮着的一团团白色的云，粉色的霞，燃烧的火，呀，桃花开了！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那一棵棵桃树像一个个花枝招展的少女，站在小区、公园、道路两旁、细河沿岸……为人们送来了一个鸟语花香的春天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棕色的树干，在春风中展示它壮美与挺拔。桃花绽开了笑颜，白里透着粉，粉里透着白，好似少女羞涩的脸庞，看了令人陶醉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粉白相间的桃花多美啊！花瓣如同粉嫩的小脸，它洋溢着幸福，被人们亲切地称为“幸福花”，这是人间少有的春色。花蕊似一束束丝线，每一根上都带着黄色的小帽子，看它多会打扮自己呀。那花蕊还像绽开的小礼花，好多蝴蝶、蜜蜂在其间翩翩起舞，呼朋引伴地采集着花粉，它们忙碌着、飞舞着……在酿造一个甜美的春天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你若是踮起脚，闻一闻桃花，那浓郁的清香沁人心脾，令人陶醉，让你留恋忘返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啊！多美的桃花呀！你是我最美好的回忆。你装点了春天，春天是一个多么迷人的季节啊！看着、闻着，不由得想起我就好似桃花，在祖国母亲地浇灌下成长、盛开……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-17136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2852640"/>
            <a:ext cx="46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3120" y="3284640"/>
            <a:ext cx="556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58920" y="357336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171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                       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耀眼的“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99”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分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 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上课的铃声刚刚响过，我的心一下子提到了嗓子眼儿，同学们也立刻安静了下来，只能听到时钟“滴答、滴答”的声音，紧张的气氛顿时弥漫了整间教室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老师终于来了，她手中拿着一撂试卷，微微一笑，说：“这次数学测试大家的成绩都不错……”同学们这才舒了一口气，可这些对我一点作用也没有，只盼着老师快点公布成绩，妈妈答应我，如果这次测验能得一百分，就给我买那块漂亮的“米奇”手表呢！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王明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96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分，白冰……”啊，终于到我了。“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分。”噢，太棒了，一百分！我像小燕子一样轻快的飞到老师跟前取回试卷，蹦蹦跳跳回到座位上，不经意看到了同桌赵小兰的试卷，“呀，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99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分，就差一点，错哪了？”我小声问。她指给我看，这是一道填空题：一块砖大约重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（  ）。“这多简单呀？”小兰笑了笑说：“我知道应该填千克。”我疑惑的瞪大眼睛。“爸爸在工地上每天都要搬很多砖，我希望砖头只重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克，爸爸就不用那么累了，所以我填上了‘克’。”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看着小兰灿烂的笑脸，看着这耀眼的“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99”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分，我也笑了。回到家我要告诉妈妈，那只价值八十九元的手表，我不要了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07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                      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难忘的微笑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春日的星空群星璀璨。一颗颗眨着调皮的眼睛，闪着动人的光彩。也许每个星星都属于自己的故事，我的故事也像这星星一样动人而美丽……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相信每个人都有许许多多的第一次，在无数个第一次的体验中我们渐渐成长，丰盈了翅膀，感受了丰富，获得了自信，找到了生活的方向。我的第一次演讲让我久久难忘……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那是一年前的事了，学校要举行演讲比赛，同学们推荐我参加。为此，我特别精心地准备着，提前三天我就把稿背得滚瓜烂熟了。带着兴奋和一点点的忐忑不安我期待的比赛来临了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下午三点，我准时来到会场，会议室里坐满了老师和同学，紧张也像毒蛇一样撕咬着我的自信。比赛没有因为我的紧张而推迟，前面一个个选手走上讲台在一片礼貌或是赞扬的掌声中结束了演讲。该我了，只听：“三年三班……”我手心全是冷汗，心也跳个不停，不知不觉间腿也发起了抖……走上讲台往下一望，好多人啊！其中第一排还坐着校领导。我不禁脚都打起颤来……：“大家好，我是三年三班的……”此时，我望着台下一个劲地说着，但却是一片茫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3664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然，似乎我在寻找着什么却又不知在找什么。周围没有观众没有声音，只有我在一片升腾起的雾气中……突然，由于过度的紧张忘了词，怎么办？雾气散了，无边的黑暗笼罩了心头，妖魔在五脏六腑里挣扎，头顶不见一丝光亮……一缕阳光般的微笑照亮了我的心房，那么温暖，那么慈爱，那么令人振奋。那笑容里满溢着鼓励信任仿佛在告诉我：“我是最棒的！”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比赛结束了，我的演讲很成功，尽管至今还叫不出那个老师的名字，但我仍记得那抹微笑，阳光一样趋走黑暗带来光明与温暖的微笑！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到现在，我仍不知道微笑的魅力有多大，但我知道，它能点燃每个人心灵深处的那团火焰！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7089840" y="189000"/>
            <a:ext cx="205416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火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58920" y="2133720"/>
            <a:ext cx="5904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9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语文园地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979640" cy="1125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332000" y="1557360"/>
            <a:ext cx="5688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词语百花园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5" name=""/>
          <p:cNvSpPr/>
          <p:nvPr/>
        </p:nvSpPr>
        <p:spPr>
          <a:xfrm>
            <a:off x="720720" y="6092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说说自己发现了什么？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9000"/>
            <a:ext cx="212400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3564000" cy="134136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89000"/>
            <a:ext cx="331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词语百花园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58136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读了这些词语，你发现了这些词语的秘密了吗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3419640" cy="1484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像这样的词语还有那些呢？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89000"/>
            <a:ext cx="331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词语百花园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3284640"/>
            <a:ext cx="6337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事事如意      官官相护     夸夸其谈、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窃窃私语      念念不忘     闷闷不乐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0"/>
            <a:ext cx="1800360" cy="1125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9280" y="11592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口语交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标志象征五大洲和全世界的运动员在奥运会上相聚一堂，充分体现了奥林匹克主义的内容，“所有国家—所有民族”的“奥林匹克大家庭”主题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29973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奥林匹克旗帜五个不同颜色的圆环（天蓝色代表欧洲，黄色代表亚洲，黑色代表非洲，草绿色代表澳洲，红色代表美洲）连接在一起象征五大洲的团结，象征全世界的运动员以公正、坦率的比赛和友好的精神在奥林匹克运动会上友好相见，欢聚一堂，以促进奥林匹克运动的发展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3564000" cy="134136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89000"/>
            <a:ext cx="331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3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词语百花园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458136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读了这些词语，你发现了这些词语的秘密了吗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0"/>
            <a:ext cx="2808360" cy="119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00000" y="1197000"/>
            <a:ext cx="662472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生字娃娃园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3132000" cy="141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2421000"/>
            <a:ext cx="36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2060640"/>
            <a:ext cx="172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止—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直—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代—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分—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29080" y="1413000"/>
            <a:ext cx="18072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95160" y="202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企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23880" y="2747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置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23880" y="357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贷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23880" y="4260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岔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39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060640"/>
            <a:ext cx="1152360" cy="26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郎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丁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力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由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—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2060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廊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2924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厅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63880" y="357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虏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292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届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47242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观察每组生字娃娃的特点，看看你有什么发现？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9280" y="5300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左边是已学过的熟字，右边的字是熟字加偏旁组成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2700360" cy="10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7272360" cy="4314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0" y="0"/>
            <a:ext cx="2484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生字娃娃园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2700360" cy="1268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0" y="0"/>
            <a:ext cx="2484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生字娃娃园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371240" y="2349000"/>
            <a:ext cx="55054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直──植、值、埴、殖。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16360" cy="112536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7432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超级变变身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2050920" cy="1197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619280" y="1773360"/>
            <a:ext cx="5473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古诗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-324000" y="189000"/>
            <a:ext cx="6156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千里送鹅毛，礼轻情意重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唐朝贞观年间，西域回纥国是大唐的藩国，一次，回纥国为了表示对大唐的友好，便派使者缅伯高带了一批珍奇异宝去拜见唐王。在这批贡物中，最珍贵的要数一只罕见的珍禽――白天鹅。 缅伯高最担心的也是这只白天鹅，万一有个三长两短，可怎么向国一交待呢？所以，一路上，他亲自喂水喂食，一刻也不敢怠慢。 这天，缅伯高来到沔阳河边，只见白天鹅伸长脖子，张着嘴巴，吃力地喘息着，缅伯高心中不忍，便打开笼子，把白天鹅带到水边让它喝了个痛快。谁知白天鹅喝足了水，合颈一扇翅膀，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扑喇喇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一声飞上了天！缅伯高向前一扑，只拔下几根羽毛，却没能抓住白天鹅，眼睁睁看着它飞得无影无踪，一时间，缅伯高捧着几根雪白的鹅毛，直愣愣地发呆，脑子里来来回回地想着一个问题：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怎么办？进贡吗？拿什么去见唐太宗呢？回去吗？又怎敢去见回纥国王呢！思前想后，缅伯高决定继续东行，他拿出一块洁白的绸子，不心翼翼地把鹅毛包好，又在绸子上题了一首诗：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天鹅贡唐朝，山重路更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遥。沔阳河失宝，回纥情难抛。上奉唐天子，请罪缅伯高，物轻人意重，千里送鹅毛！“ 缅伯高带着珠宝和鹅毛，披星戴月，不辞劳苦，不久就到了长安。唐太宗接见了缅伯高，缅伯高献上鹅毛。唐太宗看了那首诗，又听了缅伯高的诉说，非但没有怪罪他，反而觉得缅伯高忠诚老实，不辱使命，就重重地赏赐了他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从此，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千里送鹅毛，礼轻情意重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的故事广为流传开来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42920" y="1125360"/>
            <a:ext cx="676764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世界国旗我知道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9000"/>
            <a:ext cx="205092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00360" y="4149720"/>
            <a:ext cx="338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竞猜活动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8000" y="18900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口语交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0"/>
            <a:ext cx="2627280" cy="126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79280" y="189000"/>
            <a:ext cx="18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古诗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450864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自由朗读，你有什么发现？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518148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发现五句古诗的共同特点：都是反映友情的古诗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476360" y="1773360"/>
            <a:ext cx="547200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趣味语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60280"/>
            <a:ext cx="2268360" cy="72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根根支支抽抽扔扔张张人民币；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丝丝缕缕吸吸吐吐口口尼古丁。</a:t>
            </a:r>
            <a:r>
              <a:rPr b="0" lang="zh-CN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30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趣味语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35733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信是人言，本与取信于人，必然言而有信；烟乃火因，常见抽烟起火，应该因此戒烟。 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2987640" cy="1557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62064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333360"/>
            <a:ext cx="311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40320" y="155628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替别人写文章、写信或其他文件，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148428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代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198900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临死前最后写的文字或字画，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00720" y="1989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30880" y="1987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绝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280" y="2513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开始写作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4000" y="24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25653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动笔”，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9840" y="2924280"/>
            <a:ext cx="268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67800" y="3140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开始写作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8160" y="3140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动笔”，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58440" y="3715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文章的开头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38520" y="37152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起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67800" y="4291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自己写的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78160" y="4291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亲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4840" y="494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受人之托而写的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86160" y="4867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嘱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4440" y="551556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多人商量由一人起笔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78160" y="5443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执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9640" y="0"/>
            <a:ext cx="2232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活动：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292720" y="2708280"/>
            <a:ext cx="28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“笔”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2987640" cy="1484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1640" y="619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主要写作的人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7600" y="619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主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91800" y="1195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中途断停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6520" y="1195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搁笔”，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20520" y="1772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练习写作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30520" y="1772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练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53720" y="2348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尝试的写作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62160" y="234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试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20520" y="2851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模仿字画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2851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仿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86080" y="3427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能体现文章和字画韵味处的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22880" y="3427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妙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11840" y="4004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有启迪哲理的语句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240" y="3932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警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26800" y="458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名人的文章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5240" y="4580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名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61560" y="50835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文章改动的地方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95600" y="5083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改笔”，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9640" y="0"/>
            <a:ext cx="2232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活动：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372360" y="1628640"/>
            <a:ext cx="223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“笔”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2987640" cy="1484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09720" y="1556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文中有暗示和能呼应的写法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46520" y="1556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伏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0160" y="2059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与题无关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43240" y="20595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闲笔”，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1440" y="2635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随意写成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6160" y="2635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信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22080" y="3211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有感而作的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14520" y="32119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随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78400" y="3788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词句或笔画不好的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38520" y="3788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败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78400" y="43646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形容不高明的写作为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67240" y="436464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秃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13400" y="5012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文章字画最后的署名叫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8880" y="5012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落笔”；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86240" y="55886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生前未发表的文章字画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14960" y="558864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遗笔”。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9640" y="0"/>
            <a:ext cx="2232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活动：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372360" y="2205000"/>
            <a:ext cx="223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“笔”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2987640" cy="1484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9640" y="0"/>
            <a:ext cx="22320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活动：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1" name=""/>
          <p:cNvSpPr/>
          <p:nvPr/>
        </p:nvSpPr>
        <p:spPr>
          <a:xfrm>
            <a:off x="3491640" y="835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和蔼可亲的笑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45120" y="83556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微笑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96200" y="1556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心里充满痛苦的笑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19480" y="155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苦笑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22080" y="2132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最热闹的笑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56920" y="2132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哄堂大笑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99800" y="278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好看的笑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27560" y="27072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嫣然一笑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62920" y="3283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阴险狡诈的笑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09280" y="31993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奸笑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53040" y="4004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别人不轻易察觉的笑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31640" y="4004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偷笑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3160" y="458028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在一边冷眼观看恶意的笑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40200" y="4580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冷笑。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40160" y="52282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控制不住高兴的心情的笑是──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88080" y="52282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哈哈大笑。</a:t>
            </a:r>
            <a:r>
              <a:rPr b="1" lang="zh-CN" sz="2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72360" y="2276640"/>
            <a:ext cx="23446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“笑”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692360" y="1557360"/>
            <a:ext cx="5041800" cy="29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收获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89000"/>
            <a:ext cx="219564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556000" y="18900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加拿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276720" y="333360"/>
            <a:ext cx="254448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美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692360" y="0"/>
            <a:ext cx="225720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英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788000" y="0"/>
            <a:ext cx="21859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法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076720" y="0"/>
            <a:ext cx="2905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日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2:55:00Z</dcterms:created>
  <dc:creator>fqun</dc:creator>
  <dc:description/>
  <dc:language>en-US</dc:language>
  <cp:lastModifiedBy>微软用户</cp:lastModifiedBy>
  <dcterms:modified xsi:type="dcterms:W3CDTF">2011-05-15T02:25:57Z</dcterms:modified>
  <cp:revision>155</cp:revision>
  <dc:subject/>
  <dc:title>PowerPoint 演示文稿</dc:title>
</cp:coreProperties>
</file>