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CE9-FC0B-43F4-A5C4-5DDE323C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F08-D4E2-4A1D-A213-C3D84547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3F1-2775-45F6-8658-F9783E3E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50D-46A0-40BF-AC3D-9C370840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056-5A49-4DDE-A1C2-F7F6E254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898-EEED-49F6-9F12-47E844E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24B-6F2E-4C78-8230-E6DA677B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F12-3385-4D13-B294-1E8D3F8F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A95-CFB5-48DC-8B44-848F4476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442-66D7-418B-A69F-6D6F39C3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43B-9D14-4922-AE70-90FACAC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5A1-36DB-4B25-BD53-7683A98D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6D2E-CC04-4C0B-B68C-D535684660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1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325080" cy="723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0464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</a:rPr>
              <a:t>小狮子爱尔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99120" y="5877000"/>
            <a:ext cx="354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62784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东坡下载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ww.uzzf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小狮子爱尔莎出生才两三天，我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喂它牛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五个月以后，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一刻也不离开我，晚上和我一起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到河里洗澡时，它故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扑腾起浪花，跟我开玩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犀牛向我扑来时，爱尔莎勇敢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和它搏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快两岁了，我训练爱尔莎，把它送回大自然，当它饿着肚子回来时，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又高兴又难过地接待了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：爱尔莎发高烧了，我给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：喂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549360"/>
            <a:ext cx="79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2349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333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1341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33577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4797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58770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76360" y="170028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最后分别的时候，我感到莫大的痛苦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4365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●         ●       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734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●      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草原中的狮子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709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6920" y="2852640"/>
            <a:ext cx="73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爱尔莎，祝你平安幸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98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69228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19480" y="177804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773360"/>
            <a:ext cx="40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拓展延伸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2565360"/>
            <a:ext cx="7272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展开想象，说说爱尔莎回到大自然以后的情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你还知道哪些人与动物和谐相处的有趣故事？跟同学们交流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11280" y="35002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03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68360" y="1484280"/>
            <a:ext cx="41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阅读提示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421000"/>
            <a:ext cx="77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课文读通读顺，朗读时注意读准带有拼音的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是一只怎样的小狮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找出“我”和爱尔莎感情深厚的句子，并在句子的旁边写出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35280" y="1700280"/>
            <a:ext cx="68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能准确地读出下列词语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269712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粗 糙    薄 膜     扑 腾     吮 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耷 拉     宽 恕   撒 娇    犀 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肝油    和睦相处   恋恋不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24240" y="3213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67160" y="4437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95880" y="5661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549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只怎样的小狮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9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爱尔莎耷拉着脑袋，一声不响，垂头丧气地蹲在地上，好像求我宽恕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5113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155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●    ●    ●    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6000" y="1773360"/>
            <a:ext cx="7129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又高兴又难过地接待了它， 就像我嫁出去的女儿遇到不幸回到家里来一样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85264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●       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85264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●       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76360" y="1773360"/>
            <a:ext cx="662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自己也忘记了我是个人，爱尔莎是只狮子了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492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162864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最后分别的时候，我感到莫大的痛苦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19280" y="4365720"/>
            <a:ext cx="6048360" cy="1736640"/>
            <a:chOff x="1619280" y="4365720"/>
            <a:chExt cx="6048360" cy="1736640"/>
          </a:xfrm>
        </p:grpSpPr>
        <p:sp>
          <p:nvSpPr>
            <p:cNvPr id="83" name=""/>
            <p:cNvSpPr/>
            <p:nvPr/>
          </p:nvSpPr>
          <p:spPr>
            <a:xfrm>
              <a:off x="5292720" y="43657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●         ●        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19280" y="57340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●       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3:06:28Z</dcterms:created>
  <dc:creator>wutian</dc:creator>
  <dc:description/>
  <dc:language>en-US</dc:language>
  <cp:lastModifiedBy>admin</cp:lastModifiedBy>
  <dcterms:modified xsi:type="dcterms:W3CDTF">2015-01-28T06:11:39Z</dcterms:modified>
  <cp:revision>52</cp:revision>
  <dc:subject/>
  <dc:title>小狮子艾尔莎</dc:title>
</cp:coreProperties>
</file>