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8.jpeg" ContentType="image/jpeg"/>
  <Override PartName="/ppt/media/image11.png" ContentType="image/png"/>
  <Override PartName="/ppt/media/image7.jpeg" ContentType="image/jpeg"/>
  <Override PartName="/ppt/media/type.wav" ContentType="audio/x-wav"/>
  <Override PartName="/ppt/media/image15.png" ContentType="image/png"/>
  <Override PartName="/ppt/media/image5.jpeg" ContentType="image/jpeg"/>
  <Override PartName="/ppt/media/image6.gif" ContentType="image/gif"/>
  <Override PartName="/ppt/media/image14.jpeg" ContentType="image/jpeg"/>
  <Override PartName="/ppt/media/image2.png" ContentType="image/png"/>
  <Override PartName="/ppt/media/image9.jpeg" ContentType="image/jpeg"/>
  <Override PartName="/ppt/media/image16.jpeg" ContentType="image/jpeg"/>
  <Override PartName="/ppt/media/image13.gif" ContentType="image/gif"/>
  <Override PartName="/ppt/media/image1.gif" ContentType="image/gif"/>
  <Override PartName="/ppt/media/image10.png" ContentType="image/png"/>
  <Override PartName="/ppt/media/image3.gif" ContentType="image/gif"/>
  <Override PartName="/ppt/media/image12.png" ContentType="image/pn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0257-C5D8-4986-8BFE-85A3DA9E3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AA33-68C7-4180-9002-4779FD79A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59E6-1794-4AD9-9BF5-6A8F8BBC6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AAFD-5972-449B-B73E-C91EA5B01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A6AB-C1FD-47B4-B269-09426081E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49CF-32FA-404B-BC13-431555835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1AA4-7182-46BC-8E7B-829968174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DAD1-85D8-426D-8CAC-D97240C2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79D48-86DB-4BA2-A1F4-7AB1B498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B596E-43B9-4479-A3C5-F92BC42B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69ACB-53A7-401A-8492-9A280F61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D8935-5E08-4E86-BDCD-1C207D8D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5B6D9-E180-482B-9BFF-682460FE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3AB3A-91EF-49B0-82AE-75A63735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0F10E-0FB9-4EC0-B4E9-E2C6C465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25F92-7AD2-4098-90C4-166EBB46E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A1AA0-B407-4FA3-A4DA-6F5F2825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402ED2-F563-4E7B-A510-4F2C2F5D4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DB3F-B980-4D18-8313-7197B3EA1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D649D7-4294-4383-865E-FB9BDB80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2353E1-7EBD-49C8-A39C-B1D8D3D7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59B058-D6F3-4305-AA52-0501A455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ED523-2D2D-4C71-BB74-6AFE38F7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F481BA-9BC7-4053-A7BE-821488DB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0D24C-87C1-4F8F-9E61-78C508FD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C52EC-5ABF-4AFB-AA3D-2590BD28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029D2-7463-47F1-99AF-8D582686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6B050B-2192-45B9-A467-08090ED1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D37B9-6EF8-48E9-86DD-DDECDB303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3B19-4E04-4941-88B2-F0C6628CB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1C9290-13B7-49D1-A39C-E9DD29E3C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3763F-94AF-432A-9180-81C793F10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C2592-07D7-410C-B497-5FAF7D77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623EC-A449-4D63-A7ED-20BE837D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8EA83-3E4D-4E73-9AA6-5DC05B69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D50CC-C245-4BFE-9737-DEE7C20C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64C64-0A47-4080-9670-EC9CE38A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4A5DC-53B0-4770-B306-F287659E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073C1-32B6-4133-820D-C222A4FF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61AB5-BB20-4F2D-9DAA-2C7F1B65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53EE-DA86-41AC-88D1-73FA677A8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4B82F-757D-41CD-BFCA-D6F6ABA1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04F3B-09A9-4B8D-B8D0-39872481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0E656-D7DB-437E-890B-3270BCC07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46ED1B-A4F7-4275-80A7-E5450275F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A61F00-8340-4D83-9BC5-F3AA0659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1083A3-6AE0-4BD4-B6BB-3B0ACB08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BF4EC6-61FA-40DC-A053-95C4C632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72226-6C3A-419D-A34B-46F7E94C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E05F6-AF86-40D2-9AD6-4200050F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21B871-C0BE-4F22-8F51-5BBF08E5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AC12-7E16-49EF-881D-7AC30523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2DC11E-2E7F-4ED2-8FAA-862B4D77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5F837C-9059-49B3-8D07-4F008E74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3D55DB-DEA7-4798-A148-81AF29E2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4C0D89-D439-4B3D-86EA-550A0566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F5D86E-DE28-4413-98C2-D967D91D4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3E72D8-A84D-4FB0-AA6F-B754108C4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AA6F96-9988-4E53-B702-388D20A0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A85E96-FE86-40D0-A52A-6DDCB112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0679DE-9DC6-4852-8938-41F588FB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ED8785-17A6-4360-9172-7C65EFFB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D212F-2820-4239-9DB3-90127C30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9DD338-F0B1-49B9-AC5F-546EAE3A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72A53E-32E6-4AF0-A5C8-66D2E6FE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C4E840-A8EB-4513-96F9-6FDC0BF4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83039E-7D2F-43AB-A814-0B1E433A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2E51F2-9324-4DB9-9A4C-59C89515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B8620B-B60C-4ED6-BEDB-023A9235B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3DAD88-4340-4002-BCFD-40E9EEC3B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AD16-3823-4D2B-BFB7-6CBA8081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1E35-1520-475E-82BC-6211DB61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585E-5461-46BA-B0E7-4F111B3B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51EB-B323-4D40-A3B5-23B3EE6C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8115-7D45-41A0-9AC3-B3C9F7AA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27F5-5820-43D8-AFA3-30F122C6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EC5C-5B23-4261-9D9B-7DB75112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58D9-08CF-485E-84F4-BEDBE6AB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10FB-5264-445C-B628-F4BC63F35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16BB-C1D0-45B2-8ACC-E4B9B9987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DC1EB-BA41-42BC-BDA5-C8D02C8EC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45043-BDF4-4C28-B6AB-397E3941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33971-AF5E-41A4-BE23-F2783C95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571B3-85CD-4A0F-A813-1FC0A6A4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2C51C-5526-4897-A7C2-C9E4C2D1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A97D-CE79-4F7D-9D23-554971F0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6554E-E6CA-43E0-B7AB-CE2E04D0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173A1-A84F-4E68-BD28-81285485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99F21-9771-41B3-BB38-08027793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A3BFB-07AE-4B0D-8BB0-653DC707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1DA2D-978C-42D2-8464-526AACA8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FE598-D12B-4AA1-BBBC-A07B60FA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45152-77EB-4D90-AA30-31944B237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2C850-C287-45A5-8599-6E1814526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8FF57-B5F1-4337-870E-1844F5BF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53F75-FA33-4726-A22A-9E19625C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D589-3DED-4FB9-82BC-CDFC0052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6E9F7-2ADC-4433-935F-E4406972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6530E-F084-4263-926A-DF568EA9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14BDA-5C6E-42C1-963B-A5FAA652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BC54D-3B34-496D-A1AB-4C3D4F94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A0894-87EF-4C83-A429-E15D8857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D28A0-8ACA-4233-A0EA-1E39A314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80409-873A-4B1E-8DEC-23C15817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4618E-7FA8-4991-A1AB-E6E7EA95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67483-0684-4E2F-BDB5-18FE9A9C0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B01E9-8812-4D78-94F3-59E99C653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F912-BE23-4014-B386-6E74A59F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02393-CD9B-4233-B7C9-0EE7DB98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70E36-233B-4C0D-8152-76879DC5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A20EE-FE3C-4140-BE3B-DA6BB005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F57D8-B1CB-4544-909D-865EEBD5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2D629-9D95-4C06-B509-329DA00D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3C5B2-5045-4B8B-98D4-F555844D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B7C15-E59C-4CB1-97F9-E8777770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E17A8-C8F2-4C2C-AB20-304CE747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A95EB-40AE-486B-8B8F-45590097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2FB53-B672-40C7-B6A7-B310A0799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F50D-8BA9-4AA0-9A6F-7C6BBCEE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D5D05-B0D2-4AC3-8150-B219C471D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F634B-67FB-4805-AAD1-4E976C773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BBF24-9FFB-4268-B563-95BA80A9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09D7B-73CE-4BC3-9569-23C20D2A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76505-6C1A-48FF-82E7-0DB3A600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DB7CB-6FBA-4248-ACF5-2C60CF6C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5AE5E-F206-42EA-B3D9-9AA5FEB5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554D8-6C3C-4122-96B2-B912A1F9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86481-B8A4-4CBF-8462-A5A5FCC7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9091B-BDE8-4449-8D50-140BFE2A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E286-9A69-4FD0-8C6C-23D136D8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FC97D-31B5-4E9F-87AF-46D81FD7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54E1B-E885-4C23-82CC-C6FD5065B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43B34-D5EF-45BE-A5A0-734A3AAC5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2242B-7D80-4EE1-9060-4D9EF9BA8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F95F9-92F8-4900-B8A8-1056403F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48E49-3E1F-4CD2-ADB6-06FBD880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A6470-0B53-488B-B187-430FBC85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25DA9-3B1C-492E-A84C-F00EC647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478D1-602F-447D-BE78-60161D0F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4524E-D382-435A-8FAB-EE395C60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EDE1-6550-4E27-BE69-35DCB735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2D325-0E32-44B2-A99A-454DFFDB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98405-BF0F-4747-B88E-72E63C2D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CB3EE-FFFE-4AD0-B037-208183FB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C7D12-AFE6-40D8-AB8F-F3D5C39AD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AF07B-D66D-4722-845B-3EE15EC8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852A1-2CE0-4C52-9304-450CFE7FB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2FCE4-4090-4452-8FB8-358622E4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CACC9-801D-4180-834E-B99D112F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21466-DAB7-4E19-B248-FC737BAA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9EDA0-1CB5-404F-BF4F-FE6EDC04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DF4E-E8D4-465A-8B98-DB65231F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91D1F-C852-4897-9CB2-85B889A6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829A6-7B5F-46FB-B07E-B1A618A3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54074-9FFD-4683-B6E8-34661DE2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11D14-231B-4F1E-8676-2C5380BD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A2754-E637-43BB-A349-61EA6442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B9AF3-7AB3-493D-88B2-BC209EA63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F3161-78ED-469A-87D5-868A89020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28CF7-00F3-456D-8600-5D64206C4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0C3D4-3C58-4D03-A767-C02A69B4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5F1D9-5690-448E-85ED-40138908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00E8-34DF-4B44-A9CD-1CABDF7CF7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5C9C-91C6-4080-B93D-6C20D728086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FEAF-4852-425F-BD82-6C3338CFFC4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E1A8-6749-4FDD-B4D8-F9F6BA46D1E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A114-5E6D-4310-AC80-4B9A1F9BB37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4E9A-F473-43A7-9FBB-7ADFF424131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9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F0D4-AB51-42EC-8463-BA9BE45C55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69C7-110E-4D90-A137-5E72FA82760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B0ED-2870-444B-AC5B-BEB2BDF4E58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45C8-0733-42D9-867E-35EB26B60AA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FCED-E412-436C-ACD3-DB2BCD4F97B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E5A4-CEA7-4C5D-937E-50D0CECB6FE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DF8E-8B6E-43A1-9DCB-E6449E9408E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7beaed3516f1bdacd1a2d35a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  <p:pic>
        <p:nvPicPr>
          <p:cNvPr id="554" name="WordArt 4" descr=""/>
          <p:cNvPicPr/>
          <p:nvPr/>
        </p:nvPicPr>
        <p:blipFill>
          <a:blip r:embed="rId2"/>
          <a:stretch/>
        </p:blipFill>
        <p:spPr>
          <a:xfrm>
            <a:off x="414360" y="476280"/>
            <a:ext cx="8242200" cy="230976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5"/>
          <p:cNvSpPr/>
          <p:nvPr/>
        </p:nvSpPr>
        <p:spPr>
          <a:xfrm>
            <a:off x="2030400" y="31431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寓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寄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6"/>
          <p:cNvSpPr/>
          <p:nvPr/>
        </p:nvSpPr>
        <p:spPr>
          <a:xfrm>
            <a:off x="4941000" y="3141720"/>
            <a:ext cx="17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讲道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771480" y="4057560"/>
            <a:ext cx="802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寓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用短小的故事说明一个道理或讽刺某些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75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5"/>
          <p:cNvSpPr/>
          <p:nvPr/>
        </p:nvSpPr>
        <p:spPr>
          <a:xfrm>
            <a:off x="684360" y="198900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因为羊圈破了个窟窿，夜里狼从窟窿钻进去叼走了羊，所以羊少了一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1"/>
          <p:cNvPicPr/>
          <p:nvPr/>
        </p:nvPicPr>
        <p:blipFill>
          <a:blip r:embed="rId1"/>
          <a:stretch/>
        </p:blipFill>
        <p:spPr>
          <a:xfrm>
            <a:off x="-541440" y="0"/>
            <a:ext cx="1065852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 Box 4"/>
          <p:cNvSpPr/>
          <p:nvPr/>
        </p:nvSpPr>
        <p:spPr>
          <a:xfrm>
            <a:off x="755640" y="333360"/>
            <a:ext cx="86425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赶快把羊圈修一修，堵上那个窟窿吧。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9d8ec"/>
                </a:solidFill>
                <a:latin typeface="Arial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d9d8ec"/>
                </a:solidFill>
                <a:latin typeface="Arial"/>
                <a:ea typeface="楷体_GB2312"/>
              </a:rPr>
              <a:t>羊已经丢了，还修羊圈干什么呢？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5"/>
          <p:cNvSpPr/>
          <p:nvPr/>
        </p:nvSpPr>
        <p:spPr>
          <a:xfrm>
            <a:off x="501480" y="4653000"/>
            <a:ext cx="864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羊已经丢了，不用修羊圈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6"/>
          <p:cNvSpPr/>
          <p:nvPr/>
        </p:nvSpPr>
        <p:spPr>
          <a:xfrm>
            <a:off x="-605520" y="2637000"/>
            <a:ext cx="13993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换个说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2" descr="2"/>
          <p:cNvPicPr/>
          <p:nvPr/>
        </p:nvPicPr>
        <p:blipFill>
          <a:blip r:embed="rId1"/>
          <a:stretch/>
        </p:blipFill>
        <p:spPr>
          <a:xfrm>
            <a:off x="-900000" y="0"/>
            <a:ext cx="9648720" cy="547056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" descr="场景060912"/>
          <p:cNvPicPr/>
          <p:nvPr/>
        </p:nvPicPr>
        <p:blipFill>
          <a:blip r:embed="rId2"/>
          <a:stretch/>
        </p:blipFill>
        <p:spPr>
          <a:xfrm>
            <a:off x="5364000" y="4581360"/>
            <a:ext cx="3562560" cy="20671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4" descr="场景06095"/>
          <p:cNvPicPr/>
          <p:nvPr/>
        </p:nvPicPr>
        <p:blipFill>
          <a:blip r:embed="rId3"/>
          <a:stretch/>
        </p:blipFill>
        <p:spPr>
          <a:xfrm>
            <a:off x="3780000" y="4305240"/>
            <a:ext cx="22762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11" descr="场景060912"/>
          <p:cNvPicPr/>
          <p:nvPr/>
        </p:nvPicPr>
        <p:blipFill>
          <a:blip r:embed="rId1"/>
          <a:stretch/>
        </p:blipFill>
        <p:spPr>
          <a:xfrm>
            <a:off x="2627280" y="3500280"/>
            <a:ext cx="3562560" cy="2067120"/>
          </a:xfrm>
          <a:prstGeom prst="rect">
            <a:avLst/>
          </a:prstGeom>
          <a:ln w="0">
            <a:noFill/>
          </a:ln>
        </p:spPr>
      </p:pic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次丢羊后，养羊人又是怎么想、怎么做的？自由读第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，划出相关的句子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4" descr="场景06093"/>
          <p:cNvPicPr/>
          <p:nvPr/>
        </p:nvPicPr>
        <p:blipFill>
          <a:blip r:embed="rId2"/>
          <a:stretch/>
        </p:blipFill>
        <p:spPr>
          <a:xfrm>
            <a:off x="6156360" y="1700280"/>
            <a:ext cx="2184480" cy="14256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10" descr="场景06095"/>
          <p:cNvPicPr/>
          <p:nvPr/>
        </p:nvPicPr>
        <p:blipFill>
          <a:blip r:embed="rId3"/>
          <a:stretch/>
        </p:blipFill>
        <p:spPr>
          <a:xfrm>
            <a:off x="1042920" y="2565360"/>
            <a:ext cx="227664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0" dur="2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2" descr="2"/>
          <p:cNvPicPr/>
          <p:nvPr/>
        </p:nvPicPr>
        <p:blipFill>
          <a:blip r:embed="rId1"/>
          <a:stretch/>
        </p:blipFill>
        <p:spPr>
          <a:xfrm>
            <a:off x="-900000" y="0"/>
            <a:ext cx="9648720" cy="54705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3" descr="场景060912"/>
          <p:cNvPicPr/>
          <p:nvPr/>
        </p:nvPicPr>
        <p:blipFill>
          <a:blip r:embed="rId2"/>
          <a:stretch/>
        </p:blipFill>
        <p:spPr>
          <a:xfrm>
            <a:off x="5364000" y="4581360"/>
            <a:ext cx="3562560" cy="206712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4" descr="场景06095"/>
          <p:cNvPicPr/>
          <p:nvPr/>
        </p:nvPicPr>
        <p:blipFill>
          <a:blip r:embed="rId3"/>
          <a:stretch/>
        </p:blipFill>
        <p:spPr>
          <a:xfrm>
            <a:off x="3780000" y="4305240"/>
            <a:ext cx="2276280" cy="2552760"/>
          </a:xfrm>
          <a:prstGeom prst="rect">
            <a:avLst/>
          </a:prstGeom>
          <a:ln w="0">
            <a:noFill/>
          </a:ln>
        </p:spPr>
      </p:pic>
      <p:sp>
        <p:nvSpPr>
          <p:cNvPr id="626" name="Line 5"/>
          <p:cNvSpPr/>
          <p:nvPr/>
        </p:nvSpPr>
        <p:spPr>
          <a:xfrm>
            <a:off x="826920" y="3141720"/>
            <a:ext cx="68407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6"/>
          <p:cNvSpPr/>
          <p:nvPr/>
        </p:nvSpPr>
        <p:spPr>
          <a:xfrm>
            <a:off x="0" y="3716280"/>
            <a:ext cx="7667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7"/>
          <p:cNvSpPr/>
          <p:nvPr/>
        </p:nvSpPr>
        <p:spPr>
          <a:xfrm>
            <a:off x="0" y="4365720"/>
            <a:ext cx="2268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4" descr="2"/>
          <p:cNvPicPr/>
          <p:nvPr/>
        </p:nvPicPr>
        <p:blipFill>
          <a:blip r:embed="rId1"/>
          <a:stretch/>
        </p:blipFill>
        <p:spPr>
          <a:xfrm>
            <a:off x="-900000" y="0"/>
            <a:ext cx="9648720" cy="547056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5" descr="场景060912"/>
          <p:cNvPicPr/>
          <p:nvPr/>
        </p:nvPicPr>
        <p:blipFill>
          <a:blip r:embed="rId2"/>
          <a:stretch/>
        </p:blipFill>
        <p:spPr>
          <a:xfrm>
            <a:off x="5364000" y="4581360"/>
            <a:ext cx="3562560" cy="206712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6" descr="场景06095"/>
          <p:cNvPicPr/>
          <p:nvPr/>
        </p:nvPicPr>
        <p:blipFill>
          <a:blip r:embed="rId3"/>
          <a:stretch/>
        </p:blipFill>
        <p:spPr>
          <a:xfrm>
            <a:off x="3780000" y="4305240"/>
            <a:ext cx="2276280" cy="2552760"/>
          </a:xfrm>
          <a:prstGeom prst="rect">
            <a:avLst/>
          </a:prstGeom>
          <a:ln w="0">
            <a:noFill/>
          </a:ln>
        </p:spPr>
      </p:pic>
      <p:sp>
        <p:nvSpPr>
          <p:cNvPr id="632" name="AutoShape 12"/>
          <p:cNvSpPr/>
          <p:nvPr/>
        </p:nvSpPr>
        <p:spPr>
          <a:xfrm>
            <a:off x="5796000" y="1844640"/>
            <a:ext cx="144360" cy="1443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13"/>
          <p:cNvSpPr/>
          <p:nvPr/>
        </p:nvSpPr>
        <p:spPr>
          <a:xfrm>
            <a:off x="1258920" y="2421000"/>
            <a:ext cx="144360" cy="1443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AutoShape 14"/>
          <p:cNvSpPr/>
          <p:nvPr/>
        </p:nvSpPr>
        <p:spPr>
          <a:xfrm>
            <a:off x="1692360" y="3068640"/>
            <a:ext cx="144360" cy="1443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15"/>
          <p:cNvSpPr/>
          <p:nvPr/>
        </p:nvSpPr>
        <p:spPr>
          <a:xfrm>
            <a:off x="2050920" y="3068640"/>
            <a:ext cx="144720" cy="1443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16"/>
          <p:cNvSpPr/>
          <p:nvPr/>
        </p:nvSpPr>
        <p:spPr>
          <a:xfrm>
            <a:off x="3924360" y="3068640"/>
            <a:ext cx="144360" cy="1443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17"/>
          <p:cNvSpPr/>
          <p:nvPr/>
        </p:nvSpPr>
        <p:spPr>
          <a:xfrm>
            <a:off x="4284720" y="3068640"/>
            <a:ext cx="144360" cy="1443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19"/>
          <p:cNvSpPr/>
          <p:nvPr/>
        </p:nvSpPr>
        <p:spPr>
          <a:xfrm>
            <a:off x="3059280" y="3716280"/>
            <a:ext cx="144360" cy="1443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utoShape 20"/>
          <p:cNvSpPr/>
          <p:nvPr/>
        </p:nvSpPr>
        <p:spPr>
          <a:xfrm>
            <a:off x="3492360" y="3716280"/>
            <a:ext cx="144720" cy="1443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21"/>
          <p:cNvSpPr/>
          <p:nvPr/>
        </p:nvSpPr>
        <p:spPr>
          <a:xfrm>
            <a:off x="5076720" y="4292640"/>
            <a:ext cx="144720" cy="1443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22"/>
          <p:cNvSpPr/>
          <p:nvPr/>
        </p:nvSpPr>
        <p:spPr>
          <a:xfrm>
            <a:off x="5435640" y="4292640"/>
            <a:ext cx="144360" cy="1443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8" descr="29e76e8c13d46208b21bbac0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4"/>
          <p:cNvSpPr/>
          <p:nvPr/>
        </p:nvSpPr>
        <p:spPr>
          <a:xfrm>
            <a:off x="179280" y="1700280"/>
            <a:ext cx="878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他很后悔，不该不接受街坊的劝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5"/>
          <p:cNvSpPr/>
          <p:nvPr/>
        </p:nvSpPr>
        <p:spPr>
          <a:xfrm>
            <a:off x="108000" y="4292640"/>
            <a:ext cx="86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他很后悔，应该接受街坊的劝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6"/>
          <p:cNvSpPr/>
          <p:nvPr/>
        </p:nvSpPr>
        <p:spPr>
          <a:xfrm>
            <a:off x="2268360" y="260280"/>
            <a:ext cx="47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换个说法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7" descr="3db9127e36b840240dd7da64"/>
          <p:cNvPicPr/>
          <p:nvPr/>
        </p:nvPicPr>
        <p:blipFill>
          <a:blip r:embed="rId1"/>
          <a:stretch/>
        </p:blipFill>
        <p:spPr>
          <a:xfrm>
            <a:off x="0" y="-192240"/>
            <a:ext cx="9144000" cy="7050240"/>
          </a:xfrm>
          <a:prstGeom prst="rect">
            <a:avLst/>
          </a:prstGeom>
          <a:ln w="0">
            <a:noFill/>
          </a:ln>
        </p:spPr>
      </p:pic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68000" y="184428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楷体_GB2312"/>
              </a:rPr>
              <a:t>如果养羊人再不修羊圈，</a:t>
            </a:r>
            <a:br>
              <a:rPr sz="3400"/>
            </a:b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楷体_GB2312"/>
              </a:rPr>
              <a:t>会出现什么后果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0" y="371592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犯了错误，只要（      ），就（         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 Box 2"/>
          <p:cNvSpPr/>
          <p:nvPr/>
        </p:nvSpPr>
        <p:spPr>
          <a:xfrm>
            <a:off x="0" y="442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想一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读完了这个故事，你懂得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3" descr=""/>
          <p:cNvPicPr/>
          <p:nvPr/>
        </p:nvPicPr>
        <p:blipFill>
          <a:blip r:embed="rId1"/>
          <a:srcRect l="2460" t="0" r="1535" b="6088"/>
          <a:stretch/>
        </p:blipFill>
        <p:spPr>
          <a:xfrm>
            <a:off x="2666880" y="2373480"/>
            <a:ext cx="6477120" cy="4484520"/>
          </a:xfrm>
          <a:prstGeom prst="rect">
            <a:avLst/>
          </a:prstGeom>
          <a:ln w="0">
            <a:noFill/>
          </a:ln>
        </p:spPr>
      </p:pic>
      <p:sp>
        <p:nvSpPr>
          <p:cNvPr id="651" name="Text Box 4"/>
          <p:cNvSpPr/>
          <p:nvPr/>
        </p:nvSpPr>
        <p:spPr>
          <a:xfrm>
            <a:off x="395280" y="160164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一个人有错，只要及时纠正、就不算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5"/>
          <p:cNvSpPr/>
          <p:nvPr/>
        </p:nvSpPr>
        <p:spPr>
          <a:xfrm>
            <a:off x="0" y="3645000"/>
            <a:ext cx="6624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33"/>
                </a:solidFill>
                <a:latin typeface="Arial"/>
                <a:ea typeface="楷体_GB2312"/>
              </a:rPr>
              <a:t>亡羊补牢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33"/>
                </a:solidFill>
                <a:latin typeface="Arial"/>
                <a:ea typeface="楷体_GB2312"/>
              </a:rPr>
              <a:t>未为迟也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75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75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矩形 5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6" descr="4b21e0ed198b5e2627979158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0076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58920" y="105228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ff"/>
                </a:solidFill>
                <a:latin typeface="Arial"/>
                <a:ea typeface="楷体_GB2312"/>
              </a:rPr>
              <a:t>          </a:t>
            </a:r>
            <a:r>
              <a:rPr b="0" lang="zh-CN" sz="8000" spc="-1" strike="noStrike">
                <a:solidFill>
                  <a:srgbClr val="0066ff"/>
                </a:solidFill>
                <a:latin typeface="Arial"/>
                <a:ea typeface="楷体_GB2312"/>
              </a:rPr>
              <a:t>亡羊补牢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icture 8" descr="080730152916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4" name="Text Box 4"/>
          <p:cNvSpPr/>
          <p:nvPr/>
        </p:nvSpPr>
        <p:spPr>
          <a:xfrm>
            <a:off x="826920" y="1989000"/>
            <a:ext cx="6985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近义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亡羊补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5"/>
          <p:cNvSpPr/>
          <p:nvPr/>
        </p:nvSpPr>
        <p:spPr>
          <a:xfrm>
            <a:off x="3780000" y="278136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错就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4" descr="4b21e0ed198b5e2627979158"/>
          <p:cNvPicPr/>
          <p:nvPr/>
        </p:nvPicPr>
        <p:blipFill>
          <a:blip r:embed="rId1"/>
          <a:stretch/>
        </p:blipFill>
        <p:spPr>
          <a:xfrm>
            <a:off x="-612720" y="-171360"/>
            <a:ext cx="9756720" cy="7256520"/>
          </a:xfrm>
          <a:prstGeom prst="rect">
            <a:avLst/>
          </a:prstGeom>
          <a:ln w="0">
            <a:noFill/>
          </a:ln>
        </p:spPr>
      </p:pic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吃一堑，长一智 </a:t>
            </a:r>
            <a:r>
              <a:rPr b="1" lang="en-US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未雨绸缪</a:t>
            </a:r>
            <a:r>
              <a:rPr b="0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浪子回头       </a:t>
            </a:r>
            <a:r>
              <a:rPr b="1" lang="en-US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6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知过则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悬崖勒马       </a:t>
            </a:r>
            <a:r>
              <a:rPr b="1" lang="en-US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7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幡然悔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回头是岸    </a:t>
            </a:r>
            <a:r>
              <a:rPr b="1" lang="en-US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8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迷途知返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2" descr="080730152916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800" spc="-1" strike="noStrike">
              <a:solidFill>
                <a:srgbClr val="000000"/>
              </a:solidFill>
              <a:latin typeface="Arial"/>
              <a:ea typeface="楷体_GB2312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01800" y="1771200"/>
            <a:ext cx="56498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树木被过量砍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眼睛近视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学习成绩下降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草原被破坏，出现沙尘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      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4"/>
          <p:cNvSpPr/>
          <p:nvPr/>
        </p:nvSpPr>
        <p:spPr>
          <a:xfrm>
            <a:off x="474840" y="439920"/>
            <a:ext cx="590544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板书：　　　亡羊补牢</a:t>
            </a: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一 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前有个人，养了几只羊， 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天大清早，想着去放羊， 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到羊圈外，顿时傻了眼， 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二三四五六七，发现少了羊一只。 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诶，哪去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（动作：东看西瞧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料想狼从窟窿进，把羊偷偷叼了去。 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街坊闻讯来，赶来奉劝他： 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赶快点，修一修，那窟窿，堵了它， 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后狼来不用怕。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 二 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了第二天早上，跑到羊圈又一看， 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二三四五六七，怎么又少羊一只， 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诶，哪去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（动作：东看西瞧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了，对了，一定又是那个大窟窿，把羊叼走又一只。 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唉，真后悔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该听听街坊话， 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点修一修，不会再把羊儿丢。 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 三 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个养羊人，现在才明白， 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亡了羊，要补牢， 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犯了错，要改过。 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是，赶紧动手堵窟窿，从此羊再没丢过！ 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此羊再没丢过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1026"/>
          <p:cNvSpPr/>
          <p:nvPr/>
        </p:nvSpPr>
        <p:spPr>
          <a:xfrm>
            <a:off x="457200" y="914400"/>
            <a:ext cx="7696080" cy="56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亡</a:t>
            </a:r>
            <a:r>
              <a:rPr b="1" lang="zh-CN" sz="6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羊补</a:t>
            </a:r>
            <a:r>
              <a:rPr b="1" lang="zh-CN" sz="66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牢</a:t>
            </a:r>
            <a:r>
              <a:rPr b="1" lang="zh-CN" sz="6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   </a:t>
            </a:r>
            <a:r>
              <a:rPr b="1" lang="zh-CN" sz="6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羊</a:t>
            </a:r>
            <a:r>
              <a:rPr b="1" lang="zh-CN" sz="66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窟窿</a:t>
            </a:r>
            <a:r>
              <a:rPr b="1" lang="zh-CN" sz="6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   </a:t>
            </a:r>
            <a:r>
              <a:rPr b="1" lang="zh-CN" sz="66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叼</a:t>
            </a:r>
            <a:r>
              <a:rPr b="1" lang="zh-CN" sz="6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走</a:t>
            </a:r>
            <a:r>
              <a:rPr b="1" lang="zh-CN" sz="6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  </a:t>
            </a:r>
            <a:r>
              <a:rPr b="1" lang="zh-CN" sz="6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街</a:t>
            </a:r>
            <a:r>
              <a:rPr b="1" lang="zh-CN" sz="66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劝</a:t>
            </a:r>
            <a:r>
              <a:rPr b="1" lang="zh-CN" sz="6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告</a:t>
            </a:r>
            <a:r>
              <a:rPr b="1" lang="zh-CN" sz="6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   </a:t>
            </a:r>
            <a:r>
              <a:rPr b="1" lang="zh-CN" sz="6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后</a:t>
            </a:r>
            <a:r>
              <a:rPr b="1" lang="zh-CN" sz="66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悔</a:t>
            </a:r>
            <a:r>
              <a:rPr b="1" lang="zh-CN" sz="6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1027" descr="38C6877D2F527D2886C8D47E00816B69"/>
          <p:cNvPicPr/>
          <p:nvPr/>
        </p:nvPicPr>
        <p:blipFill>
          <a:blip r:embed="rId1"/>
          <a:stretch/>
        </p:blipFill>
        <p:spPr>
          <a:xfrm>
            <a:off x="7620120" y="4876920"/>
            <a:ext cx="1143000" cy="137160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1028"/>
          <p:cNvSpPr/>
          <p:nvPr/>
        </p:nvSpPr>
        <p:spPr>
          <a:xfrm>
            <a:off x="380880" y="335268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66"/>
                </a:solidFill>
                <a:latin typeface="Times New Roman"/>
              </a:rPr>
              <a:t>quà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029"/>
          <p:cNvSpPr/>
          <p:nvPr/>
        </p:nvSpPr>
        <p:spPr>
          <a:xfrm>
            <a:off x="304920" y="304920"/>
            <a:ext cx="167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66"/>
                </a:solidFill>
                <a:latin typeface="Times New Roman"/>
              </a:rPr>
              <a:t>wán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030"/>
          <p:cNvSpPr/>
          <p:nvPr/>
        </p:nvSpPr>
        <p:spPr>
          <a:xfrm>
            <a:off x="380880" y="1905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66"/>
                </a:solidFill>
                <a:latin typeface="Times New Roman"/>
              </a:rPr>
              <a:t>k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031"/>
          <p:cNvSpPr/>
          <p:nvPr/>
        </p:nvSpPr>
        <p:spPr>
          <a:xfrm>
            <a:off x="4344840" y="3352680"/>
            <a:ext cx="105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66"/>
                </a:solidFill>
                <a:latin typeface="Times New Roman"/>
              </a:rPr>
              <a:t>hu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032"/>
          <p:cNvSpPr/>
          <p:nvPr/>
        </p:nvSpPr>
        <p:spPr>
          <a:xfrm>
            <a:off x="5869080" y="304920"/>
            <a:ext cx="136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66"/>
                </a:solidFill>
                <a:latin typeface="Times New Roman"/>
              </a:rPr>
              <a:t>juà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033"/>
          <p:cNvSpPr/>
          <p:nvPr/>
        </p:nvSpPr>
        <p:spPr>
          <a:xfrm>
            <a:off x="3049920" y="304920"/>
            <a:ext cx="101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66"/>
                </a:solidFill>
                <a:latin typeface="Times New Roman"/>
              </a:rPr>
              <a:t>lá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034"/>
          <p:cNvSpPr/>
          <p:nvPr/>
        </p:nvSpPr>
        <p:spPr>
          <a:xfrm>
            <a:off x="6707160" y="1828800"/>
            <a:ext cx="14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66"/>
                </a:solidFill>
                <a:latin typeface="Times New Roman"/>
              </a:rPr>
              <a:t>fan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035"/>
          <p:cNvSpPr/>
          <p:nvPr/>
        </p:nvSpPr>
        <p:spPr>
          <a:xfrm>
            <a:off x="1297080" y="1828800"/>
            <a:ext cx="14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66"/>
                </a:solidFill>
                <a:latin typeface="Times New Roman"/>
              </a:rPr>
              <a:t>lon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36"/>
          <p:cNvSpPr/>
          <p:nvPr/>
        </p:nvSpPr>
        <p:spPr>
          <a:xfrm>
            <a:off x="3297240" y="1905120"/>
            <a:ext cx="136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66"/>
                </a:solidFill>
                <a:latin typeface="Times New Roman"/>
              </a:rPr>
              <a:t>diā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1039"/>
          <p:cNvSpPr/>
          <p:nvPr/>
        </p:nvSpPr>
        <p:spPr>
          <a:xfrm>
            <a:off x="6732720" y="3500280"/>
            <a:ext cx="2232000" cy="1440000"/>
          </a:xfrm>
          <a:prstGeom prst="cloudCallout">
            <a:avLst>
              <a:gd name="adj1" fmla="val -51921"/>
              <a:gd name="adj2" fmla="val -5981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040"/>
          <p:cNvSpPr/>
          <p:nvPr/>
        </p:nvSpPr>
        <p:spPr>
          <a:xfrm>
            <a:off x="7020000" y="3645000"/>
            <a:ext cx="18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c2b08"/>
                </a:solidFill>
                <a:latin typeface="Arial"/>
                <a:ea typeface="楷体_GB2312"/>
              </a:rPr>
              <a:t>邻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1041"/>
          <p:cNvSpPr/>
          <p:nvPr/>
        </p:nvSpPr>
        <p:spPr>
          <a:xfrm>
            <a:off x="1547640" y="5300640"/>
            <a:ext cx="2303640" cy="1368360"/>
          </a:xfrm>
          <a:prstGeom prst="cloudCallout">
            <a:avLst>
              <a:gd name="adj1" fmla="val -63439"/>
              <a:gd name="adj2" fmla="val -8167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042"/>
          <p:cNvSpPr/>
          <p:nvPr/>
        </p:nvSpPr>
        <p:spPr>
          <a:xfrm>
            <a:off x="1835280" y="5445000"/>
            <a:ext cx="18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c2b08"/>
                </a:solidFill>
                <a:latin typeface="Arial"/>
                <a:ea typeface="楷体_GB2312"/>
              </a:rPr>
              <a:t>劝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7" name="WordArt 3"/>
          <p:cNvSpPr txBox="1"/>
          <p:nvPr/>
        </p:nvSpPr>
        <p:spPr>
          <a:xfrm>
            <a:off x="0" y="101520"/>
            <a:ext cx="480060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660066"/>
                    </a:gs>
                  </a:gsLst>
                  <a:lin ang="5400000"/>
                </a:gradFill>
                <a:latin typeface="华文行楷"/>
              </a:rPr>
              <a:t>亡羊补牢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660066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578" name="Text Box 4"/>
          <p:cNvSpPr/>
          <p:nvPr/>
        </p:nvSpPr>
        <p:spPr>
          <a:xfrm>
            <a:off x="228600" y="5181480"/>
            <a:ext cx="914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牢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5"/>
          <p:cNvSpPr/>
          <p:nvPr/>
        </p:nvSpPr>
        <p:spPr>
          <a:xfrm>
            <a:off x="1143000" y="51055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古代指丢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6"/>
          <p:cNvSpPr/>
          <p:nvPr/>
        </p:nvSpPr>
        <p:spPr>
          <a:xfrm>
            <a:off x="1066680" y="57150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文中指羊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oup 7"/>
          <p:cNvGrpSpPr/>
          <p:nvPr/>
        </p:nvGrpSpPr>
        <p:grpSpPr>
          <a:xfrm>
            <a:off x="449280" y="1185840"/>
            <a:ext cx="3826800" cy="493200"/>
            <a:chOff x="449280" y="1185840"/>
            <a:chExt cx="3826800" cy="493200"/>
          </a:xfrm>
        </p:grpSpPr>
        <p:pic>
          <p:nvPicPr>
            <p:cNvPr id="582" name="Picture 8" descr="Arrow"/>
            <p:cNvPicPr/>
            <p:nvPr/>
          </p:nvPicPr>
          <p:blipFill>
            <a:blip r:embed="rId2"/>
            <a:stretch/>
          </p:blipFill>
          <p:spPr>
            <a:xfrm>
              <a:off x="3762360" y="1185840"/>
              <a:ext cx="513720" cy="49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Picture 9" descr="Arrow"/>
            <p:cNvPicPr/>
            <p:nvPr/>
          </p:nvPicPr>
          <p:blipFill>
            <a:blip r:embed="rId3"/>
            <a:stretch/>
          </p:blipFill>
          <p:spPr>
            <a:xfrm>
              <a:off x="449280" y="1185840"/>
              <a:ext cx="514440" cy="4932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75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75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75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75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13"/>
          <p:cNvSpPr/>
          <p:nvPr/>
        </p:nvSpPr>
        <p:spPr>
          <a:xfrm>
            <a:off x="2771640" y="2060640"/>
            <a:ext cx="576360" cy="3240000"/>
          </a:xfrm>
          <a:custGeom>
            <a:avLst/>
            <a:gdLst>
              <a:gd name="textAreaLeft" fmla="*/ 169200 w 576360"/>
              <a:gd name="textAreaRight" fmla="*/ 576720 w 576360"/>
              <a:gd name="textAreaTop" fmla="*/ 135000 h 3240000"/>
              <a:gd name="textAreaBottom" fmla="*/ 310500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WordArt 16"/>
          <p:cNvSpPr txBox="1"/>
          <p:nvPr/>
        </p:nvSpPr>
        <p:spPr>
          <a:xfrm>
            <a:off x="3276720" y="227664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juà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88" name="WordArt 18"/>
          <p:cNvSpPr txBox="1"/>
          <p:nvPr/>
        </p:nvSpPr>
        <p:spPr>
          <a:xfrm>
            <a:off x="3276720" y="32130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quā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89" name="WordArt 19"/>
          <p:cNvSpPr txBox="1"/>
          <p:nvPr/>
        </p:nvSpPr>
        <p:spPr>
          <a:xfrm>
            <a:off x="4427640" y="3284640"/>
            <a:ext cx="1828800" cy="5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（圆圈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590" name="WordArt 20"/>
          <p:cNvSpPr txBox="1"/>
          <p:nvPr/>
        </p:nvSpPr>
        <p:spPr>
          <a:xfrm>
            <a:off x="4427640" y="2276640"/>
            <a:ext cx="182880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（羊圈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591" name="WordArt 21"/>
          <p:cNvSpPr txBox="1"/>
          <p:nvPr/>
        </p:nvSpPr>
        <p:spPr>
          <a:xfrm>
            <a:off x="6443640" y="3284640"/>
            <a:ext cx="1828800" cy="5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（画圈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592" name="WordArt 22"/>
          <p:cNvSpPr txBox="1"/>
          <p:nvPr/>
        </p:nvSpPr>
        <p:spPr>
          <a:xfrm>
            <a:off x="3276720" y="429264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juā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93" name="WordArt 23"/>
          <p:cNvSpPr txBox="1"/>
          <p:nvPr/>
        </p:nvSpPr>
        <p:spPr>
          <a:xfrm>
            <a:off x="4643280" y="4221000"/>
            <a:ext cx="2953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（圈在家里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pic>
        <p:nvPicPr>
          <p:cNvPr id="594" name="Picture 24" descr="1"/>
          <p:cNvPicPr/>
          <p:nvPr/>
        </p:nvPicPr>
        <p:blipFill>
          <a:blip r:embed="rId1"/>
          <a:stretch/>
        </p:blipFill>
        <p:spPr>
          <a:xfrm>
            <a:off x="611280" y="2781360"/>
            <a:ext cx="20178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图片1"/>
          <p:cNvPicPr/>
          <p:nvPr/>
        </p:nvPicPr>
        <p:blipFill>
          <a:blip r:embed="rId1"/>
          <a:stretch/>
        </p:blipFill>
        <p:spPr>
          <a:xfrm>
            <a:off x="179280" y="193680"/>
            <a:ext cx="8964720" cy="6664320"/>
          </a:xfrm>
          <a:prstGeom prst="rect">
            <a:avLst/>
          </a:prstGeom>
          <a:ln w="0">
            <a:noFill/>
          </a:ln>
        </p:spPr>
      </p:pic>
      <p:sp>
        <p:nvSpPr>
          <p:cNvPr id="596" name="WordArt 3"/>
          <p:cNvSpPr txBox="1"/>
          <p:nvPr/>
        </p:nvSpPr>
        <p:spPr>
          <a:xfrm>
            <a:off x="0" y="152280"/>
            <a:ext cx="480060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660066"/>
                    </a:gs>
                  </a:gsLst>
                  <a:lin ang="5400000"/>
                </a:gradFill>
                <a:latin typeface="华文行楷"/>
              </a:rPr>
              <a:t>亡羊补牢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660066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597" name="Text Box 4"/>
          <p:cNvSpPr/>
          <p:nvPr/>
        </p:nvSpPr>
        <p:spPr>
          <a:xfrm>
            <a:off x="324000" y="5013360"/>
            <a:ext cx="55083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用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简洁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语言说说课文讲了一件什么事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7"/>
          <p:cNvGrpSpPr/>
          <p:nvPr/>
        </p:nvGrpSpPr>
        <p:grpSpPr>
          <a:xfrm>
            <a:off x="457200" y="990720"/>
            <a:ext cx="3826800" cy="493200"/>
            <a:chOff x="457200" y="990720"/>
            <a:chExt cx="3826800" cy="493200"/>
          </a:xfrm>
        </p:grpSpPr>
        <p:pic>
          <p:nvPicPr>
            <p:cNvPr id="599" name="Picture 8" descr="Arrow"/>
            <p:cNvPicPr/>
            <p:nvPr/>
          </p:nvPicPr>
          <p:blipFill>
            <a:blip r:embed="rId2"/>
            <a:stretch/>
          </p:blipFill>
          <p:spPr>
            <a:xfrm>
              <a:off x="3770280" y="990720"/>
              <a:ext cx="513720" cy="49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Picture 9" descr="Arrow"/>
            <p:cNvPicPr/>
            <p:nvPr/>
          </p:nvPicPr>
          <p:blipFill>
            <a:blip r:embed="rId3"/>
            <a:stretch/>
          </p:blipFill>
          <p:spPr>
            <a:xfrm>
              <a:off x="457200" y="990720"/>
              <a:ext cx="514440" cy="4932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75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75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示：第一次丢羊    第二次丢羊   后悔    赶紧    从此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5"/>
          <p:cNvSpPr/>
          <p:nvPr/>
        </p:nvSpPr>
        <p:spPr>
          <a:xfrm>
            <a:off x="6516720" y="1844640"/>
            <a:ext cx="431640" cy="289080"/>
          </a:xfrm>
          <a:prstGeom prst="rightArrow">
            <a:avLst>
              <a:gd name="adj1" fmla="val 50000"/>
              <a:gd name="adj2" fmla="val 3732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6"/>
          <p:cNvSpPr/>
          <p:nvPr/>
        </p:nvSpPr>
        <p:spPr>
          <a:xfrm>
            <a:off x="3492360" y="2637000"/>
            <a:ext cx="432000" cy="288720"/>
          </a:xfrm>
          <a:prstGeom prst="rightArrow">
            <a:avLst>
              <a:gd name="adj1" fmla="val 50000"/>
              <a:gd name="adj2" fmla="val 3740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7"/>
          <p:cNvSpPr/>
          <p:nvPr/>
        </p:nvSpPr>
        <p:spPr>
          <a:xfrm>
            <a:off x="5651640" y="2637000"/>
            <a:ext cx="431640" cy="288720"/>
          </a:xfrm>
          <a:prstGeom prst="rightArrow">
            <a:avLst>
              <a:gd name="adj1" fmla="val 50000"/>
              <a:gd name="adj2" fmla="val 37375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8"/>
          <p:cNvSpPr/>
          <p:nvPr/>
        </p:nvSpPr>
        <p:spPr>
          <a:xfrm>
            <a:off x="7956720" y="2637000"/>
            <a:ext cx="431640" cy="288720"/>
          </a:xfrm>
          <a:prstGeom prst="rightArrow">
            <a:avLst>
              <a:gd name="adj1" fmla="val 50000"/>
              <a:gd name="adj2" fmla="val 37375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2" descr="1"/>
          <p:cNvPicPr/>
          <p:nvPr/>
        </p:nvPicPr>
        <p:blipFill>
          <a:blip r:embed="rId1"/>
          <a:stretch/>
        </p:blipFill>
        <p:spPr>
          <a:xfrm>
            <a:off x="-541440" y="0"/>
            <a:ext cx="1065852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" descr="1"/>
          <p:cNvPicPr/>
          <p:nvPr/>
        </p:nvPicPr>
        <p:blipFill>
          <a:blip r:embed="rId1"/>
          <a:stretch/>
        </p:blipFill>
        <p:spPr>
          <a:xfrm>
            <a:off x="-541440" y="0"/>
            <a:ext cx="10658520" cy="7101000"/>
          </a:xfrm>
          <a:prstGeom prst="rect">
            <a:avLst/>
          </a:prstGeom>
          <a:ln w="0">
            <a:noFill/>
          </a:ln>
        </p:spPr>
      </p:pic>
      <p:sp>
        <p:nvSpPr>
          <p:cNvPr id="608" name="Line 3"/>
          <p:cNvSpPr/>
          <p:nvPr/>
        </p:nvSpPr>
        <p:spPr>
          <a:xfrm>
            <a:off x="2050920" y="2924280"/>
            <a:ext cx="64087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4"/>
          <p:cNvSpPr/>
          <p:nvPr/>
        </p:nvSpPr>
        <p:spPr>
          <a:xfrm>
            <a:off x="900000" y="3573360"/>
            <a:ext cx="633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5"/>
          <p:cNvSpPr/>
          <p:nvPr/>
        </p:nvSpPr>
        <p:spPr>
          <a:xfrm>
            <a:off x="1116000" y="55897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因为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¨¨¨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所以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¨¨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01:47:28Z</dcterms:created>
  <dc:creator>第一PPT模板网-WWW.1PPT.COM</dc:creator>
  <dc:description>第一PPT模板网-WWW.1PPT.COM
</dc:description>
  <cp:keywords>第一PPT模板网-WWW.1PPT.COM</cp:keywords>
  <dc:language>en-US</dc:language>
  <cp:lastModifiedBy>admin</cp:lastModifiedBy>
  <dcterms:modified xsi:type="dcterms:W3CDTF">2015-01-27T03:23:37Z</dcterms:modified>
  <cp:revision>70</cp:revision>
  <dc:subject>第一PPT模板网-WWW.1PPT.COM</dc:subject>
  <dc:title>第一PPT模板网-WWW.1PPT.COM</dc:title>
</cp:coreProperties>
</file>