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chimes.wav" ContentType="audio/x-wav"/>
  <Override PartName="/ppt/media/camera.wav" ContentType="audio/x-wav"/>
  <Override PartName="/ppt/media/image7.jpeg" ContentType="image/jpeg"/>
  <Override PartName="/ppt/media/image12.png" ContentType="image/png"/>
  <Override PartName="/ppt/media/image11.jpeg" ContentType="image/jpeg"/>
  <Override PartName="/ppt/media/image1.jpeg" ContentType="image/jpeg"/>
  <Override PartName="/ppt/media/glass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CLAP.WAV" ContentType="audio/x-wav"/>
  <Override PartName="/ppt/media/image3.jpeg" ContentType="image/jpeg"/>
  <Override PartName="/ppt/media/image4.png" ContentType="image/png"/>
  <Override PartName="/ppt/media/image6.gif" ContentType="image/gif"/>
  <Override PartName="/ppt/media/image9.png" ContentType="image/png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8999538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CED-1A01-4F69-9A56-A90586F8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9B8-84A1-419B-9D6F-0AFAC79F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944-458C-4DB3-8DE8-49ECEF65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124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820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428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124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820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02C-D613-49D3-A6D2-0D3ECC98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381-E680-4973-9C2A-C99E0996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F54-A673-4A32-A589-8CCD4DE2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CDC-7F42-445C-B495-D60CD09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ED8-0A83-406A-AFB6-8FD2790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4280" y="585720"/>
            <a:ext cx="76518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3F1-AB27-492C-B065-A3559F25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879-BDD6-43FF-87B5-F48997C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D12-2021-4C0F-900E-7175699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B03-70DB-43CB-8C19-2038FE7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 fontScale="99000"/>
          </a:bodyPr>
          <a:p>
            <a:pPr marL="329760" indent="-3297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400" indent="-2750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160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4640" y="6003720"/>
            <a:ext cx="187632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003720"/>
            <a:ext cx="285084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003720"/>
            <a:ext cx="187488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1B18B98B-D79C-49A2-BB55-4D4E85C8E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6360" y="-219240"/>
            <a:ext cx="9300960" cy="680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00240" y="731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0720" y="1463760"/>
            <a:ext cx="270036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1080" y="439560"/>
            <a:ext cx="0" cy="2489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8326440" y="3220920"/>
            <a:ext cx="1440" cy="2784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01080" y="2928960"/>
            <a:ext cx="0" cy="2489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4440" y="5022720"/>
            <a:ext cx="39124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隶书"/>
              </a:rPr>
              <a:t>平南镇中心小学    陈婧霞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200000">
            <a:off x="2637000" y="164412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ahoma"/>
                <a:ea typeface="隶书"/>
              </a:rPr>
              <a:t>年</a:t>
            </a:r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1075000">
            <a:off x="4754520" y="61416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imes New Roman"/>
                <a:ea typeface="隶书"/>
              </a:rPr>
              <a:t>月</a:t>
            </a:r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15200" y="2049480"/>
            <a:ext cx="1204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5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  <a:ea typeface="隶书"/>
              </a:rPr>
              <a:t>日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九义教材（人教版）三年级下册  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40000" y="1062000"/>
            <a:ext cx="4175280" cy="3673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( 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秒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4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日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 (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 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月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年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 ）时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星期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6560" y="343080"/>
            <a:ext cx="19458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 vert="eaVer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zh-CN" sz="5800" spc="-1" strike="noStrike" u="sng">
                <a:solidFill>
                  <a:srgbClr val="0000ff"/>
                </a:solidFill>
                <a:uFillTx/>
                <a:latin typeface="华文彩云"/>
                <a:ea typeface="华文彩云"/>
              </a:rPr>
              <a:t>练习大本营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70344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72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0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6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3151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1638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8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264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6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2143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65436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28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15908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16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9400" y="596880"/>
            <a:ext cx="6166080" cy="484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脑筋转转转</a:t>
            </a:r>
            <a:br>
              <a:rPr sz="5300"/>
            </a:br>
            <a:br>
              <a:rPr sz="5300"/>
            </a:br>
            <a:r>
              <a:rPr b="1" lang="zh-CN" sz="53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小红今年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12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岁，却只过了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3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个生日，小红的生日是哪一天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5360" y="366840"/>
            <a:ext cx="4105440" cy="5930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170600">
            <a:off x="5644080" y="28296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再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1075000">
            <a:off x="6074280" y="207972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见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03360" y="80496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11120" y="1565280"/>
            <a:ext cx="170028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猜一猜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/>
          <p:nvPr/>
        </p:nvSpPr>
        <p:spPr>
          <a:xfrm>
            <a:off x="3090240" y="2187720"/>
            <a:ext cx="23122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有个宝宝真稀奇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身穿三百多件衣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天天都要脱一件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等到年底剩张皮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0863" t="9596" r="11379" b="15346"/>
          <a:stretch/>
        </p:blipFill>
        <p:spPr>
          <a:xfrm>
            <a:off x="6084720" y="3943440"/>
            <a:ext cx="165744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60440" y="5337000"/>
            <a:ext cx="1779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Times New Roman"/>
              </a:rPr>
              <a:t>谜底（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隶书"/>
              </a:rPr>
              <a:t>日历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55800" y="1274760"/>
            <a:ext cx="6207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年有  个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月有  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1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或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8 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000" y="136512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3440" y="172872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0720" y="211464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6960" y="2041560"/>
            <a:ext cx="142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29440" y="166536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35920" y="2041560"/>
            <a:ext cx="1811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07360" y="283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大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5720" y="427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小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2560" y="4778280"/>
            <a:ext cx="254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日有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4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5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25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25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25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175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30000"/>
            <a:ext cx="7651800" cy="1098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br>
              <a:rPr sz="5800"/>
            </a:br>
            <a:r>
              <a:rPr b="0" lang="zh-CN" sz="5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br>
              <a:rPr sz="5800"/>
            </a:br>
            <a:br>
              <a:rPr sz="8800"/>
            </a:b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74760" y="534528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430360"/>
            <a:ext cx="525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1711440"/>
            <a:ext cx="410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大月小月歌谣口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一三五七八十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三十一天永不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四六九冬三十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二月二十八或二十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26200" y="6588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一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51200" y="952560"/>
            <a:ext cx="675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51440" y="878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51320" y="13176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四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0240" y="1390680"/>
            <a:ext cx="600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五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75000" y="1785960"/>
            <a:ext cx="1050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六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5720" y="1859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七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6200" y="1171440"/>
            <a:ext cx="825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八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6080" y="178596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25960" y="156672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5120" y="1976400"/>
            <a:ext cx="75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5840" y="204948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一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51560" y="439560"/>
            <a:ext cx="16495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0240" y="3807000"/>
            <a:ext cx="487512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记住哪个月是大月，哪个月是小月，可以像上图那样，在左手的拳头上从一月数到七月，再从八月数到凸起的地方，那个月就是大月，有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；数到凹的地方，除了二月外，那个月就是小月，只有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840" y="0"/>
            <a:ext cx="224964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6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4880" y="2928960"/>
            <a:ext cx="3489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拳法：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5480" y="585720"/>
            <a:ext cx="1949040" cy="756720"/>
            <a:chOff x="825480" y="585720"/>
            <a:chExt cx="1949040" cy="756720"/>
          </a:xfrm>
        </p:grpSpPr>
        <p:sp>
          <p:nvSpPr>
            <p:cNvPr id="112" name=""/>
            <p:cNvSpPr/>
            <p:nvPr/>
          </p:nvSpPr>
          <p:spPr>
            <a:xfrm>
              <a:off x="825480" y="585720"/>
              <a:ext cx="194904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5480" y="658440"/>
              <a:ext cx="19490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试一试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8840" y="630360"/>
            <a:ext cx="72885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2000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年       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1996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年   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1992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年     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1988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1984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年……都是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</a:rPr>
              <a:t>闰年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4920" y="2065320"/>
            <a:ext cx="177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20960" y="2184480"/>
            <a:ext cx="177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5520" y="2430360"/>
            <a:ext cx="889200" cy="435240"/>
          </a:xfrm>
          <a:custGeom>
            <a:avLst/>
            <a:gdLst/>
            <a:ahLst/>
            <a:rect l="l" t="t" r="r" b="b"/>
            <a:pathLst>
              <a:path w="568" h="286">
                <a:moveTo>
                  <a:pt x="568" y="0"/>
                </a:moveTo>
                <a:cubicBezTo>
                  <a:pt x="501" y="107"/>
                  <a:pt x="434" y="214"/>
                  <a:pt x="339" y="250"/>
                </a:cubicBezTo>
                <a:cubicBezTo>
                  <a:pt x="244" y="286"/>
                  <a:pt x="49" y="221"/>
                  <a:pt x="0" y="21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0680" y="1779480"/>
            <a:ext cx="3601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</a:rPr>
              <a:t>2000÷4=500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</a:rPr>
              <a:t>1996÷4=499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</a:rPr>
              <a:t>1992÷4=498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</a:rPr>
              <a:t>1988÷4=497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Times New Roman"/>
              </a:rPr>
              <a:t>1984</a:t>
            </a:r>
            <a:r>
              <a:rPr b="1" lang="en-US" sz="4300" spc="-1" strike="noStrike">
                <a:solidFill>
                  <a:srgbClr val="ff3300"/>
                </a:solidFill>
                <a:latin typeface="宋体"/>
              </a:rPr>
              <a:t>÷4=496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宋体"/>
              </a:rPr>
              <a:t>……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00400" y="1581120"/>
            <a:ext cx="454788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Times New Roman"/>
              </a:rPr>
              <a:t>1999</a:t>
            </a: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÷4=499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1998÷4=499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1997÷4=499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1995÷4=498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1994÷4=498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……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</a:rPr>
              <a:t>1993÷4=498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</a:rPr>
              <a:t>……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336600"/>
                </a:solidFill>
                <a:latin typeface="宋体"/>
              </a:rPr>
              <a:t>……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3200" y="5443560"/>
            <a:ext cx="29523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公历年份是</a:t>
            </a: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的倍数的一般都是闰年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600120" y="291960"/>
            <a:ext cx="1950480" cy="756720"/>
            <a:chOff x="600120" y="291960"/>
            <a:chExt cx="1950480" cy="756720"/>
          </a:xfrm>
        </p:grpSpPr>
        <p:sp>
          <p:nvSpPr>
            <p:cNvPr id="123" name=""/>
            <p:cNvSpPr/>
            <p:nvPr/>
          </p:nvSpPr>
          <p:spPr>
            <a:xfrm>
              <a:off x="600120" y="29196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120" y="36468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玩一玩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1098720"/>
            <a:ext cx="645156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用手势来表示</a:t>
            </a:r>
            <a:r>
              <a:rPr b="1" lang="zh-CN" sz="2300" spc="-1" strike="noStrike">
                <a:solidFill>
                  <a:srgbClr val="ff0000"/>
                </a:solidFill>
                <a:latin typeface="幼圆"/>
                <a:ea typeface="幼圆"/>
              </a:rPr>
              <a:t>：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是大月的举右手，是小月的举左手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1080" y="21844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38440" y="21844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0060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1320" y="21970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096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108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584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0060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95400" y="2827440"/>
            <a:ext cx="90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51560" y="1171440"/>
            <a:ext cx="1170000" cy="84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26320" y="4832280"/>
            <a:ext cx="1725480" cy="146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5600" y="6149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5720" y="6222960"/>
            <a:ext cx="48006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4760" y="6076800"/>
            <a:ext cx="480060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840" y="1728720"/>
            <a:ext cx="85503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24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17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0120" y="512640"/>
            <a:ext cx="1950480" cy="756720"/>
            <a:chOff x="600120" y="512640"/>
            <a:chExt cx="1950480" cy="756720"/>
          </a:xfrm>
        </p:grpSpPr>
        <p:sp>
          <p:nvSpPr>
            <p:cNvPr id="142" name=""/>
            <p:cNvSpPr/>
            <p:nvPr/>
          </p:nvSpPr>
          <p:spPr>
            <a:xfrm>
              <a:off x="600120" y="51264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0120" y="58536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找闰年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92572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50840" y="1976400"/>
            <a:ext cx="824040" cy="733320"/>
            <a:chOff x="2850840" y="1976400"/>
            <a:chExt cx="824040" cy="733320"/>
          </a:xfrm>
        </p:grpSpPr>
        <p:sp>
          <p:nvSpPr>
            <p:cNvPr id="146" name=""/>
            <p:cNvSpPr/>
            <p:nvPr/>
          </p:nvSpPr>
          <p:spPr>
            <a:xfrm>
              <a:off x="2925720" y="1976400"/>
              <a:ext cx="67428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850840" y="1976400"/>
              <a:ext cx="82404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25360" y="4100400"/>
            <a:ext cx="825480" cy="731880"/>
            <a:chOff x="2925360" y="4100400"/>
            <a:chExt cx="825480" cy="731880"/>
          </a:xfrm>
        </p:grpSpPr>
        <p:sp>
          <p:nvSpPr>
            <p:cNvPr id="149" name=""/>
            <p:cNvSpPr/>
            <p:nvPr/>
          </p:nvSpPr>
          <p:spPr>
            <a:xfrm>
              <a:off x="3000240" y="410040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25360" y="410040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426440" y="2049480"/>
            <a:ext cx="974520" cy="5126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0096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426080" y="4027320"/>
            <a:ext cx="825480" cy="731880"/>
            <a:chOff x="7426080" y="4027320"/>
            <a:chExt cx="825480" cy="731880"/>
          </a:xfrm>
        </p:grpSpPr>
        <p:sp>
          <p:nvSpPr>
            <p:cNvPr id="154" name=""/>
            <p:cNvSpPr/>
            <p:nvPr/>
          </p:nvSpPr>
          <p:spPr>
            <a:xfrm>
              <a:off x="7500960" y="402732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426080" y="402732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f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4760" y="1463760"/>
            <a:ext cx="88786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、每年都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36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天。             （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、一年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个大月、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个小月。（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个月是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年零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个月。   （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、一、二、三、四月是第一季度。（　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年的上半年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18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天。（　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25720" y="1611360"/>
            <a:ext cx="226080" cy="438120"/>
            <a:chOff x="6525720" y="1611360"/>
            <a:chExt cx="226080" cy="438120"/>
          </a:xfrm>
        </p:grpSpPr>
        <p:sp>
          <p:nvSpPr>
            <p:cNvPr id="158" name=""/>
            <p:cNvSpPr/>
            <p:nvPr/>
          </p:nvSpPr>
          <p:spPr>
            <a:xfrm>
              <a:off x="652608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2572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126200" y="2197080"/>
            <a:ext cx="225360" cy="438120"/>
            <a:chOff x="7126200" y="2197080"/>
            <a:chExt cx="225360" cy="438120"/>
          </a:xfrm>
        </p:grpSpPr>
        <p:sp>
          <p:nvSpPr>
            <p:cNvPr id="161" name=""/>
            <p:cNvSpPr/>
            <p:nvPr/>
          </p:nvSpPr>
          <p:spPr>
            <a:xfrm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25720" y="2855880"/>
            <a:ext cx="226080" cy="439920"/>
            <a:chOff x="6525720" y="2855880"/>
            <a:chExt cx="226080" cy="439920"/>
          </a:xfrm>
        </p:grpSpPr>
        <p:sp>
          <p:nvSpPr>
            <p:cNvPr id="164" name=""/>
            <p:cNvSpPr/>
            <p:nvPr/>
          </p:nvSpPr>
          <p:spPr>
            <a:xfrm>
              <a:off x="652608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2572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00840" y="5199120"/>
            <a:ext cx="17254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500120" y="366840"/>
            <a:ext cx="1950840" cy="756720"/>
            <a:chOff x="1500120" y="366840"/>
            <a:chExt cx="1950840" cy="756720"/>
          </a:xfrm>
        </p:grpSpPr>
        <p:sp>
          <p:nvSpPr>
            <p:cNvPr id="168" name=""/>
            <p:cNvSpPr/>
            <p:nvPr/>
          </p:nvSpPr>
          <p:spPr>
            <a:xfrm>
              <a:off x="1500120" y="366840"/>
              <a:ext cx="1950840" cy="730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120" y="439560"/>
              <a:ext cx="19508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聪明的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88000" y="4159080"/>
            <a:ext cx="825480" cy="3668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504720"/>
            <a:ext cx="262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小法官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813800" y="3438360"/>
            <a:ext cx="225360" cy="439920"/>
            <a:chOff x="7813800" y="3438360"/>
            <a:chExt cx="225360" cy="439920"/>
          </a:xfrm>
        </p:grpSpPr>
        <p:sp>
          <p:nvSpPr>
            <p:cNvPr id="173" name=""/>
            <p:cNvSpPr/>
            <p:nvPr/>
          </p:nvSpPr>
          <p:spPr>
            <a:xfrm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7:13:43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32:38Z</dcterms:modified>
  <cp:revision>120</cp:revision>
  <dc:subject/>
  <dc:title>绿色圃中小学教育网http://www.lspjy.com</dc:title>
</cp:coreProperties>
</file>