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12.jpeg" ContentType="image/jpeg"/>
  <Override PartName="/ppt/media/image7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chimes.wav" ContentType="audio/x-wav"/>
  <Override PartName="/ppt/media/image4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87C-6B7D-461D-84BF-542795B5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CDF-BFC6-4DD5-9858-1EBF7FA7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051-E108-4F80-9B01-4819A990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8EF-5D73-416E-8659-008B3EB1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240-9F55-465F-8B3F-468170DE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BE9-5B0F-487F-BC5D-981F4109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200-03F2-44E1-9FDF-221E4E73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37A-65B3-43DB-B95F-333373B8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498-356A-420A-B815-CAE472FE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D44-9D63-4F36-A582-9597465A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033-7431-4597-916B-3C4B15D0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E6E-18A5-4B24-8EF9-3E2C512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EC23-526E-4ABE-B64C-F80D948472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1052640"/>
            <a:ext cx="792000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楷体_GB2312"/>
              </a:rPr>
              <a:t>制作年历卡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3399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14400" y="838080"/>
            <a:ext cx="350532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看看谁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我的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同年</a:t>
            </a:r>
            <a:r>
              <a:rPr b="1" lang="zh-CN" sz="4800" spc="-1" strike="noStrike">
                <a:solidFill>
                  <a:srgbClr val="99cc00"/>
                </a:solidFill>
                <a:latin typeface="Times New Roman"/>
              </a:rPr>
              <a:t>朋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4485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6094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调查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 是 哪 月 出 生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60020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" y="1447920"/>
          <a:ext cx="6553080" cy="4140000"/>
        </p:xfrm>
        <a:graphic>
          <a:graphicData uri="http://schemas.openxmlformats.org/drawingml/2006/table">
            <a:tbl>
              <a:tblPr/>
              <a:tblGrid>
                <a:gridCol w="609480"/>
                <a:gridCol w="635040"/>
                <a:gridCol w="507960"/>
                <a:gridCol w="507960"/>
                <a:gridCol w="559080"/>
                <a:gridCol w="609480"/>
                <a:gridCol w="457200"/>
                <a:gridCol w="533520"/>
                <a:gridCol w="533160"/>
                <a:gridCol w="609840"/>
                <a:gridCol w="457200"/>
                <a:gridCol w="533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五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六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七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八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九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十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十一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十二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 rot="21343200">
            <a:off x="2268000" y="1341000"/>
            <a:ext cx="33530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66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领奖台</a:t>
            </a:r>
            <a:endParaRPr b="0" lang="en-US" sz="2400" spc="1" strike="noStrike">
              <a:ln w="9360">
                <a:solidFill>
                  <a:srgbClr val="ffccff"/>
                </a:solidFill>
                <a:miter/>
              </a:ln>
              <a:solidFill>
                <a:srgbClr val="0066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299736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Dotum"/>
                <a:ea typeface="Dotum"/>
              </a:rPr>
              <a:t>在 这 节 课中，谁 的 表现最好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1143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914400"/>
            <a:ext cx="632484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活动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通过组织学生参加制作年历的实践活动，使学生进一步巩固所学的年、月、日的有关知识，加深对所学知识理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知道年历的结构，懂得看年历，初步掌握年历的制作方法，会用简单推算的方法制作年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通过活动，培养学生的动手能力和合作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必  答  题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70000"/>
            <a:ext cx="906804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一年有（   ）个月，每月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的（                    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月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的有（            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平年的二月有（              ）天，闰年的二月有（              ）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平年一年有（              ）天，闰年一年有（            ）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）今年是（   ）年，全年有（   ）天，今年的      二月有（      ）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北京召开奥运会是（    ）年，这一年是（     ）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这一年共有（     ）天，奥运会在（    ）月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召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31240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41148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57800" y="5867280"/>
            <a:ext cx="838080" cy="709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2286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533520"/>
            <a:ext cx="8610480" cy="39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0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年是（   ）年，全年共有（    ）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一个月最多有（     ）个星期日，一年半是（   ）个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）常用的 时间单位有（         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通常每（   ）年里有一个闰年，但公历整百年的年份，必须是（  ）的倍数才是闰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10)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百货商店上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开门营业，晚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关门，百货商店一天的营业时间上（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85800"/>
            <a:ext cx="746748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走进生活  解决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下图提供的参考：请你制作一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份的日历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1828800"/>
            <a:ext cx="640080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21573600">
            <a:off x="2971440" y="-380520"/>
            <a:ext cx="502920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2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比一比，看谁做得好！</a:t>
            </a:r>
            <a:endParaRPr b="0" lang="en-US" sz="4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7620120" cy="3782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86400" y="3733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2590920"/>
            <a:ext cx="263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1219320"/>
            <a:ext cx="647712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4700520"/>
            <a:ext cx="9143640" cy="2157120"/>
            <a:chOff x="0" y="4700520"/>
            <a:chExt cx="9143640" cy="21571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4700520"/>
              <a:ext cx="9143640" cy="21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1361880" y="5081400"/>
              <a:ext cx="311256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我能行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336840" y="10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62120" y="990720"/>
          <a:ext cx="7238880" cy="4647960"/>
        </p:xfrm>
        <a:graphic>
          <a:graphicData uri="http://schemas.openxmlformats.org/drawingml/2006/table">
            <a:tbl>
              <a:tblPr/>
              <a:tblGrid>
                <a:gridCol w="1035000"/>
                <a:gridCol w="1033560"/>
                <a:gridCol w="1035000"/>
                <a:gridCol w="1031760"/>
                <a:gridCol w="1035000"/>
                <a:gridCol w="1033560"/>
                <a:gridCol w="103500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762120" y="3049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dd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81080" y="2971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886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129528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27432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219320"/>
            <a:ext cx="647712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4700520"/>
            <a:ext cx="9143640" cy="2157120"/>
            <a:chOff x="0" y="4700520"/>
            <a:chExt cx="9143640" cy="215712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4700520"/>
              <a:ext cx="9143640" cy="21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 txBox="1"/>
            <p:nvPr/>
          </p:nvSpPr>
          <p:spPr>
            <a:xfrm>
              <a:off x="1361880" y="5081400"/>
              <a:ext cx="311256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我能行</a:t>
              </a:r>
              <a:endPara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336840" y="10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838080" y="380880"/>
          <a:ext cx="7238880" cy="4648320"/>
        </p:xfrm>
        <a:graphic>
          <a:graphicData uri="http://schemas.openxmlformats.org/drawingml/2006/table">
            <a:tbl>
              <a:tblPr/>
              <a:tblGrid>
                <a:gridCol w="1035000"/>
                <a:gridCol w="1033560"/>
                <a:gridCol w="1035000"/>
                <a:gridCol w="1011240"/>
                <a:gridCol w="1055520"/>
                <a:gridCol w="1033560"/>
                <a:gridCol w="103500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685800" y="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00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34120" y="495288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71600" y="10666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2133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066680"/>
            <a:ext cx="6477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1676520" y="457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4120" y="495288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10666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133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1066680"/>
            <a:ext cx="6477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143000" y="609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02:26:32Z</dcterms:created>
  <dc:creator>绿色圃中小学教育网http://www.lspjy.com</dc:creator>
  <dc:description/>
  <cp:keywords>绿色圃中小学教育网http://www.lspjy.com</cp:keywords>
  <dc:language>en-US</dc:language>
  <cp:lastModifiedBy>admin</cp:lastModifiedBy>
  <dcterms:modified xsi:type="dcterms:W3CDTF">2015-01-31T01:13:11Z</dcterms:modified>
  <cp:revision>28</cp:revision>
  <dc:subject/>
  <dc:title>绿色圃中小学教育网http://www.lspjy.com</dc:title>
</cp:coreProperties>
</file>