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DCF7-28DC-4ABE-AB62-B1022B5103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41C5-D967-428B-A45F-F4996016DB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0E2-33F4-47FF-BC0D-889BA94B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050-4EBB-4996-8BAF-674C8927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D67-0812-4F44-8294-0682DF1A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EB5-5616-4705-A1E5-A8076FE1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9627-E86E-4B9F-8430-13DA71AF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6510-AE7D-4824-B184-9526357F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1D14-3223-42B9-98C6-EED47C38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2DAB-E8B8-4796-8306-8F5BE3D4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E87C-3B1B-46F8-A973-DCA72F12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185C-5C78-4E44-9A28-A65476E5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FE67-16A4-4418-80D0-B364F376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A45-54B5-4B63-BD73-395820EC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BB5A-BC6D-4164-BCC8-8108D789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262A-3ACE-4196-A5E7-BB62A32C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62B7-6024-4750-A5EA-4D139F1A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0FC2-9396-4DA5-801A-C29C08B5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72A4-5849-4388-A393-C1073528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C2F56-CE51-4D7F-8068-D0E8E762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3FC0D-4307-496F-BBCA-B0511A8F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43FE9-61A2-4F35-98DB-E2FA750A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BA072-C8DF-4F47-8281-22D31477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B8567-B5EA-45C3-A78E-80125B2C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172-970B-4F3D-B105-F9045512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A4AD9-9B79-4E7F-AF2C-EFBB905C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130D8-0F58-452D-A41C-1A0E6518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8075A-76C6-4A07-A0E7-7CC5AC08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5F52A-5262-4EE6-90D2-DADE35E6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F63DB-BA4F-480F-9B04-264B496D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6B512-4BBA-4DEA-A6A2-394F99F9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2D330-4418-4475-BA56-1B160FB9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B00-E803-4F6A-88B1-99B2EA78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60A0-0BCA-4F01-ADB6-29D56061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D78-F728-4F02-ACD8-69F7505A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E04-A990-4F1B-B918-FD0DF43B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0785-9A3F-45BE-AAC8-57E01033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8E6A-FDAF-4CD3-8BE9-D07A453B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1B8C-99BD-46E3-9E5A-918BC04EB7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AA1A-BE83-48DC-AEDA-80715A6E744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9AF0-A533-473A-B2A5-79222B7208A6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cy" descr=""/>
          <p:cNvPicPr/>
          <p:nvPr/>
        </p:nvPicPr>
        <p:blipFill>
          <a:blip r:embed="rId1"/>
          <a:stretch/>
        </p:blipFill>
        <p:spPr>
          <a:xfrm>
            <a:off x="0" y="1152360"/>
            <a:ext cx="9144000" cy="5705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826920" y="1916280"/>
            <a:ext cx="734544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面积和面积单位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333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教新课标版三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85680" y="0"/>
            <a:ext cx="9144000" cy="685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81" name=""/>
          <p:cNvSpPr/>
          <p:nvPr/>
        </p:nvSpPr>
        <p:spPr>
          <a:xfrm>
            <a:off x="1676520" y="2565360"/>
            <a:ext cx="7467480" cy="14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　　 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（ 　   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大小，叫做它们的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7440" y="35701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89280" y="2565360"/>
            <a:ext cx="32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物体的表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32520" y="2565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封闭图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075280" y="250020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4200" y="549360"/>
            <a:ext cx="81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１．边长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厘米的正方形面积是（　　　　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4360" y="115884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平方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4200" y="20606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２．面积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方分米的正方形边长是（　　　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65440" y="267012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33cc"/>
                </a:solidFill>
                <a:latin typeface="黑体"/>
                <a:ea typeface="黑体"/>
              </a:rPr>
              <a:t>分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5280" y="3860640"/>
            <a:ext cx="819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３．边长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的正方形面积是（　　　　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360" y="447048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平方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419640" y="3357720"/>
            <a:ext cx="287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03280" y="3068640"/>
            <a:ext cx="244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48000" y="3519360"/>
            <a:ext cx="720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米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27640" y="44434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平方分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20" y="3573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４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黑板的长是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（</a:t>
            </a:r>
            <a:r>
              <a:rPr b="1" lang="zh-CN" sz="3200" spc="-1" strike="noStrike">
                <a:solidFill>
                  <a:srgbClr val="6666ff"/>
                </a:solidFill>
                <a:latin typeface="新宋体"/>
                <a:ea typeface="新宋体"/>
              </a:rPr>
              <a:t>  　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71040" y="4505400"/>
            <a:ext cx="40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５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一块手帕的面积是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（　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920" y="5442120"/>
            <a:ext cx="82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６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一枚邮票的面积是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（　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00720" y="5380200"/>
            <a:ext cx="22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平方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941400"/>
            <a:ext cx="10260000" cy="13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１．小明的大拇指的指甲盖大约是１（　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40360" y="977760"/>
            <a:ext cx="22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平方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920" y="1697040"/>
            <a:ext cx="82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２．数学课本的封面大约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920" y="26337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３．一个学校的面积大约是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0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80000" y="16970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平方分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867280" y="263376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平方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1159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填上适当的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828720" y="5516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上面的资料，说说你有什么感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84360" y="1125360"/>
          <a:ext cx="7848360" cy="4021200"/>
        </p:xfrm>
        <a:graphic>
          <a:graphicData uri="http://schemas.openxmlformats.org/drawingml/2006/table">
            <a:tbl>
              <a:tblPr/>
              <a:tblGrid>
                <a:gridCol w="1800000"/>
                <a:gridCol w="1871640"/>
                <a:gridCol w="417672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国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首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均绿地面积约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方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美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华盛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４６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法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巴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２５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德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柏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５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中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北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        ８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4382280" y="2937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世界一些国家首都人均绿地面积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23880" y="2997360"/>
            <a:ext cx="708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63640" y="298620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0920" y="2735280"/>
            <a:ext cx="8642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小明的身高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2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米。　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卧室的面积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平方厘米。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花园的面积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平方米。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29480" y="2401920"/>
            <a:ext cx="201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139160" y="324000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93000" y="4005360"/>
            <a:ext cx="68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黑体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31640" y="134136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判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0" y="1125360"/>
            <a:ext cx="1765440" cy="1109880"/>
          </a:xfrm>
          <a:prstGeom prst="flowChartExtra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1052640"/>
            <a:ext cx="2232000" cy="13716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4480" y="2840040"/>
            <a:ext cx="237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封闭图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1125360"/>
            <a:ext cx="1158840" cy="11098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96000" y="995400"/>
            <a:ext cx="1371600" cy="1355760"/>
          </a:xfrm>
          <a:prstGeom prst="ellipse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68000" y="3541680"/>
            <a:ext cx="7275960" cy="1687320"/>
            <a:chOff x="468000" y="3541680"/>
            <a:chExt cx="7275960" cy="1687320"/>
          </a:xfrm>
        </p:grpSpPr>
        <p:grpSp>
          <p:nvGrpSpPr>
            <p:cNvPr id="141" name=""/>
            <p:cNvGrpSpPr/>
            <p:nvPr/>
          </p:nvGrpSpPr>
          <p:grpSpPr>
            <a:xfrm>
              <a:off x="6013080" y="3873240"/>
              <a:ext cx="1730880" cy="1355760"/>
              <a:chOff x="6013080" y="3873240"/>
              <a:chExt cx="1730880" cy="1355760"/>
            </a:xfrm>
          </p:grpSpPr>
          <p:sp>
            <p:nvSpPr>
              <p:cNvPr id="142" name=""/>
              <p:cNvSpPr/>
              <p:nvPr/>
            </p:nvSpPr>
            <p:spPr>
              <a:xfrm flipH="1">
                <a:off x="6013080" y="3873240"/>
                <a:ext cx="941400" cy="135576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13440" y="5229000"/>
                <a:ext cx="1730520" cy="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954840" y="3873240"/>
                <a:ext cx="465480" cy="80784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68000" y="3541680"/>
              <a:ext cx="1730520" cy="1686960"/>
              <a:chOff x="468000" y="3541680"/>
              <a:chExt cx="1730520" cy="1686960"/>
            </a:xfrm>
          </p:grpSpPr>
          <p:sp>
            <p:nvSpPr>
              <p:cNvPr id="146" name=""/>
              <p:cNvSpPr/>
              <p:nvPr/>
            </p:nvSpPr>
            <p:spPr>
              <a:xfrm flipH="1">
                <a:off x="468000" y="3541680"/>
                <a:ext cx="941400" cy="16869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8360" y="5228640"/>
                <a:ext cx="173016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137040" y="3873240"/>
              <a:ext cx="1728720" cy="1355760"/>
              <a:chOff x="3137040" y="3873240"/>
              <a:chExt cx="1728720" cy="1355760"/>
            </a:xfrm>
          </p:grpSpPr>
          <p:sp>
            <p:nvSpPr>
              <p:cNvPr id="149" name=""/>
              <p:cNvSpPr/>
              <p:nvPr/>
            </p:nvSpPr>
            <p:spPr>
              <a:xfrm>
                <a:off x="3137040" y="5229000"/>
                <a:ext cx="1728720" cy="0"/>
              </a:xfrm>
              <a:prstGeom prst="line">
                <a:avLst/>
              </a:prstGeom>
              <a:ln w="4140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3137040" y="3873240"/>
                <a:ext cx="0" cy="1355760"/>
              </a:xfrm>
              <a:prstGeom prst="line">
                <a:avLst/>
              </a:prstGeom>
              <a:ln w="4140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4865760" y="3873240"/>
                <a:ext cx="0" cy="1355760"/>
              </a:xfrm>
              <a:prstGeom prst="line">
                <a:avLst/>
              </a:prstGeom>
              <a:ln w="4140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179280" y="1052640"/>
            <a:ext cx="2232000" cy="1371600"/>
          </a:xfrm>
          <a:prstGeom prst="rect">
            <a:avLst/>
          </a:prstGeom>
          <a:solidFill>
            <a:srgbClr val="ff33cc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1125360"/>
            <a:ext cx="1158840" cy="1109880"/>
          </a:xfrm>
          <a:prstGeom prst="rect">
            <a:avLst/>
          </a:prstGeom>
          <a:solidFill>
            <a:srgbClr val="009900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125360"/>
            <a:ext cx="1765440" cy="1109880"/>
          </a:xfrm>
          <a:prstGeom prst="flowChartExtract">
            <a:avLst/>
          </a:prstGeom>
          <a:solidFill>
            <a:srgbClr val="6666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29480" y="993600"/>
            <a:ext cx="1371600" cy="1355760"/>
          </a:xfrm>
          <a:prstGeom prst="ellipse">
            <a:avLst/>
          </a:prstGeom>
          <a:solidFill>
            <a:srgbClr val="6600cc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080" y="685800"/>
            <a:ext cx="692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下面哪个图形的面积大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971800"/>
            <a:ext cx="1828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77040" y="2781360"/>
            <a:ext cx="2286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1949400"/>
            <a:ext cx="4176720" cy="3124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96640" y="5029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507348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0" y="1890720"/>
            <a:ext cx="4032360" cy="2546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1916280"/>
            <a:ext cx="3311640" cy="2546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685800"/>
            <a:ext cx="692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下面哪个图形的面积大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4160" y="507348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333399"/>
                </a:solidFill>
                <a:latin typeface="Times New Roman"/>
                <a:ea typeface="隶书"/>
              </a:rPr>
              <a:t>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86600" y="5029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333399"/>
                </a:solidFill>
                <a:latin typeface="Times New Roman"/>
                <a:ea typeface="隶书"/>
              </a:rPr>
              <a:t>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33526E-006 L 0.44098 -4.33526E-006 E">
                                      <p:cBhvr>
                                        <p:cTn id="79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98 1.32948E-006 L -4.16667E-006 1.32948E-006 E">
                                      <p:cBhvr>
                                        <p:cTn id="83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1273320"/>
            <a:ext cx="422892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916360" y="3573360"/>
            <a:ext cx="3273480" cy="609840"/>
            <a:chOff x="2916360" y="3573360"/>
            <a:chExt cx="3273480" cy="609840"/>
          </a:xfrm>
        </p:grpSpPr>
        <p:sp>
          <p:nvSpPr>
            <p:cNvPr id="170" name=""/>
            <p:cNvSpPr/>
            <p:nvPr/>
          </p:nvSpPr>
          <p:spPr>
            <a:xfrm>
              <a:off x="5580000" y="3573360"/>
              <a:ext cx="609840" cy="60984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48200" y="3573360"/>
              <a:ext cx="1008000" cy="609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16360" y="3573360"/>
              <a:ext cx="609480" cy="609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78035E-007 L 0.4125 -5.78035E-007 E">
                                      <p:cBhvr>
                                        <p:cTn id="99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25 4.39306E-006 L 3.33333E-006 4.39306E-006 E">
                                      <p:cBhvr>
                                        <p:cTn id="103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273320"/>
            <a:ext cx="422892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80000" y="357336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48200" y="357336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16360" y="357336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3348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42960" y="1273320"/>
            <a:ext cx="60984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5280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6228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4344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24000" y="1882800"/>
            <a:ext cx="4228920" cy="609480"/>
            <a:chOff x="324000" y="1882800"/>
            <a:chExt cx="4228920" cy="609480"/>
          </a:xfrm>
        </p:grpSpPr>
        <p:sp>
          <p:nvSpPr>
            <p:cNvPr id="186" name=""/>
            <p:cNvSpPr/>
            <p:nvPr/>
          </p:nvSpPr>
          <p:spPr>
            <a:xfrm>
              <a:off x="324000" y="188280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33480" y="188280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42960" y="1882800"/>
              <a:ext cx="60984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52800" y="188280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62280" y="188280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48000" y="188280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43440" y="188280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1273320"/>
            <a:ext cx="403200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80000" y="357336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48200" y="357336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16360" y="357336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127332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187812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1268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40000" y="1268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1268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2720" y="685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2720" y="1295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92720" y="191628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685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08720" y="685800"/>
            <a:ext cx="10083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32000" y="187812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40000" y="187812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1882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00720" y="1295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08720" y="1306440"/>
            <a:ext cx="100836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1905120"/>
            <a:ext cx="10083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32840" y="191628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2781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1273320"/>
            <a:ext cx="426708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3348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42960" y="127332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5280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6228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71760" y="126828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81600" y="1268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3348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42960" y="188280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5280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6228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71760" y="188280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8160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357336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48200" y="357336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16360" y="357336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92720" y="685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92720" y="1295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75440" y="191628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02200" y="68580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2040" y="685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21520" y="685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731000" y="68580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02200" y="129528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12040" y="1295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21520" y="1295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731000" y="130644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02200" y="191628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12040" y="191628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21520" y="19051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31000" y="191628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32720" y="2781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1273320"/>
            <a:ext cx="424800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80000" y="357336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357336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92720" y="685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00720" y="685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08720" y="685800"/>
            <a:ext cx="10083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92720" y="1295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00720" y="1295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08720" y="1306440"/>
            <a:ext cx="100836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92720" y="191628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191628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08720" y="1916280"/>
            <a:ext cx="10083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268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33480" y="1268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42960" y="127332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5280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6228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71760" y="126828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8160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4000" y="1878120"/>
            <a:ext cx="4248000" cy="614160"/>
            <a:chOff x="324000" y="1878120"/>
            <a:chExt cx="4248000" cy="614160"/>
          </a:xfrm>
        </p:grpSpPr>
        <p:sp>
          <p:nvSpPr>
            <p:cNvPr id="272" name=""/>
            <p:cNvSpPr/>
            <p:nvPr/>
          </p:nvSpPr>
          <p:spPr>
            <a:xfrm>
              <a:off x="324000" y="1882800"/>
              <a:ext cx="60948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33480" y="1878120"/>
              <a:ext cx="60948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42960" y="1878120"/>
              <a:ext cx="60984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52800" y="1878120"/>
              <a:ext cx="60948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62280" y="1882800"/>
              <a:ext cx="60948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71760" y="1882800"/>
              <a:ext cx="60984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2520" y="1882800"/>
              <a:ext cx="60948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46240" y="4648320"/>
            <a:ext cx="8135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比较两个图形面积的大小，要用统一的面积单位来测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3:08:49Z</dcterms:created>
  <dc:creator>绿色圃中小学教育网http://www.lspjy.com</dc:creator>
  <dc:description/>
  <cp:keywords>绿色圃中小学教育网http://www.lspjy.com</cp:keywords>
  <dc:language>en-US</dc:language>
  <cp:lastModifiedBy>admin</cp:lastModifiedBy>
  <dcterms:modified xsi:type="dcterms:W3CDTF">2015-01-31T02:13:14Z</dcterms:modified>
  <cp:revision>213</cp:revision>
  <dc:subject/>
  <dc:title>绿色圃中小学教育网http://www.lspjy.com</dc:title>
</cp:coreProperties>
</file>