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29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gif" ContentType="image/gif"/>
  <Override PartName="/ppt/media/image18.wmf" ContentType="image/x-wmf"/>
  <Override PartName="/ppt/media/image20.wmf" ContentType="image/x-wmf"/>
  <Override PartName="/ppt/media/image26.jpeg" ContentType="image/jpe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655-22BA-4B2E-9B02-D7DD188D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D61-0ADE-4017-91E8-8CE26E17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52E-3D19-4F44-A97A-EDB40478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CB4-8F82-456A-A5FE-C04094A4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32C-9A05-4479-9F1D-E8746B16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95D-97AC-4071-90A9-7E4BFA5D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571-C24B-477E-A6E4-818702FE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DBA-BD0D-431E-B504-04BBF523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72A-F3E7-46EF-ABA4-A0AF4E97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629-4105-4A83-8506-FB3C79E4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039-C424-43EE-9E53-57C9B846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34B-56CB-4821-B74B-349A9AFF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E6E9-6E1D-481C-B591-4356C2C5BF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image" Target="../media/image20.wmf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image" Target="../media/image20.wmf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8.wmf"/><Relationship Id="rId16" Type="http://schemas.openxmlformats.org/officeDocument/2006/relationships/image" Target="../media/image19.png"/><Relationship Id="rId17" Type="http://schemas.openxmlformats.org/officeDocument/2006/relationships/image" Target="../media/image20.wmf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515440" y="6148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905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948360" y="765000"/>
            <a:ext cx="1944720" cy="111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09800" y="1243440"/>
            <a:ext cx="118584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600"/>
                </a:solidFill>
                <a:latin typeface="Arial"/>
                <a:ea typeface="华文新魏"/>
              </a:rPr>
              <a:t>时计时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6560" y="106992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  <a:ea typeface="楷体_GB2312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7284600">
            <a:off x="-754200" y="4043160"/>
            <a:ext cx="3384720" cy="2444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32000" y="5732640"/>
            <a:ext cx="287280" cy="792000"/>
          </a:xfrm>
          <a:custGeom>
            <a:avLst/>
            <a:gdLst>
              <a:gd name="textAreaLeft" fmla="*/ 118440 w 287280"/>
              <a:gd name="textAreaRight" fmla="*/ 168840 w 28728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1484280"/>
            <a:ext cx="144360" cy="647640"/>
          </a:xfrm>
          <a:custGeom>
            <a:avLst/>
            <a:gdLst>
              <a:gd name="textAreaLeft" fmla="*/ 59400 w 144360"/>
              <a:gd name="textAreaRight" fmla="*/ 84960 w 144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472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5382 -0.14305 C -0.02986 -0.12546 -0.00642 -0.10949 0.0132 -0.08264 C 0.03264 -0.0544 0.07396 -0.01018 0.06389 0.01713 C 0.05365 0.04329 -0.04531 0.05532 -0.04896 0.07801 C -0.0526 0.10116 0.04063 0.12523 0.0415 0.15486 C 0.04358 0.18495 -0.04149 0.2257 -0.03889 0.25509 C -0.03559 0.28472 0.05973 0.30695 0.05608 0.33125 C 0.05382 0.35486 -0.05434 0.37338 -0.05434 0.39514 C -0.05243 0.41667 0.06684 0.4382 0.06719 0.45995 C 0.06771 0.48079 -0.05069 0.49769 -0.05191 0.51667 C -0.0533 0.53727 0.0408 0.56852 0.05868 0.57801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38889E-006 -0.04699 L -0.00781 -0.74004 E">
                                      <p:cBhvr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7796160" y="384480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6160" y="38448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4202280" y="3886200"/>
            <a:ext cx="5698800" cy="3214440"/>
            <a:chOff x="4202280" y="3886200"/>
            <a:chExt cx="5698800" cy="3214440"/>
          </a:xfrm>
        </p:grpSpPr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4202280" y="3886200"/>
              <a:ext cx="5698800" cy="32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 flipH="1">
              <a:off x="7235640" y="5189400"/>
              <a:ext cx="43128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979640" y="3933720"/>
            <a:ext cx="4174920" cy="1944720"/>
          </a:xfrm>
          <a:prstGeom prst="cloudCallout">
            <a:avLst>
              <a:gd name="adj1" fmla="val 73004"/>
              <a:gd name="adj2" fmla="val 35634"/>
            </a:avLst>
          </a:prstGeom>
          <a:solidFill>
            <a:srgbClr val="ffffcc">
              <a:alpha val="87000"/>
            </a:srgbClr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到达深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981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辆汽车下午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时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40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分从广州开往深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7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808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4202280" y="3886200"/>
            <a:ext cx="5698800" cy="3214440"/>
            <a:chOff x="4202280" y="3886200"/>
            <a:chExt cx="5698800" cy="321444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4202280" y="3886200"/>
              <a:ext cx="5698800" cy="32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 flipH="1">
              <a:off x="7235640" y="5189400"/>
              <a:ext cx="43128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765000"/>
            <a:ext cx="7920000" cy="57596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1773360"/>
            <a:ext cx="2448000" cy="2447640"/>
            <a:chOff x="1116000" y="1773360"/>
            <a:chExt cx="2448000" cy="2447640"/>
          </a:xfrm>
        </p:grpSpPr>
        <p:graphicFrame>
          <p:nvGraphicFramePr>
            <p:cNvPr id="149" name=""/>
            <p:cNvGraphicFramePr/>
            <p:nvPr/>
          </p:nvGraphicFramePr>
          <p:xfrm>
            <a:off x="1116000" y="1773360"/>
            <a:ext cx="2448000" cy="2447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16000" y="1773360"/>
                      <a:ext cx="2448000" cy="24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1" name="" descr=""/>
            <p:cNvPicPr/>
            <p:nvPr/>
          </p:nvPicPr>
          <p:blipFill>
            <a:blip r:embed="rId6"/>
            <a:stretch/>
          </p:blipFill>
          <p:spPr>
            <a:xfrm rot="4980000">
              <a:off x="2517840" y="265068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7"/>
            <a:stretch/>
          </p:blipFill>
          <p:spPr>
            <a:xfrm rot="14359200">
              <a:off x="1972800" y="2728800"/>
              <a:ext cx="168120" cy="83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5148360" y="1773360"/>
            <a:ext cx="2448000" cy="2447640"/>
            <a:chOff x="5148360" y="1773360"/>
            <a:chExt cx="2448000" cy="2447640"/>
          </a:xfrm>
        </p:grpSpPr>
        <p:graphicFrame>
          <p:nvGraphicFramePr>
            <p:cNvPr id="154" name=""/>
            <p:cNvGraphicFramePr/>
            <p:nvPr/>
          </p:nvGraphicFramePr>
          <p:xfrm>
            <a:off x="5148360" y="1773360"/>
            <a:ext cx="2448000" cy="2447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48360" y="1773360"/>
                      <a:ext cx="2448000" cy="24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6" name="" descr=""/>
            <p:cNvPicPr/>
            <p:nvPr/>
          </p:nvPicPr>
          <p:blipFill>
            <a:blip r:embed="rId10"/>
            <a:stretch/>
          </p:blipFill>
          <p:spPr>
            <a:xfrm rot="8586600">
              <a:off x="6430320" y="282312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1"/>
            <a:stretch/>
          </p:blipFill>
          <p:spPr>
            <a:xfrm rot="16051200">
              <a:off x="6005160" y="2553840"/>
              <a:ext cx="168120" cy="8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1114560" y="836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下午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0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83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5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2924280"/>
            <a:ext cx="792360" cy="288720"/>
          </a:xfrm>
          <a:custGeom>
            <a:avLst/>
            <a:gdLst>
              <a:gd name="textAreaLeft" fmla="*/ 99000 w 792360"/>
              <a:gd name="textAreaRight" fmla="*/ 693360 w 792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19280" y="5736960"/>
            <a:ext cx="5616720" cy="143280"/>
            <a:chOff x="1619280" y="5736960"/>
            <a:chExt cx="5616720" cy="143280"/>
          </a:xfrm>
        </p:grpSpPr>
        <p:sp>
          <p:nvSpPr>
            <p:cNvPr id="162" name=""/>
            <p:cNvSpPr/>
            <p:nvPr/>
          </p:nvSpPr>
          <p:spPr>
            <a:xfrm>
              <a:off x="1619280" y="5880240"/>
              <a:ext cx="561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05092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219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416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667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891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08200" y="5222880"/>
            <a:ext cx="5456160" cy="584640"/>
            <a:chOff x="1708200" y="5222880"/>
            <a:chExt cx="5456160" cy="584640"/>
          </a:xfrm>
        </p:grpSpPr>
        <p:sp>
          <p:nvSpPr>
            <p:cNvPr id="169" name=""/>
            <p:cNvSpPr/>
            <p:nvPr/>
          </p:nvSpPr>
          <p:spPr>
            <a:xfrm>
              <a:off x="170820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605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989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2440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3256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995640" y="5877000"/>
            <a:ext cx="2737080" cy="216000"/>
          </a:xfrm>
          <a:prstGeom prst="rect">
            <a:avLst/>
          </a:prstGeom>
          <a:solidFill>
            <a:srgbClr val="ff8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193920" y="4653000"/>
            <a:ext cx="1162080" cy="655560"/>
            <a:chOff x="3193920" y="4653000"/>
            <a:chExt cx="1162080" cy="655560"/>
          </a:xfrm>
        </p:grpSpPr>
        <p:pic>
          <p:nvPicPr>
            <p:cNvPr id="176" name="" descr=""/>
            <p:cNvPicPr/>
            <p:nvPr/>
          </p:nvPicPr>
          <p:blipFill>
            <a:blip r:embed="rId12"/>
            <a:stretch/>
          </p:blipFill>
          <p:spPr>
            <a:xfrm flipH="1">
              <a:off x="3193920" y="4653000"/>
              <a:ext cx="11620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3"/>
            <a:stretch/>
          </p:blipFill>
          <p:spPr>
            <a:xfrm flipH="1">
              <a:off x="3812400" y="4918680"/>
              <a:ext cx="87840" cy="81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L 0.29983 -2.22222E-006 E">
                                      <p:cBhvr>
                                        <p:cTn id="24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4202280" y="3886200"/>
            <a:ext cx="5698800" cy="3214440"/>
            <a:chOff x="4202280" y="3886200"/>
            <a:chExt cx="5698800" cy="321444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4202280" y="3886200"/>
              <a:ext cx="5698800" cy="32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 flipH="1">
              <a:off x="7235640" y="5189400"/>
              <a:ext cx="43128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765000"/>
            <a:ext cx="7920000" cy="57596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16000" y="1773360"/>
            <a:ext cx="2448000" cy="2447640"/>
            <a:chOff x="1116000" y="1773360"/>
            <a:chExt cx="2448000" cy="2447640"/>
          </a:xfrm>
        </p:grpSpPr>
        <p:graphicFrame>
          <p:nvGraphicFramePr>
            <p:cNvPr id="185" name=""/>
            <p:cNvGraphicFramePr/>
            <p:nvPr/>
          </p:nvGraphicFramePr>
          <p:xfrm>
            <a:off x="1116000" y="1773360"/>
            <a:ext cx="2448000" cy="2447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16000" y="1773360"/>
                      <a:ext cx="2448000" cy="24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87" name="" descr=""/>
            <p:cNvPicPr/>
            <p:nvPr/>
          </p:nvPicPr>
          <p:blipFill>
            <a:blip r:embed="rId6"/>
            <a:stretch/>
          </p:blipFill>
          <p:spPr>
            <a:xfrm rot="4980000">
              <a:off x="2517840" y="265068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7"/>
            <a:stretch/>
          </p:blipFill>
          <p:spPr>
            <a:xfrm rot="14359200">
              <a:off x="1972800" y="2728800"/>
              <a:ext cx="168120" cy="83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5148360" y="1773360"/>
            <a:ext cx="2448000" cy="2447640"/>
            <a:chOff x="5148360" y="1773360"/>
            <a:chExt cx="2448000" cy="2447640"/>
          </a:xfrm>
        </p:grpSpPr>
        <p:graphicFrame>
          <p:nvGraphicFramePr>
            <p:cNvPr id="190" name=""/>
            <p:cNvGraphicFramePr/>
            <p:nvPr/>
          </p:nvGraphicFramePr>
          <p:xfrm>
            <a:off x="5148360" y="1773360"/>
            <a:ext cx="2448000" cy="2447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48360" y="1773360"/>
                      <a:ext cx="2448000" cy="24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2" name="" descr=""/>
            <p:cNvPicPr/>
            <p:nvPr/>
          </p:nvPicPr>
          <p:blipFill>
            <a:blip r:embed="rId10"/>
            <a:stretch/>
          </p:blipFill>
          <p:spPr>
            <a:xfrm rot="8586600">
              <a:off x="6430320" y="282312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1"/>
            <a:stretch/>
          </p:blipFill>
          <p:spPr>
            <a:xfrm rot="16051200">
              <a:off x="6005160" y="2553840"/>
              <a:ext cx="168120" cy="8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1114560" y="836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下午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0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83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5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924280"/>
            <a:ext cx="792360" cy="288720"/>
          </a:xfrm>
          <a:custGeom>
            <a:avLst/>
            <a:gdLst>
              <a:gd name="textAreaLeft" fmla="*/ 99000 w 792360"/>
              <a:gd name="textAreaRight" fmla="*/ 693360 w 792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619280" y="5736960"/>
            <a:ext cx="5616720" cy="143280"/>
            <a:chOff x="1619280" y="5736960"/>
            <a:chExt cx="5616720" cy="143280"/>
          </a:xfrm>
        </p:grpSpPr>
        <p:sp>
          <p:nvSpPr>
            <p:cNvPr id="198" name=""/>
            <p:cNvSpPr/>
            <p:nvPr/>
          </p:nvSpPr>
          <p:spPr>
            <a:xfrm>
              <a:off x="1619280" y="5880240"/>
              <a:ext cx="561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5092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219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416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667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91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708200" y="5222880"/>
            <a:ext cx="5456160" cy="584640"/>
            <a:chOff x="1708200" y="5222880"/>
            <a:chExt cx="5456160" cy="584640"/>
          </a:xfrm>
        </p:grpSpPr>
        <p:sp>
          <p:nvSpPr>
            <p:cNvPr id="205" name=""/>
            <p:cNvSpPr/>
            <p:nvPr/>
          </p:nvSpPr>
          <p:spPr>
            <a:xfrm>
              <a:off x="170820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605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989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440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3256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857920" y="4789440"/>
            <a:ext cx="1162080" cy="655560"/>
            <a:chOff x="5857920" y="4789440"/>
            <a:chExt cx="1162080" cy="655560"/>
          </a:xfrm>
        </p:grpSpPr>
        <p:pic>
          <p:nvPicPr>
            <p:cNvPr id="211" name="" descr=""/>
            <p:cNvPicPr/>
            <p:nvPr/>
          </p:nvPicPr>
          <p:blipFill>
            <a:blip r:embed="rId12"/>
            <a:stretch/>
          </p:blipFill>
          <p:spPr>
            <a:xfrm flipH="1">
              <a:off x="5857920" y="4789440"/>
              <a:ext cx="11620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3"/>
            <a:stretch/>
          </p:blipFill>
          <p:spPr>
            <a:xfrm flipH="1">
              <a:off x="6476400" y="5055120"/>
              <a:ext cx="87840" cy="8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>
            <a:off x="1417320" y="128736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＝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4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时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40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48320" y="414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时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51960" y="414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时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76360" y="4221000"/>
            <a:ext cx="5832360" cy="1237320"/>
            <a:chOff x="1476360" y="4221000"/>
            <a:chExt cx="5832360" cy="1237320"/>
          </a:xfrm>
        </p:grpSpPr>
        <p:sp>
          <p:nvSpPr>
            <p:cNvPr id="217" name=""/>
            <p:cNvSpPr/>
            <p:nvPr/>
          </p:nvSpPr>
          <p:spPr>
            <a:xfrm>
              <a:off x="1476360" y="426708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时间＝ </a:t>
              </a:r>
              <a:r>
                <a:rPr b="1" lang="zh-CN" sz="3600" spc="-1" strike="noStrike">
                  <a:solidFill>
                    <a:srgbClr val="8181ff"/>
                  </a:solidFill>
                  <a:latin typeface="黑体"/>
                  <a:ea typeface="黑体"/>
                </a:rPr>
                <a:t>后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时刻 －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8181ff"/>
                  </a:solidFill>
                  <a:latin typeface="Arial"/>
                  <a:ea typeface="黑体"/>
                </a:rPr>
                <a:t>前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时刻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47640" y="4221000"/>
              <a:ext cx="5760720" cy="72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995640" y="5877000"/>
            <a:ext cx="2737080" cy="216000"/>
          </a:xfrm>
          <a:prstGeom prst="rect">
            <a:avLst/>
          </a:prstGeom>
          <a:solidFill>
            <a:srgbClr val="ff8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457440" cy="4968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348000" y="7254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楷体_GB2312"/>
              </a:rPr>
              <a:t>用的是哪种计时法？照样子填一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554040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楷体_GB2312"/>
              </a:rPr>
              <a:t>下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︰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2708280"/>
            <a:ext cx="2087640" cy="79200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84720" y="371628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472428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566100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04000" y="342900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443700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38920" y="537372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04000" y="631044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59640" y="573408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凌晨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︰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77080" y="37958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晚上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6960" y="213372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计时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1320" y="2117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普通计时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4360" y="1773360"/>
          <a:ext cx="7931160" cy="4535280"/>
        </p:xfrm>
        <a:graphic>
          <a:graphicData uri="http://schemas.openxmlformats.org/drawingml/2006/table">
            <a:tbl>
              <a:tblPr/>
              <a:tblGrid>
                <a:gridCol w="2232000"/>
                <a:gridCol w="3024000"/>
                <a:gridCol w="267516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普通计时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4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时计时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起   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上午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︰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上   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上午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︰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午   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中午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︰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放   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下午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︰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晚   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晚上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︰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做作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晚上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︰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睡   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晚上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︰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826920" y="620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新魏"/>
              </a:rPr>
              <a:t>下面是小红作息时间表的一部分，你能用两种计时法来表示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48000" y="2349360"/>
            <a:ext cx="936720" cy="3959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27080" y="2371680"/>
            <a:ext cx="169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672000" y="1008000"/>
            <a:ext cx="5292720" cy="5516280"/>
            <a:chOff x="3672000" y="1008000"/>
            <a:chExt cx="5292720" cy="5516280"/>
          </a:xfrm>
        </p:grpSpPr>
        <p:sp>
          <p:nvSpPr>
            <p:cNvPr id="243" name=""/>
            <p:cNvSpPr/>
            <p:nvPr/>
          </p:nvSpPr>
          <p:spPr>
            <a:xfrm>
              <a:off x="5696640" y="5052960"/>
              <a:ext cx="1241280" cy="1471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72000" y="1008000"/>
              <a:ext cx="5292720" cy="3067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98880" y="1313280"/>
              <a:ext cx="4703760" cy="386064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98880" y="1313280"/>
              <a:ext cx="4703760" cy="0"/>
            </a:xfrm>
            <a:prstGeom prst="line">
              <a:avLst/>
            </a:prstGeom>
            <a:ln w="63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55000" y="1743120"/>
              <a:ext cx="3724560" cy="5511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86400" y="2478240"/>
              <a:ext cx="3462120" cy="251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4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取信时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一次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︰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二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三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0" y="1413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你能标出取信时间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3500280"/>
            <a:ext cx="3745080" cy="2089440"/>
          </a:xfrm>
          <a:prstGeom prst="cloudCallout">
            <a:avLst>
              <a:gd name="adj1" fmla="val -49111"/>
              <a:gd name="adj2" fmla="val 54712"/>
            </a:avLst>
          </a:prstGeom>
          <a:solidFill>
            <a:srgbClr val="c1ddbd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每隔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小时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取一次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8240" y="4581360"/>
            <a:ext cx="1120680" cy="1865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0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1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4083120" y="1339920"/>
            <a:ext cx="3657600" cy="4321080"/>
            <a:chOff x="4083120" y="1339920"/>
            <a:chExt cx="3657600" cy="4321080"/>
          </a:xfrm>
        </p:grpSpPr>
        <p:sp>
          <p:nvSpPr>
            <p:cNvPr id="254" name=""/>
            <p:cNvSpPr/>
            <p:nvPr/>
          </p:nvSpPr>
          <p:spPr>
            <a:xfrm>
              <a:off x="4083120" y="1339920"/>
              <a:ext cx="3457440" cy="417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4227480" y="1339920"/>
              <a:ext cx="3513240" cy="43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"/>
          <p:cNvGrpSpPr/>
          <p:nvPr/>
        </p:nvGrpSpPr>
        <p:grpSpPr>
          <a:xfrm>
            <a:off x="324000" y="692280"/>
            <a:ext cx="3536640" cy="2665440"/>
            <a:chOff x="324000" y="692280"/>
            <a:chExt cx="3536640" cy="2665440"/>
          </a:xfrm>
        </p:grpSpPr>
        <p:sp>
          <p:nvSpPr>
            <p:cNvPr id="257" name=""/>
            <p:cNvSpPr/>
            <p:nvPr/>
          </p:nvSpPr>
          <p:spPr>
            <a:xfrm>
              <a:off x="324000" y="692280"/>
              <a:ext cx="3527280" cy="2665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4000" y="1123920"/>
              <a:ext cx="353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本街道每天禁止车辆通行的时间有多长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260" name=""/>
          <p:cNvGrpSpPr/>
          <p:nvPr/>
        </p:nvGrpSpPr>
        <p:grpSpPr>
          <a:xfrm>
            <a:off x="2843280" y="4292640"/>
            <a:ext cx="6192360" cy="2232000"/>
            <a:chOff x="2843280" y="4292640"/>
            <a:chExt cx="6192360" cy="2232000"/>
          </a:xfrm>
        </p:grpSpPr>
        <p:sp>
          <p:nvSpPr>
            <p:cNvPr id="261" name=""/>
            <p:cNvSpPr/>
            <p:nvPr/>
          </p:nvSpPr>
          <p:spPr>
            <a:xfrm>
              <a:off x="2843280" y="4292640"/>
              <a:ext cx="4465440" cy="2089080"/>
            </a:xfrm>
            <a:prstGeom prst="cloudCallout">
              <a:avLst>
                <a:gd name="adj1" fmla="val 81282"/>
                <a:gd name="adj2" fmla="val 22796"/>
              </a:avLst>
            </a:prstGeom>
            <a:solidFill>
              <a:srgbClr val="ffffcc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32000" y="4724280"/>
              <a:ext cx="41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储蓄业务每天的营业时间有多长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 flipH="1">
              <a:off x="7914960" y="4659480"/>
              <a:ext cx="1120680" cy="1865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00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190400">
            <a:off x="3492360" y="1052280"/>
            <a:ext cx="1976400" cy="116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45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0000"/>
                </a:solidFill>
                <a:latin typeface="华文新魏"/>
              </a:rPr>
              <a:t>火车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0000"/>
              </a:solidFill>
              <a:latin typeface="华文新魏"/>
              <a:ea typeface="华文新魏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08720" y="371628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62840" y="393372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315200" y="436572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8317080" y="4437000"/>
            <a:ext cx="94284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819920" y="472428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8323200" y="5516640"/>
            <a:ext cx="1047960" cy="1076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35280" y="1916280"/>
            <a:ext cx="6697800" cy="5113080"/>
          </a:xfrm>
          <a:prstGeom prst="cloudCallout">
            <a:avLst>
              <a:gd name="adj1" fmla="val -50259"/>
              <a:gd name="adj2" fmla="val 14453"/>
            </a:avLst>
          </a:prstGeom>
          <a:solidFill>
            <a:srgbClr val="ffffff">
              <a:alpha val="86000"/>
            </a:srgbClr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518000" y="3213000"/>
            <a:ext cx="4591080" cy="3038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2916360" y="4292640"/>
            <a:ext cx="167004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98880" y="2421000"/>
            <a:ext cx="39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我下午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点就赶过来了，怎么还是晚了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0" y="299736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820800" y="3213000"/>
            <a:ext cx="94284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2"/>
          <a:stretch/>
        </p:blipFill>
        <p:spPr>
          <a:xfrm>
            <a:off x="388800" y="3645000"/>
            <a:ext cx="943200" cy="18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3"/>
          <a:stretch/>
        </p:blipFill>
        <p:spPr>
          <a:xfrm>
            <a:off x="826920" y="4005360"/>
            <a:ext cx="94320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4"/>
          <a:stretch/>
        </p:blipFill>
        <p:spPr>
          <a:xfrm>
            <a:off x="-108000" y="378936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5"/>
          <a:stretch/>
        </p:blipFill>
        <p:spPr>
          <a:xfrm>
            <a:off x="-36360" y="450864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6"/>
          <a:stretch/>
        </p:blipFill>
        <p:spPr>
          <a:xfrm>
            <a:off x="1116000" y="450864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7"/>
          <a:stretch/>
        </p:blipFill>
        <p:spPr>
          <a:xfrm>
            <a:off x="684360" y="486900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8"/>
          <a:stretch/>
        </p:blipFill>
        <p:spPr>
          <a:xfrm>
            <a:off x="0" y="5516640"/>
            <a:ext cx="1047600" cy="107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00720" y="4076640"/>
            <a:ext cx="1008000" cy="36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69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4360" y="620640"/>
            <a:ext cx="8820360" cy="59770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211640" y="3062160"/>
            <a:ext cx="4687920" cy="3391200"/>
          </a:xfrm>
          <a:prstGeom prst="rect">
            <a:avLst/>
          </a:prstGeom>
          <a:ln w="88920">
            <a:solidFill>
              <a:srgbClr val="998767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7020000" y="5372280"/>
            <a:ext cx="1224000" cy="72072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620640"/>
            <a:ext cx="8748720" cy="590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873080" y="1341360"/>
            <a:ext cx="2411640" cy="3382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4157640" cy="583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56000" y="4795920"/>
            <a:ext cx="1224000" cy="72072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498920" y="5734080"/>
            <a:ext cx="1657440" cy="72072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c1d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592520" cy="5688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92360" y="5373720"/>
            <a:ext cx="1008360" cy="50328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11280" y="620640"/>
            <a:ext cx="8064000" cy="4679640"/>
            <a:chOff x="611280" y="620640"/>
            <a:chExt cx="8064000" cy="4679640"/>
          </a:xfrm>
        </p:grpSpPr>
        <p:grpSp>
          <p:nvGrpSpPr>
            <p:cNvPr id="87" name=""/>
            <p:cNvGrpSpPr/>
            <p:nvPr/>
          </p:nvGrpSpPr>
          <p:grpSpPr>
            <a:xfrm>
              <a:off x="611280" y="1121760"/>
              <a:ext cx="8064000" cy="4178520"/>
              <a:chOff x="611280" y="1121760"/>
              <a:chExt cx="8064000" cy="4178520"/>
            </a:xfrm>
          </p:grpSpPr>
          <p:sp>
            <p:nvSpPr>
              <p:cNvPr id="88" name=""/>
              <p:cNvSpPr/>
              <p:nvPr/>
            </p:nvSpPr>
            <p:spPr>
              <a:xfrm>
                <a:off x="611280" y="1121760"/>
                <a:ext cx="8064000" cy="417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86274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909000" y="1320480"/>
                <a:ext cx="7464960" cy="3713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450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2700360" y="620640"/>
              <a:ext cx="360360" cy="50112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88000" y="620640"/>
              <a:ext cx="360360" cy="50112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187280" y="16444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一日（天）里，钟表上的时针正好走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两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共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。所以，经常采用从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0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到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的计时方法，通常叫做</a:t>
            </a:r>
            <a:r>
              <a:rPr b="1" lang="zh-CN" sz="4000" spc="-1" strike="noStrike">
                <a:solidFill>
                  <a:srgbClr val="ee0000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ee0000"/>
                </a:solidFill>
                <a:latin typeface="华文新魏"/>
                <a:ea typeface="华文新魏"/>
              </a:rPr>
              <a:t>时计时法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703520" y="354348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788000" y="1557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300720" y="3645000"/>
            <a:ext cx="838440" cy="822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6012000" y="2565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8028000" y="227664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1981080" y="636480"/>
            <a:ext cx="838440" cy="822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276720" y="636480"/>
            <a:ext cx="838080" cy="822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5410080" y="636480"/>
            <a:ext cx="838440" cy="822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7910640" y="105264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7812000" y="3789360"/>
            <a:ext cx="838440" cy="8222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928520" y="476280"/>
            <a:ext cx="6337080" cy="3213000"/>
            <a:chOff x="1928520" y="476280"/>
            <a:chExt cx="6337080" cy="3213000"/>
          </a:xfrm>
        </p:grpSpPr>
        <p:grpSp>
          <p:nvGrpSpPr>
            <p:cNvPr id="107" name=""/>
            <p:cNvGrpSpPr/>
            <p:nvPr/>
          </p:nvGrpSpPr>
          <p:grpSpPr>
            <a:xfrm>
              <a:off x="1928520" y="820440"/>
              <a:ext cx="6337080" cy="2868840"/>
              <a:chOff x="1928520" y="820440"/>
              <a:chExt cx="6337080" cy="2868840"/>
            </a:xfrm>
          </p:grpSpPr>
          <p:sp>
            <p:nvSpPr>
              <p:cNvPr id="108" name=""/>
              <p:cNvSpPr/>
              <p:nvPr/>
            </p:nvSpPr>
            <p:spPr>
              <a:xfrm flipV="1" rot="10800000">
                <a:off x="1928520" y="820080"/>
                <a:ext cx="6337080" cy="2868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86274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 rot="10800000">
                <a:off x="2165400" y="956880"/>
                <a:ext cx="5866200" cy="2549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450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V="1" rot="10800000">
              <a:off x="6341040" y="476280"/>
              <a:ext cx="282960" cy="34416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10800000">
              <a:off x="3286080" y="476280"/>
              <a:ext cx="282960" cy="34416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564000" y="3500280"/>
            <a:ext cx="3024000" cy="3024360"/>
            <a:chOff x="3564000" y="3500280"/>
            <a:chExt cx="3024000" cy="3024360"/>
          </a:xfrm>
        </p:grpSpPr>
        <p:graphicFrame>
          <p:nvGraphicFramePr>
            <p:cNvPr id="113" name=""/>
            <p:cNvGraphicFramePr/>
            <p:nvPr/>
          </p:nvGraphicFramePr>
          <p:xfrm>
            <a:off x="3564000" y="3500280"/>
            <a:ext cx="3024000" cy="30243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564000" y="3500280"/>
                      <a:ext cx="302400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5" name="" descr=""/>
            <p:cNvPicPr/>
            <p:nvPr/>
          </p:nvPicPr>
          <p:blipFill>
            <a:blip r:embed="rId16"/>
            <a:stretch/>
          </p:blipFill>
          <p:spPr>
            <a:xfrm rot="14293200">
              <a:off x="4760640" y="4691520"/>
              <a:ext cx="267120" cy="8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7"/>
            <a:stretch/>
          </p:blipFill>
          <p:spPr>
            <a:xfrm>
              <a:off x="4984920" y="4174920"/>
              <a:ext cx="20700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3316320" y="1123920"/>
            <a:ext cx="37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＋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＝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2920" y="1892160"/>
            <a:ext cx="201600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晚上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40240" y="26416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（普通计时法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1908000"/>
            <a:ext cx="165744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23680" y="2616120"/>
            <a:ext cx="25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时计时法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4920" y="2058840"/>
            <a:ext cx="863640" cy="287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8"/>
          <a:stretch/>
        </p:blipFill>
        <p:spPr>
          <a:xfrm>
            <a:off x="108000" y="4483080"/>
            <a:ext cx="2232000" cy="204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419720" y="3048120"/>
          <a:ext cx="30456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0481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620640"/>
            <a:ext cx="3961080" cy="297036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26920" y="3389400"/>
            <a:ext cx="3600720" cy="263196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163080" y="5396040"/>
            <a:ext cx="4334760" cy="113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00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中国申奥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954760" y="620640"/>
            <a:ext cx="3009960" cy="44449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702320" y="2468520"/>
            <a:ext cx="2030400" cy="30481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627080" y="5373720"/>
            <a:ext cx="4334760" cy="113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00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神六”发射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16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绿色圃中小学教育网http://www.lspjy.com</dc:creator>
  <dc:description/>
  <cp:keywords>绿色圃中小学教育网http://www.lspjy.com</cp:keywords>
  <dc:language>en-US</dc:language>
  <cp:lastModifiedBy>admin</cp:lastModifiedBy>
  <dcterms:modified xsi:type="dcterms:W3CDTF">2015-01-30T09:38:47Z</dcterms:modified>
  <cp:revision>1510</cp:revision>
  <dc:subject/>
  <dc:title>绿色圃中小学教育网http://www.lspjy.com</dc:title>
</cp:coreProperties>
</file>