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1.wmf" ContentType="image/x-wmf"/>
  <Override PartName="/ppt/media/image3.png" ContentType="image/png"/>
  <Override PartName="/ppt/media/camera.wav" ContentType="audio/x-wav"/>
  <Override PartName="/ppt/media/type.wav" ContentType="audio/x-wav"/>
  <Override PartName="/ppt/media/image12.wmf" ContentType="image/x-wmf"/>
  <Override PartName="/ppt/media/chimes.wav" ContentType="audio/x-wav"/>
  <Override PartName="/ppt/media/image10.png" ContentType="image/png"/>
  <Override PartName="/ppt/media/image2.png" ContentType="image/png"/>
  <Override PartName="/ppt/media/image4.jpeg" ContentType="image/jpeg"/>
  <Override PartName="/ppt/media/s022.WAV" ContentType="audio/x-wav"/>
  <Override PartName="/ppt/media/image5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  <p:custShowLst>
    <p:custShow name="自定义放映1" id="0">
      <p:sldLst>
        <p:sld r:id="rId3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86D-810C-4DA2-AD80-35A27CB7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F85-4B18-4B1F-981C-B4CC9901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30110-18A7-4130-8D65-B80F4423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5255-2C6F-4C0D-A376-E50EA9F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A6A9-DD3B-45C8-8AAA-B61ABB92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A810-6F30-49B2-8B1D-840DBDE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51974-3A21-4784-A093-24234A4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DAA7-BA0E-49EF-955E-AFA2FEF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7A66B-7280-4AE6-8141-B5EDDCA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46A6A-F1D3-4169-B8DE-A0F04A7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54C28-0656-4F6F-B964-4A3F4CFA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6C7A6-B357-4C08-95E6-A0DA12F0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134-E685-41F8-9F04-2F8A0CF0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92292-F2CB-4E37-A541-516DA65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5B014-4D90-40E0-8FCC-36EC6D02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E9D6D-47DA-46E4-A75E-661D7F2D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E8758-6055-4F72-AE92-CCBB18BD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6E3A9-B206-4A52-B550-28B42FBD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1B933-446C-46B7-8849-DC07A7F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CBEA-BE2A-4C73-A5D9-B55ADC2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77F29-7E91-44D2-B071-46AE5FD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1BC93-B4D4-4E39-B48D-F38D585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B161A-C6BF-4010-BC11-8B118A81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B26-3A70-46DF-AACF-C1585AAB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EF045-DBE0-4E39-BE79-91F87E53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0C5F2-1175-4C52-8526-66531153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66493-1B04-452F-BB7B-9D398EFF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F9CAE-1267-43F8-AD28-445E8D7F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EBABA-DE15-424E-A4FE-6D1EF75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6C172-84F7-4A9E-B9E5-3D2292E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9673-32ED-430C-900B-13087E6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3F58-6468-44F1-BC7E-0B96E54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6628-C7A6-45BE-877C-C2CA46A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9F8D-54EF-4773-B06A-E9CDCD1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4669-AB0E-496D-80F3-1F23F445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1E862-031C-433E-A738-6340E196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1179B-D94C-449C-8CC6-81DC6110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2889-A2F0-4288-BE74-1BF0EA6E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8237F-502E-45A8-AF2A-9FC4FDC1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39F85-0446-4553-A7CF-39E93B1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E1F11-6406-4A77-868A-D12B616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D4F9C-B8C9-4833-9679-273E74F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3A29C-101B-43A9-AEB5-D11F0FA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607F2-89BA-43F5-B76D-1F32B23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12DAB-6794-4205-8293-02B0100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3E9-AB95-4AFF-AABC-0980DA19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CFE26-6972-4124-95B9-CEDDF46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FB0CB-14FA-4F33-AA5B-1380B24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3047-A4C1-44D4-8AAC-82C8ACC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86A4A-E744-4E16-AE93-E221F629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FC4C9-73EF-470E-A750-07A2A4A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5020A-0987-4F72-9602-4D3D2D5C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9422F-B4B0-457C-9826-136A74D5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54497-F63B-474D-B358-0FED50B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2FA43-6AF1-461C-BEE7-F4EAF23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AAD09-31A5-46CF-B52C-2DCD4DBC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5BD3-1C47-4FBF-9A21-B10F31B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C28A8-8A5F-4214-88D5-49D6725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623AA-DC42-46F8-BAB6-1EDBC74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91DA6-4EFA-47F9-A62C-EABA90F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D6E43-FE65-422B-93D2-3B1201C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FD99F-28F9-4630-B57A-848C8D7E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04E03-C20F-4B40-8296-BDFFB3CA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FA1F6-A4F0-48B5-97CB-1C0DAEF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9BE-4560-489C-92D8-86EB23D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9AF-E67E-43BF-B06F-4A99052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013C-F130-413F-9857-81CB211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ED0D-C21D-4737-BED6-6ED642F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94D-42B1-4CD6-B15E-E82BD2E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BEC-8D3D-49E7-BE8E-A28FA6C8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1B00-7690-4AF8-ADC6-27830FB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2E1A-0C65-4A20-AA50-67A0A42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F67C-6FC9-443F-89A8-EE26104D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977-B784-428D-8E58-57261381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55AA-79A3-458B-9FE3-14AB1AA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890C-180A-44B5-8A23-AF0FD94D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7256-353A-4BA7-B888-CA79BFF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7715-19BA-4831-95E5-202DD04D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4C4E-0618-449E-B7E5-4983DFB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BA6-000C-4D50-952F-9195166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9F5D-0023-4A1F-B30C-0B49A06D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32F5-16B7-409E-BC29-5655DA2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A550-F774-4641-ABAD-F9F9F68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99C3-7F58-49ED-95DD-B427A1F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6D40-607B-469F-B607-C6FAC2BB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24EA-8049-4E1C-B2A4-B4C8BB11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9712-4A74-476E-B133-4AE49C85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D4B1-4866-4A7F-BCD0-D8AE27B4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58CE2-6F05-48C7-AE5B-9A5529C2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20E2-8F49-465E-BFAF-FAF90213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EA7-CEB4-4F23-9247-9D6714D8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45FB-DF7C-427D-8E89-31CBB92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93F0-69CB-435F-95E8-F897BDAF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BE69-7205-427C-9EAF-E5143A7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98C4-DA59-404E-AD7A-05CA7DF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BFC7-6233-412D-BC5A-A1960CBC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B469-89A2-477F-B3D0-C7464A7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BABE-F677-4733-A90D-BB3900A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51B0-62C0-4831-A2BF-C2A4A337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80BB-D5D3-4977-9C77-5C2292DE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5B7C1-1EDF-4CFB-8AFF-A2A8F444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7AE-33CC-4E5E-B198-9A9089E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3E37-76D3-4486-AC3D-E45A4923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CBB0-6A41-4E7E-8DCA-F73A2E46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2EF88-A672-407D-A754-6014DFFD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0EF1-D5E1-4B00-8732-813E7DB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696B-04E9-4514-8194-9BF93D5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B1AC-D6B1-4C46-A0A5-E4BC59B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C2F2-1135-437A-8958-0701ED1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9441-10BF-4962-BB94-70B485F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E842-5517-4EF7-9C20-22905D4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32D52-B744-46ED-9F5D-DEF48344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072-10CB-4626-87D7-51C7CF61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3435-1492-43D1-9622-8F196278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E6A4-7FFC-493F-9F61-2435A72C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2A8C-F1DE-4AD5-9F7E-B60EDBF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FE7E-E9FF-427F-B615-016731C7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4645-28AD-4DD0-B0D3-5A5D1D0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D128-7395-494F-9B1F-C2547573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4BED-212F-4690-AB31-135C5B7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23F5-8EA9-4CFD-B7F5-3E6DB1F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52FB1-295A-4279-A752-7D79045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8B678-7393-4B13-B712-349D564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DF7-508F-4F19-8D9F-65C656E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B972-FADF-4C7D-A79B-D53C318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EED9C-BE50-4624-A475-25255A6D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DD19-3FB7-4CDD-AD71-2579A109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1DE4-0D0E-4A05-930E-F3F3C85B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8401-C9C0-47E3-8B97-58BE15F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5234-8644-4D68-BD46-FB61CB9F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15E50-90CC-4E35-9052-1352071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4500-C67A-4368-9811-6DCB4CA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C8F2C-C56E-4725-B094-03C9247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9ABC-8BF9-4CB1-9160-5AE3E96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E0C-B006-41DE-A8AA-BE397483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0EBB-3D8D-46FF-B23F-8A00D97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3A1D-769A-4E0F-A3E7-02CDF88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7D4F-13C1-492C-9000-B09588F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47D48-73E0-40A2-868B-E0ADA100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B51B-5218-4280-BE7D-C6ABE742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C2A2-D8AA-4ECC-835A-DCA3E434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B132E-2A9C-4102-AC20-2895DE4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70CA7-0AFA-479D-959D-E763C56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9A2EF-1C45-47D8-95E6-BC3DA728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76E7-5DD2-4113-B451-C09AFE0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540-C1D6-4EBB-BE3C-199F054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9A3B7-7B1A-4DBB-9874-290D381F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655A-7863-43C7-A6DB-751C48C0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CFFE-5F9A-48A5-A530-AD5EF25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EBA91-A5EF-46B6-876B-190AB8E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84D3-E098-448B-AED1-1F9A104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C495-799C-498F-92DE-89C277B5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87CE-6925-41FB-AAA1-0116041A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4680A-00DA-410E-94C9-30AC8C9D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E3374-1846-42E8-B478-4A1221E2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7F757-BE98-4D7D-8E1F-42A7B75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FB0A-671B-4128-B2B9-5AF6F0863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CB7-3170-428E-9ACE-36FB92D8FC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12C-645F-463C-9980-CF9D40CE58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86D-1DBE-4D12-A4DD-B605A474D1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825-E4C5-4272-9A86-5A9A04ACBE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49A-CCF1-4F47-B4AF-875C916366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C3A-C33E-4974-A5CD-E6AF1966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537-E63C-4F97-BF08-248C2E9A12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73C-2BE7-4DFD-BADD-827275A8E2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C44-0081-4043-AC7C-60123C0D1C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F85-76BC-45E9-A080-D47EAB078A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7327-FD6A-482A-BC85-F5E2667A37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3BDA-1F36-4FD7-AF3A-00DE2FEB9A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02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rcRect l="0" t="0" r="11779" b="38630"/>
          <a:stretch/>
        </p:blipFill>
        <p:spPr>
          <a:xfrm>
            <a:off x="573120" y="1768320"/>
            <a:ext cx="8067600" cy="4208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026"/>
          <p:cNvSpPr/>
          <p:nvPr/>
        </p:nvSpPr>
        <p:spPr>
          <a:xfrm>
            <a:off x="1422360" y="411120"/>
            <a:ext cx="65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珍珠泉</a:t>
            </a:r>
            <a:endParaRPr b="0" lang="en-US" sz="1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4" name="Rectangle 1027"/>
          <p:cNvSpPr/>
          <p:nvPr/>
        </p:nvSpPr>
        <p:spPr>
          <a:xfrm>
            <a:off x="34624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5" name="Text Box 1029"/>
          <p:cNvSpPr/>
          <p:nvPr/>
        </p:nvSpPr>
        <p:spPr>
          <a:xfrm>
            <a:off x="7435800" y="2895480"/>
            <a:ext cx="1098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6" name="Text Box 1031"/>
          <p:cNvSpPr/>
          <p:nvPr/>
        </p:nvSpPr>
        <p:spPr>
          <a:xfrm>
            <a:off x="7667640" y="6308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s02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0" y="1557360"/>
            <a:ext cx="9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3468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243468"/>
                </a:solidFill>
                <a:latin typeface="Times New Roman"/>
              </a:rPr>
              <a:t>水是那样绿，绿得像是被周围的绿树、绿草染过的。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11280" y="4581360"/>
            <a:ext cx="878508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43468"/>
                </a:solidFill>
                <a:latin typeface="Times New Roman"/>
              </a:rPr>
              <a:t>水是那样绿，很绿很绿。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539640" y="4762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Times New Roman"/>
              </a:rPr>
              <a:t>比较</a:t>
            </a:r>
            <a:r>
              <a:rPr b="0" lang="zh-CN" sz="6000" spc="-1" strike="noStrike">
                <a:solidFill>
                  <a:srgbClr val="2a3d7a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522360" y="314172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写出了绿的程度。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560520" y="39117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比喻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468360" y="4005360"/>
            <a:ext cx="899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                  </a:t>
            </a:r>
            <a:r>
              <a:rPr b="0" lang="zh-CN" sz="40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表达了作者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对珍珠泉的喜爱之情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SO01871_"/>
          <p:cNvPicPr/>
          <p:nvPr/>
        </p:nvPicPr>
        <p:blipFill>
          <a:blip r:embed="rId1"/>
          <a:stretch/>
        </p:blipFill>
        <p:spPr>
          <a:xfrm>
            <a:off x="1979640" y="1916280"/>
            <a:ext cx="6019920" cy="4087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129800" cy="58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60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水是那样深，又那样清，清得能看见潭底的 青褐色的石头，能看见沉积在潭底的沙粒和已经发黑的树叶。</a:t>
            </a:r>
            <a:br>
              <a:rPr sz="5400"/>
            </a:b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606" name="Group 17"/>
          <p:cNvGrpSpPr/>
          <p:nvPr/>
        </p:nvGrpSpPr>
        <p:grpSpPr>
          <a:xfrm>
            <a:off x="2556000" y="1844640"/>
            <a:ext cx="5616000" cy="1728720"/>
            <a:chOff x="2556000" y="1844640"/>
            <a:chExt cx="5616000" cy="1728720"/>
          </a:xfrm>
        </p:grpSpPr>
        <p:sp>
          <p:nvSpPr>
            <p:cNvPr id="607" name="Line 13"/>
            <p:cNvSpPr/>
            <p:nvPr/>
          </p:nvSpPr>
          <p:spPr>
            <a:xfrm>
              <a:off x="2556000" y="1844640"/>
              <a:ext cx="151092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608" name="Line 14"/>
            <p:cNvSpPr/>
            <p:nvPr/>
          </p:nvSpPr>
          <p:spPr>
            <a:xfrm>
              <a:off x="5940000" y="1844640"/>
              <a:ext cx="151128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609" name="Line 15"/>
            <p:cNvSpPr/>
            <p:nvPr/>
          </p:nvSpPr>
          <p:spPr>
            <a:xfrm>
              <a:off x="2700000" y="2709720"/>
              <a:ext cx="331128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610" name="Line 16"/>
            <p:cNvSpPr/>
            <p:nvPr/>
          </p:nvSpPr>
          <p:spPr>
            <a:xfrm>
              <a:off x="6011640" y="3573360"/>
              <a:ext cx="216036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</p:grpSp>
      <p:sp>
        <p:nvSpPr>
          <p:cNvPr id="611" name="Text Box 20"/>
          <p:cNvSpPr/>
          <p:nvPr/>
        </p:nvSpPr>
        <p:spPr>
          <a:xfrm>
            <a:off x="684360" y="522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这段话举例说明了：泉水的丰富和水质好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4"/>
          <p:cNvSpPr/>
          <p:nvPr/>
        </p:nvSpPr>
        <p:spPr>
          <a:xfrm>
            <a:off x="1476360" y="1557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如果你站在珍珠泉的泉水边，你可能看到什么？会有什么感受？把你的这种感受读出来。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692360" y="443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请同学们打开书齐读第二自然段的最后一句，这句话是什么句？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755640" y="1197000"/>
            <a:ext cx="80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惜没有鱼，是水太清太凉的缘故吧？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惜没有鱼，是水太清太凉的缘故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743280" y="63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7704000" y="6216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视频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971640" y="1125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看到了这么绿，这么深，这么清的泉水，那我们站在泉水边，继续观察，还能看到什么？请同学们默读课文第三自然段，写了珍珠泉什么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4"/>
          <p:cNvSpPr/>
          <p:nvPr/>
        </p:nvSpPr>
        <p:spPr>
          <a:xfrm>
            <a:off x="882720" y="7149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你是从哪句话知道此段都是在写水泡的？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882720" y="15638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最有趣的，当然是那晶亮的、饱满的、一嘟噜一嘟噜从潭底冒出来的水泡了！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882720" y="3363840"/>
            <a:ext cx="75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此句在本段中起到了什么作用？</a:t>
            </a:r>
            <a:r>
              <a:rPr b="0" lang="zh-CN" sz="48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811080" y="4084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总起句，有趣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811080" y="48070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谁能把这种有趣，以及一嘟噜一嘟噜从潭底冒出水泡的这种新奇的发现读出来？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971640" y="822240"/>
            <a:ext cx="723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开始，水泡很小，摇晃着越升越高，越来越大，最后在水面绽开了，在“扑哧”一笑中消失了！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6324480" y="6400800"/>
            <a:ext cx="154080" cy="1461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6934320" y="6477120"/>
            <a:ext cx="153720" cy="14580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7848720" y="6477120"/>
            <a:ext cx="153720" cy="14580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6781680" y="6019920"/>
            <a:ext cx="231840" cy="2188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9" name="AutoShape 10"/>
          <p:cNvSpPr/>
          <p:nvPr/>
        </p:nvSpPr>
        <p:spPr>
          <a:xfrm>
            <a:off x="6443640" y="5084640"/>
            <a:ext cx="308160" cy="2923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8153280" y="5562720"/>
            <a:ext cx="154080" cy="2188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1" name="AutoShape 13"/>
          <p:cNvSpPr/>
          <p:nvPr/>
        </p:nvSpPr>
        <p:spPr>
          <a:xfrm>
            <a:off x="6095880" y="6019920"/>
            <a:ext cx="231840" cy="14580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2" name="AutoShape 14"/>
          <p:cNvSpPr/>
          <p:nvPr/>
        </p:nvSpPr>
        <p:spPr>
          <a:xfrm>
            <a:off x="8001000" y="5943600"/>
            <a:ext cx="231840" cy="21924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3" name="AutoShape 15"/>
          <p:cNvSpPr/>
          <p:nvPr/>
        </p:nvSpPr>
        <p:spPr>
          <a:xfrm>
            <a:off x="8153280" y="5029200"/>
            <a:ext cx="23184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4" name="AutoShape 16"/>
          <p:cNvSpPr/>
          <p:nvPr/>
        </p:nvSpPr>
        <p:spPr>
          <a:xfrm>
            <a:off x="5638680" y="5105520"/>
            <a:ext cx="30816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5" name="AutoShape 19"/>
          <p:cNvSpPr/>
          <p:nvPr/>
        </p:nvSpPr>
        <p:spPr>
          <a:xfrm>
            <a:off x="7391520" y="6477120"/>
            <a:ext cx="228600" cy="1522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7391520" y="5943600"/>
            <a:ext cx="231480" cy="14760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7" name="AutoShape 21"/>
          <p:cNvSpPr/>
          <p:nvPr/>
        </p:nvSpPr>
        <p:spPr>
          <a:xfrm>
            <a:off x="7391520" y="5486400"/>
            <a:ext cx="30780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8" name="AutoShape 22"/>
          <p:cNvSpPr/>
          <p:nvPr/>
        </p:nvSpPr>
        <p:spPr>
          <a:xfrm>
            <a:off x="7315200" y="5029200"/>
            <a:ext cx="307800" cy="36504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9" name="AutoShape 26"/>
          <p:cNvSpPr/>
          <p:nvPr/>
        </p:nvSpPr>
        <p:spPr>
          <a:xfrm>
            <a:off x="5867280" y="5562720"/>
            <a:ext cx="30816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0" name="AutoShape 27"/>
          <p:cNvSpPr/>
          <p:nvPr/>
        </p:nvSpPr>
        <p:spPr>
          <a:xfrm>
            <a:off x="6659640" y="5516640"/>
            <a:ext cx="30780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1" name="Text Box 28"/>
          <p:cNvSpPr/>
          <p:nvPr/>
        </p:nvSpPr>
        <p:spPr>
          <a:xfrm>
            <a:off x="1187280" y="40464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水泡一嘟噜一嘟噜地冒了出来，那它又是怎样变的？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2" name="Line 30"/>
          <p:cNvSpPr/>
          <p:nvPr/>
        </p:nvSpPr>
        <p:spPr>
          <a:xfrm>
            <a:off x="4500720" y="4581360"/>
            <a:ext cx="395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539640" y="333360"/>
            <a:ext cx="80773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b03ff"/>
                </a:solidFill>
                <a:latin typeface="Times New Roman"/>
              </a:rPr>
              <a:t>水面和潭底，金色的光斑和银色的光斑交错着；水泡闪亮闪亮的，射出红的光，黄的光，绿的光，紫的光</a:t>
            </a:r>
            <a:r>
              <a:rPr b="1" lang="en-US" sz="6000" spc="-1" strike="noStrike">
                <a:solidFill>
                  <a:srgbClr val="ab03ff"/>
                </a:solidFill>
                <a:latin typeface="Times New Roman"/>
              </a:rPr>
              <a:t>……</a:t>
            </a:r>
            <a:r>
              <a:rPr b="1" lang="zh-CN" sz="6000" spc="-1" strike="noStrike">
                <a:solidFill>
                  <a:srgbClr val="ab03ff"/>
                </a:solidFill>
                <a:latin typeface="Times New Roman"/>
              </a:rPr>
              <a:t>多像一串一串彩色的珍珠啊！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7885080" y="5734080"/>
            <a:ext cx="990720" cy="838080"/>
          </a:xfrm>
          <a:custGeom>
            <a:avLst/>
            <a:gdLst>
              <a:gd name="textAreaLeft" fmla="*/ 0 w 990720"/>
              <a:gd name="textAreaRight" fmla="*/ 849240 w 990720"/>
              <a:gd name="textAreaTop" fmla="*/ 55872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f65db"/>
          </a:solidFill>
          <a:ln w="9360">
            <a:solidFill>
              <a:srgbClr val="ab0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45" name="Picture 4" descr="NA00864_"/>
          <p:cNvPicPr/>
          <p:nvPr/>
        </p:nvPicPr>
        <p:blipFill>
          <a:blip r:embed="rId1"/>
          <a:stretch/>
        </p:blipFill>
        <p:spPr>
          <a:xfrm>
            <a:off x="533520" y="5943600"/>
            <a:ext cx="1171440" cy="687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NA00864_"/>
          <p:cNvPicPr/>
          <p:nvPr/>
        </p:nvPicPr>
        <p:blipFill>
          <a:blip r:embed="rId2"/>
          <a:stretch/>
        </p:blipFill>
        <p:spPr>
          <a:xfrm>
            <a:off x="3505320" y="5867280"/>
            <a:ext cx="1171440" cy="6876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NA00864_"/>
          <p:cNvPicPr/>
          <p:nvPr/>
        </p:nvPicPr>
        <p:blipFill>
          <a:blip r:embed="rId3"/>
          <a:stretch/>
        </p:blipFill>
        <p:spPr>
          <a:xfrm>
            <a:off x="2133720" y="5867280"/>
            <a:ext cx="1171440" cy="687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NA00864_"/>
          <p:cNvPicPr/>
          <p:nvPr/>
        </p:nvPicPr>
        <p:blipFill>
          <a:blip r:embed="rId4"/>
          <a:stretch/>
        </p:blipFill>
        <p:spPr>
          <a:xfrm>
            <a:off x="6553080" y="5867280"/>
            <a:ext cx="1171800" cy="687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NA00864_"/>
          <p:cNvPicPr/>
          <p:nvPr/>
        </p:nvPicPr>
        <p:blipFill>
          <a:blip r:embed="rId5"/>
          <a:stretch/>
        </p:blipFill>
        <p:spPr>
          <a:xfrm>
            <a:off x="5029200" y="5867280"/>
            <a:ext cx="1171440" cy="6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755640" y="7650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我很想知道，它哪来这么多冒不完的水泡？在小河断流的时候，在村里得井水干涸的时候，它还是不停地冒着水泡。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75564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可贵？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3995640" y="5589720"/>
            <a:ext cx="1511280" cy="431640"/>
          </a:xfrm>
          <a:prstGeom prst="rightArrow">
            <a:avLst>
              <a:gd name="adj1" fmla="val 50000"/>
              <a:gd name="adj2" fmla="val 87531"/>
            </a:avLst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274800" y="52282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a00804"/>
                </a:solidFill>
                <a:latin typeface="Times New Roman"/>
                <a:ea typeface="华文行楷"/>
              </a:rPr>
              <a:t>希望！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在缺少水源的情况下，村民是多么需要水呀！珍珠泉不停的冒，总能带给村民无尽的希望，它是多么可贵啊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4642"/>
                </a:solidFill>
                <a:latin typeface="Times New Roman"/>
              </a:rPr>
              <a:t>我来读！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xiānɡ qiàn           tái        ju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镶     嵌        青 苔         厥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hè               yuán         dū l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青褐色          缘 故         嘟噜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zhàn               shāi               h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807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绽开             筛 下         干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143000" y="990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457200" y="404640"/>
            <a:ext cx="8686800" cy="4572000"/>
          </a:xfrm>
          <a:custGeom>
            <a:avLst/>
            <a:gdLst>
              <a:gd name="textAreaLeft" fmla="*/ 484920 w 8686800"/>
              <a:gd name="textAreaRight" fmla="*/ 8201880 w 8686800"/>
              <a:gd name="textAreaTop" fmla="*/ 484920 h 4572000"/>
              <a:gd name="textAreaBottom" fmla="*/ 4087080 h 4572000"/>
            </a:gdLst>
            <a:ahLst/>
            <a:rect l="textAreaLeft" t="textAreaTop" r="textAreaRight" b="textAreaBottom"/>
            <a:pathLst>
              <a:path w="41038" h="21600">
                <a:moveTo>
                  <a:pt x="3240" y="0"/>
                </a:moveTo>
                <a:arcTo wR="3240" hR="3240" stAng="0" swAng="5400000"/>
                <a:lnTo>
                  <a:pt x="0" y="18360"/>
                </a:lnTo>
                <a:arcTo wR="3240" hR="3240" stAng="16200000" swAng="5400000"/>
                <a:lnTo>
                  <a:pt x="37798" y="21600"/>
                </a:lnTo>
                <a:arcTo wR="3240" hR="3240" stAng="10800000" swAng="5400000"/>
                <a:lnTo>
                  <a:pt x="41038" y="3240"/>
                </a:lnTo>
                <a:arcTo wR="3240" hR="3240" stAng="5400000" swAng="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挑着满满一担水，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走在林中的石板路上，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我泼洒了多少珍珠啊！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58" name="Picture 12" descr="NA01441_"/>
          <p:cNvPicPr/>
          <p:nvPr/>
        </p:nvPicPr>
        <p:blipFill>
          <a:blip r:embed="rId1"/>
          <a:stretch/>
        </p:blipFill>
        <p:spPr>
          <a:xfrm>
            <a:off x="3851280" y="5172120"/>
            <a:ext cx="2027160" cy="16858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3" descr=""/>
          <p:cNvPicPr/>
          <p:nvPr/>
        </p:nvPicPr>
        <p:blipFill>
          <a:blip r:embed="rId2"/>
          <a:stretch/>
        </p:blipFill>
        <p:spPr>
          <a:xfrm>
            <a:off x="0" y="4573440"/>
            <a:ext cx="3780000" cy="22845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4"/>
          <p:cNvSpPr/>
          <p:nvPr/>
        </p:nvSpPr>
        <p:spPr>
          <a:xfrm>
            <a:off x="5614920" y="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所以，当作者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3657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82476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Times New Roman"/>
              </a:rPr>
              <a:t>课文的顺序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0" y="914400"/>
            <a:ext cx="86868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Times New Roman"/>
              </a:rPr>
              <a:t>作者先写了                          接着写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</a:t>
            </a:r>
            <a:r>
              <a:rPr b="0" lang="zh-CN" sz="5400" spc="-1" strike="noStrike">
                <a:solidFill>
                  <a:srgbClr val="2a3d7a"/>
                </a:solidFill>
                <a:latin typeface="Times New Roman"/>
              </a:rPr>
              <a:t>；  最后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492360" y="69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4642"/>
                </a:solidFill>
                <a:latin typeface="Times New Roman"/>
              </a:rPr>
              <a:t>珍珠泉的位置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4952880" y="1066680"/>
            <a:ext cx="4191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2209680" y="16765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4642"/>
                </a:solidFill>
                <a:latin typeface="Times New Roman"/>
              </a:rPr>
              <a:t>珍珠泉周围的环境以及潭底冒出来的水泡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2771640" y="40053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4642"/>
                </a:solidFill>
                <a:latin typeface="Times New Roman"/>
              </a:rPr>
              <a:t>抒发了对珍珠泉的喜爱之情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>
            <a:off x="3429000" y="1600200"/>
            <a:ext cx="52578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>
            <a:off x="2133720" y="2590920"/>
            <a:ext cx="70102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2057400" y="3429000"/>
            <a:ext cx="61722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8381880" y="762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a3d7a"/>
                </a:solidFill>
                <a:latin typeface="Times New Roman"/>
              </a:rPr>
              <a:t>；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2" name="Line 19"/>
          <p:cNvSpPr/>
          <p:nvPr/>
        </p:nvSpPr>
        <p:spPr>
          <a:xfrm>
            <a:off x="1905120" y="4952880"/>
            <a:ext cx="6553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>
            <a:off x="1676520" y="5867280"/>
            <a:ext cx="6553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8229600" y="5257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75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75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250560" y="21016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珍珠泉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,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作者喜欢珍珠泉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3" descr="wearhat"/>
          <p:cNvPicPr/>
          <p:nvPr/>
        </p:nvPicPr>
        <p:blipFill>
          <a:blip r:embed="rId1"/>
          <a:stretch/>
        </p:blipFill>
        <p:spPr>
          <a:xfrm>
            <a:off x="5486400" y="2819520"/>
            <a:ext cx="3657600" cy="343512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5"/>
          <p:cNvSpPr/>
          <p:nvPr/>
        </p:nvSpPr>
        <p:spPr>
          <a:xfrm>
            <a:off x="304920" y="2286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向同学们介绍一下自己家乡的美丽景点。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8" name="PubOvalCallout"/>
          <p:cNvSpPr/>
          <p:nvPr/>
        </p:nvSpPr>
        <p:spPr>
          <a:xfrm>
            <a:off x="380880" y="609480"/>
            <a:ext cx="8229600" cy="1752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zh-CN" sz="6600" spc="-1" strike="noStrike">
                <a:solidFill>
                  <a:srgbClr val="2a3d7a"/>
                </a:solidFill>
                <a:latin typeface="Times New Roman"/>
              </a:rPr>
              <a:t>我来做导游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5640" y="28800"/>
            <a:ext cx="5791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7"/>
          <p:cNvSpPr/>
          <p:nvPr/>
        </p:nvSpPr>
        <p:spPr>
          <a:xfrm>
            <a:off x="501480" y="1341360"/>
            <a:ext cx="8642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作业：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      </a:t>
            </a:r>
            <a:r>
              <a:rPr b="0" lang="zh-CN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从第</a:t>
            </a:r>
            <a:r>
              <a:rPr b="0" lang="en-US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2</a:t>
            </a:r>
            <a:r>
              <a:rPr b="0" lang="zh-CN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、</a:t>
            </a:r>
            <a:r>
              <a:rPr b="0" lang="en-US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3</a:t>
            </a:r>
            <a:r>
              <a:rPr b="0" lang="zh-CN" sz="7200" spc="-1" strike="noStrike">
                <a:solidFill>
                  <a:srgbClr val="2a3d7a"/>
                </a:solidFill>
                <a:latin typeface="华文行楷"/>
                <a:ea typeface="华文行楷"/>
              </a:rPr>
              <a:t>自然段中任选一段背诵。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8"/>
          <p:cNvSpPr/>
          <p:nvPr/>
        </p:nvSpPr>
        <p:spPr>
          <a:xfrm>
            <a:off x="1619280" y="288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</a:rPr>
              <a:t>珍珠泉在哪儿？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76360" y="2997360"/>
            <a:ext cx="63356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851280" y="177336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00804"/>
                </a:solidFill>
                <a:latin typeface="Times New Roman"/>
              </a:rPr>
              <a:t>村子前面的小山包上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3851280" y="278136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00804"/>
                </a:solidFill>
                <a:latin typeface="Times New Roman"/>
              </a:rPr>
              <a:t>石板小路的尽头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54" name="Picture 9" descr="珍珠泉001"/>
          <p:cNvPicPr/>
          <p:nvPr/>
        </p:nvPicPr>
        <p:blipFill>
          <a:blip r:embed="rId1"/>
          <a:stretch/>
        </p:blipFill>
        <p:spPr>
          <a:xfrm>
            <a:off x="0" y="1844640"/>
            <a:ext cx="3781440" cy="50133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3851280" y="422100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第一自然段介绍了：珍珠泉的位置。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611280" y="765000"/>
            <a:ext cx="82087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</a:rPr>
              <a:t>第二自然段写了珍珠泉的什么？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708360" y="443700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我们沿着石板小路走近了珍珠泉，那它又是什么样子？请同学们把书平放，默读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，想一想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280360" y="6491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3d7a"/>
                </a:solidFill>
                <a:latin typeface="Times New Roman"/>
              </a:rPr>
              <a:t>板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763640" y="2852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a00804"/>
                </a:solidFill>
                <a:latin typeface="华文行楷"/>
                <a:ea typeface="华文行楷"/>
              </a:rPr>
              <a:t>泉水周围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a00804"/>
                </a:solidFill>
                <a:latin typeface="华文行楷"/>
                <a:ea typeface="华文行楷"/>
              </a:rPr>
              <a:t> 泉水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4932360" y="260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周围是什么景色？请同学来读一读。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826920" y="476280"/>
            <a:ext cx="691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a00804"/>
                </a:solidFill>
                <a:latin typeface="Times New Roman"/>
                <a:ea typeface="华文行楷"/>
              </a:rPr>
              <a:t>泉水周围</a:t>
            </a:r>
            <a:r>
              <a:rPr b="0" lang="en-US" sz="7200" spc="-1" strike="noStrike">
                <a:solidFill>
                  <a:srgbClr val="a00804"/>
                </a:solidFill>
                <a:latin typeface="Times New Roman"/>
                <a:ea typeface="华文行楷"/>
              </a:rPr>
              <a:t>: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周围镶嵌着高低错落的石头，上面长着一层黑里透绿的青苔。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62" name="Picture 6" descr=""/>
          <p:cNvPicPr/>
          <p:nvPr/>
        </p:nvPicPr>
        <p:blipFill>
          <a:blip r:embed="rId1"/>
          <a:stretch/>
        </p:blipFill>
        <p:spPr>
          <a:xfrm>
            <a:off x="0" y="4449600"/>
            <a:ext cx="3995640" cy="2408400"/>
          </a:xfrm>
          <a:prstGeom prst="rect">
            <a:avLst/>
          </a:prstGeom>
          <a:ln w="0">
            <a:noFill/>
          </a:ln>
        </p:spPr>
      </p:pic>
      <p:sp>
        <p:nvSpPr>
          <p:cNvPr id="563" name="Line 7"/>
          <p:cNvSpPr/>
          <p:nvPr/>
        </p:nvSpPr>
        <p:spPr>
          <a:xfrm>
            <a:off x="3203640" y="2708280"/>
            <a:ext cx="12970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3708360" y="1557360"/>
            <a:ext cx="1728720" cy="503280"/>
          </a:xfrm>
          <a:custGeom>
            <a:avLst/>
            <a:gdLst>
              <a:gd name="textAreaLeft" fmla="*/ 994680 w 1728720"/>
              <a:gd name="textAreaRight" fmla="*/ 1458720 w 172872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5364000" y="1197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砌着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5651640" y="1268280"/>
            <a:ext cx="100800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74808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那绿得没有一点儿杂色的蕨草，那悄悄地开放着的花朵，给珍珠泉编了个朴素的花环。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你读完有什么感受？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568" name="Group 11"/>
          <p:cNvGrpSpPr/>
          <p:nvPr/>
        </p:nvGrpSpPr>
        <p:grpSpPr>
          <a:xfrm>
            <a:off x="0" y="5229360"/>
            <a:ext cx="8515440" cy="1152360"/>
            <a:chOff x="0" y="5229360"/>
            <a:chExt cx="8515440" cy="1152360"/>
          </a:xfrm>
        </p:grpSpPr>
        <p:sp>
          <p:nvSpPr>
            <p:cNvPr id="569" name="Line 9"/>
            <p:cNvSpPr/>
            <p:nvPr/>
          </p:nvSpPr>
          <p:spPr>
            <a:xfrm>
              <a:off x="5419800" y="5229360"/>
              <a:ext cx="309564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>
              <a:off x="0" y="6381720"/>
              <a:ext cx="197964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</p:grpSp>
      <p:sp>
        <p:nvSpPr>
          <p:cNvPr id="571" name="Oval 12"/>
          <p:cNvSpPr/>
          <p:nvPr/>
        </p:nvSpPr>
        <p:spPr>
          <a:xfrm>
            <a:off x="2771640" y="1844640"/>
            <a:ext cx="1944720" cy="1368360"/>
          </a:xfrm>
          <a:prstGeom prst="ellipse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2" name="Oval 14"/>
          <p:cNvSpPr/>
          <p:nvPr/>
        </p:nvSpPr>
        <p:spPr>
          <a:xfrm>
            <a:off x="4572000" y="2924280"/>
            <a:ext cx="1944720" cy="1368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73" name="Picture 15" descr=""/>
          <p:cNvPicPr/>
          <p:nvPr/>
        </p:nvPicPr>
        <p:blipFill>
          <a:blip r:embed="rId1"/>
          <a:stretch/>
        </p:blipFill>
        <p:spPr>
          <a:xfrm>
            <a:off x="5940360" y="5300640"/>
            <a:ext cx="3203640" cy="15573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6"/>
          <p:cNvSpPr/>
          <p:nvPr/>
        </p:nvSpPr>
        <p:spPr>
          <a:xfrm>
            <a:off x="5292720" y="44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接下来的这一句请同学们读一读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50920" y="0"/>
            <a:ext cx="503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朴素的花环是什么样子？在文中，朴素的花环是由什么和什么组成的？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4572000" y="65214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3d7a"/>
                </a:solidFill>
                <a:latin typeface="Times New Roman"/>
              </a:rPr>
              <a:t>板：环境美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83664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这么美，为什么作者还说是朴素的花环？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900000" y="24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51fb5"/>
                </a:solidFill>
                <a:latin typeface="Times New Roman"/>
              </a:rPr>
              <a:t>因为在作者眼里，珍珠泉本身要比它四周的环境还要美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358920" y="378936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请同学们在这一段中找出描写泉水的语句，用“</a:t>
            </a:r>
            <a:r>
              <a:rPr b="0" lang="en-US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___”</a:t>
            </a:r>
            <a:r>
              <a:rPr b="0" lang="zh-CN" sz="48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画出来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6012000" y="1890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00804"/>
                </a:solidFill>
                <a:latin typeface="Times New Roman"/>
              </a:rPr>
              <a:t>那具体有多美，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SO01871_"/>
          <p:cNvPicPr/>
          <p:nvPr/>
        </p:nvPicPr>
        <p:blipFill>
          <a:blip r:embed="rId1"/>
          <a:stretch/>
        </p:blipFill>
        <p:spPr>
          <a:xfrm>
            <a:off x="1979640" y="1916280"/>
            <a:ext cx="6019920" cy="4087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129440" cy="58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6000"/>
            </a:br>
            <a:r>
              <a:rPr b="0" lang="zh-CN" sz="5400" spc="-1" strike="noStrike">
                <a:solidFill>
                  <a:srgbClr val="243468"/>
                </a:solidFill>
                <a:latin typeface="Times New Roman"/>
              </a:rPr>
              <a:t>水是那样绿，绿得像是被周围的绿树、绿草染过的。水是那样深，又那样清，清得能看见潭底的 青褐色的石头，能看见沉积在潭底的沙粒和已经发黑的树叶。</a:t>
            </a:r>
            <a:br>
              <a:rPr sz="5400"/>
            </a:b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7238880" y="5486400"/>
            <a:ext cx="1447920" cy="9907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584" name="Group 20"/>
          <p:cNvGrpSpPr/>
          <p:nvPr/>
        </p:nvGrpSpPr>
        <p:grpSpPr>
          <a:xfrm>
            <a:off x="2050920" y="1413000"/>
            <a:ext cx="4537080" cy="2520720"/>
            <a:chOff x="2050920" y="1413000"/>
            <a:chExt cx="4537080" cy="2520720"/>
          </a:xfrm>
        </p:grpSpPr>
        <p:sp>
          <p:nvSpPr>
            <p:cNvPr id="585" name="Line 17"/>
            <p:cNvSpPr/>
            <p:nvPr/>
          </p:nvSpPr>
          <p:spPr>
            <a:xfrm>
              <a:off x="3492360" y="1413000"/>
              <a:ext cx="100836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>
              <a:off x="5580000" y="3068640"/>
              <a:ext cx="10080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587" name="Line 19"/>
            <p:cNvSpPr/>
            <p:nvPr/>
          </p:nvSpPr>
          <p:spPr>
            <a:xfrm>
              <a:off x="2050920" y="3933720"/>
              <a:ext cx="100836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</p:grpSp>
      <p:grpSp>
        <p:nvGrpSpPr>
          <p:cNvPr id="588" name="Group 24"/>
          <p:cNvGrpSpPr/>
          <p:nvPr/>
        </p:nvGrpSpPr>
        <p:grpSpPr>
          <a:xfrm>
            <a:off x="826920" y="1413000"/>
            <a:ext cx="6121440" cy="4176720"/>
            <a:chOff x="826920" y="1413000"/>
            <a:chExt cx="6121440" cy="4176720"/>
          </a:xfrm>
        </p:grpSpPr>
        <p:sp>
          <p:nvSpPr>
            <p:cNvPr id="589" name="Line 21"/>
            <p:cNvSpPr/>
            <p:nvPr/>
          </p:nvSpPr>
          <p:spPr>
            <a:xfrm>
              <a:off x="4859280" y="141300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590" name="Line 22"/>
            <p:cNvSpPr/>
            <p:nvPr/>
          </p:nvSpPr>
          <p:spPr>
            <a:xfrm>
              <a:off x="3564000" y="3933720"/>
              <a:ext cx="33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  <p:sp>
          <p:nvSpPr>
            <p:cNvPr id="591" name="Line 23"/>
            <p:cNvSpPr/>
            <p:nvPr/>
          </p:nvSpPr>
          <p:spPr>
            <a:xfrm>
              <a:off x="826920" y="5589720"/>
              <a:ext cx="208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2a3d7a"/>
                </a:solidFill>
                <a:latin typeface="Times New Roman"/>
              </a:endParaRPr>
            </a:p>
          </p:txBody>
        </p:sp>
      </p:grpSp>
      <p:sp>
        <p:nvSpPr>
          <p:cNvPr id="592" name="Text Box 25"/>
          <p:cNvSpPr/>
          <p:nvPr/>
        </p:nvSpPr>
        <p:spPr>
          <a:xfrm>
            <a:off x="6588000" y="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你找的是？老师找的也是这两句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1170000" y="889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泉水有哪些特点？板：绿、深、清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4"/>
          <p:cNvSpPr/>
          <p:nvPr/>
        </p:nvSpPr>
        <p:spPr>
          <a:xfrm>
            <a:off x="0" y="1052640"/>
            <a:ext cx="9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3468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243468"/>
                </a:solidFill>
                <a:latin typeface="Times New Roman"/>
              </a:rPr>
              <a:t>水是那样绿，绿得像是被周围的绿树、绿草染过的。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6"/>
          <p:cNvSpPr/>
          <p:nvPr/>
        </p:nvSpPr>
        <p:spPr>
          <a:xfrm>
            <a:off x="684360" y="292428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00804"/>
                </a:solidFill>
                <a:latin typeface="Times New Roman"/>
                <a:ea typeface="华文新魏"/>
              </a:rPr>
              <a:t>抓住颜色的特点来写珍珠泉的美</a:t>
            </a:r>
            <a:r>
              <a:rPr b="0" lang="zh-CN" sz="4400" spc="-1" strike="noStrike">
                <a:solidFill>
                  <a:srgbClr val="a00804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3995640" y="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泉水绿，有多绿？抓住了泉水的什么特征？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5:08:39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7T01:17:23Z</dcterms:modified>
  <cp:revision>97</cp:revision>
  <dc:subject>第一PPT模板网-WWW.1PPT.COM</dc:subject>
  <dc:title>第一PPT模板网-WWW.1PPT.COM</dc:title>
</cp:coreProperties>
</file>