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4FD9-ED0D-494B-8648-409655DCD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9ADB-9BA2-44BD-A562-E4E8832AD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CD77-294C-4D54-9EB6-94F3B207E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5145-40C7-4C67-BEC7-ED35ACD10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CC4D-F3DB-40D4-8B6B-2B78961D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FE97-1554-492B-9FE9-92F6D7FB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98F7-7CC4-40E4-B150-37D74D67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068F-0F9E-4508-9F5A-3F22DBF91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4F57-0DAC-45EB-8430-67A9D8018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563A-DC71-4A3D-A6BC-D664C182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4138-6247-4EE9-895A-A4475ECF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51D6-3F91-47BB-B0F9-BBE925BA6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E540-141B-483A-8F65-E9B7437E5C0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714840" y="506736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快乐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5"/>
          <p:cNvSpPr/>
          <p:nvPr/>
        </p:nvSpPr>
        <p:spPr>
          <a:xfrm>
            <a:off x="3643200" y="5087880"/>
            <a:ext cx="242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4"/>
          <p:cNvSpPr/>
          <p:nvPr/>
        </p:nvSpPr>
        <p:spPr>
          <a:xfrm>
            <a:off x="4071960" y="521028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3500280" y="4572000"/>
            <a:ext cx="30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442656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49266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31406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39265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428364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8548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56408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435492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178308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8"/>
          <p:cNvSpPr/>
          <p:nvPr/>
        </p:nvSpPr>
        <p:spPr>
          <a:xfrm>
            <a:off x="24976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54979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3550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121176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36406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6069600" y="2714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57837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25689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692676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514080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34977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14259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12-29T02:33:26Z</dcterms:modified>
  <cp:revision>118</cp:revision>
  <dc:subject/>
  <dc:title>幻灯片 1</dc:title>
</cp:coreProperties>
</file>