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7E81-6D61-4ED7-8A7C-3CDEA8B33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18A8-D069-45C5-AC51-280BA103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C669-2018-4BAF-8ED8-D06D622FA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0EE3-174B-46B1-9813-E33D25A0B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2BBE-F046-46D0-BD46-55A07400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4691-E303-460D-9FCF-18E445E5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766C-823F-4A1D-9F2F-82282AF8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5DD7-C8AF-4666-96BF-DA9BF189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2C0F-5591-408D-8356-F0F16D51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99BF-DBA1-41A4-9494-B3B53AB0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A511-436C-4517-94BF-E2AFD163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C771-D6D0-4FAA-A210-9598AF8E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A79A-4167-4B40-9645-A45C900092D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3714840" y="5067360"/>
            <a:ext cx="41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新年快乐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5"/>
          <p:cNvSpPr/>
          <p:nvPr/>
        </p:nvSpPr>
        <p:spPr>
          <a:xfrm>
            <a:off x="3643200" y="5087880"/>
            <a:ext cx="2428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4"/>
          <p:cNvSpPr/>
          <p:nvPr/>
        </p:nvSpPr>
        <p:spPr>
          <a:xfrm>
            <a:off x="4071960" y="521028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3500280" y="457200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442656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49266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31406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39265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428364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8548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56408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435492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178308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8"/>
          <p:cNvSpPr/>
          <p:nvPr/>
        </p:nvSpPr>
        <p:spPr>
          <a:xfrm>
            <a:off x="249768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54979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53550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121176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36406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60696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57837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25689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69267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514080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34977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14259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4-12-29T02:33:26Z</dcterms:modified>
  <cp:revision>118</cp:revision>
  <dc:subject/>
  <dc:title>幻灯片 1</dc:title>
</cp:coreProperties>
</file>