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cashreg.wav" ContentType="audio/x-wav"/>
  <Override PartName="/ppt/media/image9.png" ContentType="image/png"/>
  <Override PartName="/ppt/media/image20.jpeg" ContentType="image/jpeg"/>
  <Override PartName="/ppt/media/image18.jpeg" ContentType="image/jpeg"/>
  <Override PartName="/ppt/media/type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24.jpeg" ContentType="image/jpeg"/>
  <Override PartName="/ppt/media/image12.gif" ContentType="image/gif"/>
  <Override PartName="/ppt/media/image3.jpeg" ContentType="image/jpeg"/>
  <Override PartName="/ppt/media/image30.jpeg" ContentType="image/jpeg"/>
  <Override PartName="/ppt/media/image26.png" ContentType="image/png"/>
  <Override PartName="/ppt/media/image28.jpeg" ContentType="image/jpeg"/>
  <Override PartName="/ppt/media/image27.gif" ContentType="image/gif"/>
  <Override PartName="/ppt/media/clap.wav" ContentType="audio/x-wav"/>
  <Override PartName="/ppt/media/image16.jpeg" ContentType="image/jpeg"/>
  <Override PartName="/ppt/media/chimes.wav" ContentType="audio/x-wav"/>
  <Override PartName="/ppt/media/image5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10.jpeg" ContentType="image/jpeg"/>
  <Override PartName="/ppt/media/image13.png" ContentType="image/png"/>
  <Override PartName="/ppt/media/image29.gif" ContentType="image/gif"/>
  <Override PartName="/ppt/media/image15.jpeg" ContentType="image/jpeg"/>
  <Override PartName="/ppt/media/image17.gif" ContentType="image/gif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5AB-ACCC-41AD-AA21-1FCA2DEE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4C6-46F5-4EE5-8C3E-0EFAD66B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3E1-6AFE-4BCD-BF62-C10BC0CE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B1B-3699-4220-AE05-9E78A46E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59F-F4C8-488D-9368-A53008E7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E2B-E692-46E2-953C-9979A2DB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A0DC-3394-4098-B7E5-1286570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502-F35B-4AE6-B354-E7B3A10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FE67-F678-4F28-8893-EF3C1FD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489-CB04-48AD-8094-599ED84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853-881B-4E21-B746-CFAB37B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C03-5DEC-45A6-B76D-797C4203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2DB-38F1-46A4-912F-8B59084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7AE-336A-4DFC-97A5-D641B0C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03AF-0490-407B-8031-E42251F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4093-0649-49F9-98A0-6C24FD04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A368-873B-45EE-ACD4-0A9BE0E3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BDBC-13A8-49A7-95BD-94EE6CA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DAC4-26FD-407F-91ED-B776F8B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4AA8-5559-4665-A59F-6E36784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5DD7-C0BA-4B1C-A16E-4C7A451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DF9E-7BB6-4C1D-9D47-89DEFC5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E02-A2BE-42AE-8030-0E500E1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8E6F-7772-4FE1-A45B-8857CE6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BF9E-D28A-4173-83C8-3E32283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4159-0B1C-4327-9816-66BA6DB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9A62-31F0-424F-A5D4-EC46181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C3EE-121F-4E83-92D3-6A7065A8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468A-43E3-4944-BE53-7347EE3C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FF62-1A2B-4AA0-8A48-5E773B4C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0C65-C080-4FBF-9C84-1036CC52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7467-D986-4454-B19A-50ACEDE0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2BB5-B493-42C6-A409-7E29A4D1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F15-23BD-4F82-AA44-F2CD009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587C-BE72-4E8C-B926-04939BFE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A7BF-5511-4595-99FC-842B3E7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0159-0A7D-4BDF-B6BF-C4FE8AF4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9019-6067-4395-9CF1-F950B82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5F8C-1919-4E71-9720-A739095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A2B6-B84A-4520-A089-FD6D4DC0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6104-B787-4209-8FBE-B14BC588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19A5-7CA4-4B0F-98F1-B2C208EA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8323-10DE-41EE-AC86-C9D18AF6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434-4CD0-49B1-8074-FB1AFDF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053-9F37-4842-9A16-606B69D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0CD-5D66-4F17-BC5A-234441F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0B3-554F-4853-A729-A5ECBAE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B6F-ADF3-4D87-B267-D44AB6E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F70-BD7E-455E-A86A-42F420F1D24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68D-A340-449C-9B07-6B8FFC32AE0B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26CB-819E-4716-853C-4598A66959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E74B-F353-49AC-B367-932F175A1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6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979640" y="4437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东坡下载站编辑整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7642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324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课代表名单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71640" y="1484280"/>
            <a:ext cx="4105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 rot="1891800">
            <a:off x="4642920" y="5051520"/>
            <a:ext cx="44276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师的得力助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4" name=""/>
          <p:cNvSpPr/>
          <p:nvPr/>
        </p:nvSpPr>
        <p:spPr>
          <a:xfrm>
            <a:off x="3951360" y="1484280"/>
            <a:ext cx="549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4857120" y="1197000"/>
            <a:ext cx="107974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课代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语文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屈黎姿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数学：</a:t>
            </a: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朱妍佳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英语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金文沁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科学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宋玲丽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体育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何  超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音乐美术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任欣怡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学习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1280" y="148428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彰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班中学习勤奋的同学有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屈黎姿  朱妍佳  金文沁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左心雨  张佳旺   俞丹婷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徐凯琳  宋玲丽  唐春晴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陆佳怡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-387360"/>
            <a:ext cx="1954440" cy="2879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84360" y="2349360"/>
            <a:ext cx="8135640" cy="34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何  凯、屈黎姿、朱妍佳、金文沁、左心雨、张佳旺、何  超、孟  梅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俞丹婷、张千喜、徐凯琳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宋玲丽、唐春晴、陆佳怡、时  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任欣怡、林周旗、林  铭、沈丹林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       荣       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092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语、数、英、科各门成绩排在前面的有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5256360" cy="5445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949400" y="1989000"/>
            <a:ext cx="34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合理安排饮食，注意补充营养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提醒孩子认真参加体育锻炼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2071080"/>
            <a:ext cx="83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制服时特别将胸前两个扣子解开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23796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，甚至不明钱款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坏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8360" y="1700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只有一个，我们的一切工作都是为了孩子将来的美好前途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与老师应该取得联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446724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科学的安排学习、适量的家务劳动（劳动是教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根据我们了解的情况，发现家长在教育中有以下几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误区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14880" y="1628640"/>
            <a:ext cx="25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保护，给学生造成心理压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响学生们的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常学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07200" y="27082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干涉，许多家长认为学生，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么事都不能干，只有学习，这样往往会适得其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26640" y="378936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期望值过高，超过了孩子实际水平，这样容易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伤孩子的自信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孩子的身体倍加呵护，却忽视了孩子的心理健康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不注重言传身教，不要孩子做的事情，自己却做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根据我们了解的情况，发现家长在教育中有以下几个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误区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过分放手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对孩子的在校学习生活情况不闻不问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让孩子自由发展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唠叨没完没了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抓住其当时的心理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得效果适得其反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8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大事化小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小事化了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为孩子开脱责任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凡事武力解决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管孩子接不接受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1095480"/>
            <a:ext cx="843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多一点信任理解，那么我们的孩子都有所作为。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37663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289536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孩子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任课老师自由交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一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1332000" y="414972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32000" y="537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6920" y="206064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思想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07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 rot="5400000">
            <a:off x="-540360" y="3212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强有力的组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85" name=""/>
          <p:cNvSpPr txBox="1"/>
          <p:nvPr/>
        </p:nvSpPr>
        <p:spPr>
          <a:xfrm rot="5400000">
            <a:off x="5724360" y="328608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级的核心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ff"/>
                </a:solidFill>
                <a:uFillTx/>
                <a:latin typeface="Arial Black"/>
                <a:ea typeface="华文新魏"/>
              </a:rPr>
              <a:t>我     班     班   委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03280" y="1125360"/>
            <a:ext cx="54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班长：金文沁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副班长：何  凯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学习委员：屈黎姿   朱妍佳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宣传委员：徐凯琳   唐春晴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文艺委员：张佳旺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体育委员：何  超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生活委员：宋玲丽   任欣怡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劳动委员：马廷武   王  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安全委员：顾俊杰   顾晨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Sky123.Org</cp:lastModifiedBy>
  <dcterms:modified xsi:type="dcterms:W3CDTF">2015-03-25T01:57:58Z</dcterms:modified>
  <cp:revision>247</cp:revision>
  <dc:subject/>
  <dc:title>热烈欢迎各位家长</dc:title>
</cp:coreProperties>
</file>