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15F-6A3F-4DE9-8DA8-E5B07710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A9B-1FFA-431E-BEB4-853490D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01D-9B8B-4005-A5E1-BA5B251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E25-931D-42A5-A165-6C94F7BC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11EE-FA3E-40E2-B5FF-E66F64D2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9293-F7D0-4FE0-B1FC-89E34E1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4885-3589-478D-9527-F0C8362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A69F-914B-4F43-A189-2934165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D53-F89A-4860-AF63-104C740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EA3A-BC2C-4478-917A-0631124C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EB17-9937-435D-B85B-B4D3BAD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E06-3B5C-4052-A71C-BFE6277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5D2-693B-40B4-B783-F0EDD0B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D13-26B5-4A44-8979-C4E8AF2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0BD8-56D6-48EF-BDDC-05A608B4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E5B4-A236-4CED-A76A-C10D2BC7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F00B-949A-477C-A493-BF147F44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116-E23B-4DF0-B26F-5BB89A4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93F-5C31-445F-9CB5-0326AABB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29B-84D2-438E-A096-158D7066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3DB-2F7B-4AA8-BB3A-AF791E55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5C5-B464-4E95-9C5C-C5317D2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590-9868-4ABF-866E-0D7A686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7A7-A4FC-416E-8868-BDB69E8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B69C-4259-4F02-A739-25DD8C0F7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图形6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图形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Line 8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FFA-E191-4ECD-AAD3-F78B9BF4E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株洲职业技术学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4495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毕业设计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93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"/>
          <p:cNvSpPr txBox="1"/>
          <p:nvPr/>
        </p:nvSpPr>
        <p:spPr>
          <a:xfrm>
            <a:off x="2590920" y="3176640"/>
            <a:ext cx="433224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24T03:14:2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