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057D-019C-4A82-8F12-861ACBF5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25BD-142E-4289-99D9-BD3FD225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F6E-DE91-4293-98A0-415C16F0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C0F1-15B5-477D-BDB6-3C21E09D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418-644F-46B5-9C02-9554FAF2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40D6-1468-4E2B-818D-D7837511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560-0D8D-435E-8354-585FA95C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C34-4706-402B-9B78-EC6ED176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113-E454-4125-A986-E429E1AE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AE51-55E4-4B6E-AE8D-BC5AD0F1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5419-8A1C-404D-9D77-780078F7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377E-7C7E-41B0-AB51-734E3D58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2039-E32A-4D17-B92C-9A03CFA8BA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041120" cy="4537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tretch/>
        </p:blipFill>
        <p:spPr>
          <a:xfrm>
            <a:off x="-506520" y="5646600"/>
            <a:ext cx="10160280" cy="1257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684360" y="5715000"/>
            <a:ext cx="784836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292720" y="692280"/>
            <a:ext cx="29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愚人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April Fool's Day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）节  愚人节较普遍的说法是起源于法国。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56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年；法国首先采用新改革的纪年法格里历（即目前通用的公历），以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为一年之始。但一些因循守旧的人反对这种改革，依然按照旧历固执地在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这一天送礼品，庆祝新年。主张改革的人对这些守旧者的做法大加嘲弄。聪明滑稽的人在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就给他们送假礼品，邀请他们参加假招待会，并把上当受骗的保守分子称为“四月傻瓜”或“上钩的鱼”。从此人们在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便互相愚弄，成为法国流行的风俗。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世纪初，愚人节习俗传到英国，接着又被英国的早期移民带到了美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8317080" y="189000"/>
            <a:ext cx="561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388360" y="4149720"/>
            <a:ext cx="561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0:28:57Z</dcterms:created>
  <dc:creator>pc</dc:creator>
  <dc:description/>
  <cp:keywords/>
  <dc:language>en-US</dc:language>
  <cp:lastModifiedBy>admin</cp:lastModifiedBy>
  <cp:lastPrinted>1899-12-30T00:00:00Z</cp:lastPrinted>
  <dcterms:modified xsi:type="dcterms:W3CDTF">2015-03-17T01:44:35Z</dcterms:modified>
  <cp:revision>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