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503-431F-40C9-B585-15B1CEC5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5FF-A59F-4327-8273-1F4780A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F34-D32F-4B54-9268-1E06213C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F63-72BD-4A60-B492-93280D41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8852-EE7D-4DD3-AB5D-ACF7FD49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762-0693-4AA6-BD5B-DDF939E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25A3-3A7B-4EB2-AC44-AD344D61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C12C-1851-423E-B632-D62435E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A617-4A86-4634-969C-B3BFB5A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0DE0-1EEA-4A57-B056-C4588004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B0AD-49BA-4A89-B482-894B306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43F-559F-41A9-86F6-EDCAA23A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14E9-FE72-4629-B0BB-339BC10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5E9-98D9-4D19-8176-1A50F4C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8964-4E88-490E-B411-87BD4B14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92E2-6B97-46E5-9439-82BA99E7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06A1-DD07-4A3D-BB87-19A97F8F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0E1-9A4C-4AF9-8D9C-378C3256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AF3-B8C0-48D3-B0A2-7762B67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303-F843-4480-A1D4-A19A79E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73D-0E4D-4317-830D-DDDE694B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87C-4050-46B6-A861-DC9DB47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CC6-3534-4AAB-9ADB-9833CE5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ACB-2C89-4668-9887-C2A6A7E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905040" cy="6858000"/>
              <a:chOff x="0" y="0"/>
              <a:chExt cx="990504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905040" cy="6400800"/>
                <a:chOff x="0" y="304920"/>
                <a:chExt cx="990504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30120" y="0"/>
                <a:ext cx="9244440" cy="6858000"/>
                <a:chOff x="330120" y="0"/>
                <a:chExt cx="924444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90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320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650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31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971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301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63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29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95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612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6273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933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593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254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914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574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632040" y="0"/>
              <a:ext cx="627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7564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48200" y="1415880"/>
              <a:ext cx="1932840" cy="2324160"/>
              <a:chOff x="448200" y="1415880"/>
              <a:chExt cx="193284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48200" y="1513440"/>
                <a:ext cx="193284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4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54400" y="1415880"/>
                <a:ext cx="2088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56B-0173-4032-8EF5-2DE765A6B278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631680" y="0"/>
                <a:ext cx="62737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2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50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11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1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0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31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92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12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7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933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3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254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91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57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95752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7208640" cy="2851200"/>
              <a:chOff x="4680" y="887400"/>
              <a:chExt cx="72086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697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52204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59520" y="1488600"/>
                <a:ext cx="65538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740520" y="13568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544840" y="3098880"/>
              <a:ext cx="6548760" cy="2876400"/>
              <a:chOff x="2544840" y="3098880"/>
              <a:chExt cx="654876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544840" y="5464080"/>
                <a:ext cx="6548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89416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774640" y="53024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2800" y="1752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074-D4EE-42A8-B116-7D70CC0036B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1800" y="1341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应急救援及安全基础知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160880" y="458100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  <a:ea typeface="黑体"/>
              </a:rPr>
              <a:t>白家疃社区居委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20880" y="184464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雷雨大时，如在山野林中，可找干燥岩洞避雨。千万不能站到潮湿岩壁或大树下躲雨，不要靠近孤立的高楼、电线杆、烟囱等高耸的的物体。如在田野中，手里的铁锹或金属把柄的伞不能高举，较好的办法是远离导电物体。室外作业者遇雷雨时，不要使用对讲机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雷雨大时，走在大路上、田野中无处避雨时，要注意做到：身体的位置越低越；人体与地面距离越近越好；离铁路钢轨、高压电线越远越好。最好的应急措施是迅速蹲下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急救常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9240" y="17002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（五）溺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溺水是指被水淹的人由于呼吸道遇水刺激发生痉挛，收缩梗阻，造成窒息和缺氧，需要紧急抢救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应急要点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★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发现溺水者后应尽快将其救出水面，但施救者如不懂得水中施救和不了解现场水情，不可轻易下水，可充分利用现场器材，如绳、竿、救生圈等救人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★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将溺水者平放在地面，迅速撬开其口腔，清除口腔和鼻腔异物。如淤泥、杂草等，使其呼吸道保持通畅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764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倒出腹腔内吸入物，但要注意不可一味倒水而延误抢救时间。倒水方法：将溺水者至于抢救者屈膝的大腿上，头部朝下，按压其背部迫使呼吸道和胃里的吸入物排出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当溺水者呼吸停止或极为微弱时，应立即实施人工呼吸法，必要时实施胸外心脏按压法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紧急呼救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7560" y="1905120"/>
            <a:ext cx="779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10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报警电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发生刑事、治安案件以及危及公共与人身财产安全和扰乱公众正常工作、学习与生活秩序的案件时，应及时拨打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10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报警电话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19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火警报警电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发现火灾应及时拨打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19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火警报警电话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2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交通事故报警电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发生交通事故或交通纠纷，可拨打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2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或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10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报警电话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20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医疗急救求助电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需要急救服务时，可以拨打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20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急救求助电话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急救常识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8880" y="184464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（一）家庭火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家庭火灾一般是由于人们的疏忽大意造成的，常常事发突然，令人防不胜防，后果严重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应急要点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炒菜油锅着火时，应迅速盖上锅盖灭火。如果没有锅盖，可将切好的蔬菜倒入锅内灭火。切忌用水浇，以防燃着的油溅出来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电器起火时，先切断电源，再用湿棉被或湿衣服将火压灭。电视机起火，灭火时要特别注意从侧面靠近电视机，以防显像管爆炸伤人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7560" y="1905120"/>
            <a:ext cx="685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逃生时不要留恋室内财物，如已脱离室内火场，千万不要为财物而返回室内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逃生时要尽量放低身体，最好是沿墙角蹲式前进，并用湿毛巾或湿手帕等捂住口鼻，背向烟火方向迅速离开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急救常识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20880" y="1773360"/>
            <a:ext cx="757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（二）食物中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食物中毒通常是指用餐者吃了含有有毒物质或者变质的肉类、水产品、蔬菜、植物或化学品后，感觉肠胃不舒服，恶心、呕吐、腹痛、腹泻等症状，共同进餐的人往往出现同一症状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应急要点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出现食物中毒症状时，应及时用筷子进入喉咙催吐，不要自行乱服药物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当中毒者意识不清时，需由他人帮助催吐，并立即送往医院抢救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7560" y="1905120"/>
            <a:ext cx="728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立即停止食用可疑食品，就地收集封存，以备检验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要保护好现场，及时收集患者的呕吐物、粪便等，以备检验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消费者在餐饮单位就餐后发生疑似食物中毒的，应于第一时间报告卫生监督机构，以免延误调查时机，给确定事件性质和原因带来困难，影响消费者依法向肇事单位获取索赔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急救常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0520" y="177336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（三）洪水灾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一个地区短期内连降暴雨，河水会猛烈上涨，漫过堤坝，淹没农田、村庄，冲毁道路、桥梁、房屋，这就是洪水灾害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应急要点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受到洪水威胁，如果时间充裕，应按照预定路线，有组织地向山坡、高地等处转移；在措手不及，已经受到洪水包围的情况下，要尽可能地利用船只、木排、门板、木床等，做水上转移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洪水来得太快，已经来不及转移时，要立即爬上屋顶、楼房高屋、大树、高墙，做暂时避险，等待援救。不要单身游水转移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8880" y="2060640"/>
            <a:ext cx="7559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在山区，如果连降大雨，很容易暴发山洪。遇到这种情况，应该注意避免渡河，以防止被山洪冲走，还要注意防止山体滑坡、滚石、泥石流的伤害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发现高压线铁塔倾倒、电线低垂或断折；要远离避险，不可触摸或接近，防止触电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急救常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05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（四）雷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雷雨，又称雷阵雨，是夏季常常出现的伴有雷电的降雨现象，雷击，起源于带有电荷的云朵，它会对地面突出的高大树木、高层建筑、电线杆等物体放电，不仅能将高大建筑击毁，而且会将突出物附近的人、畜击毙或击伤，有时还可引起森林大火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应急要点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★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在雷雨时，最好把收音机、电视机等家用电器的电源切断，尽量不要使用电话、电脑。电视机的室外天线应配有接地装置。不要接触煤气管道、自来水管道以及各种带电装置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★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雷电时，在室内受到雷击伤害的可能性较室外小得多，因此，大雷雨降临时尽量不要外出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6:05:36Z</dcterms:created>
  <dc:creator>xx</dc:creator>
  <dc:description/>
  <dc:language>en-US</dc:language>
  <cp:lastModifiedBy>USER</cp:lastModifiedBy>
  <dcterms:modified xsi:type="dcterms:W3CDTF">2013-05-02T08:00:12Z</dcterms:modified>
  <cp:revision>26</cp:revision>
  <dc:subject/>
  <dc:title>应急救援及安全基础知识</dc:title>
</cp:coreProperties>
</file>