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80F8-5F7D-4648-9E42-66E54EC342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17BB-76FD-4718-922E-97C8148493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675-5D89-4B30-BFA0-A8E1D590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FF5-DF4B-43E3-A12D-241BDE9A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773-7FD7-439A-9898-F7A71ABD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89C-382E-4353-A046-5D8442C3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C8F08-834B-4C3B-8886-04554FDE3F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C3B51-022E-40D0-BF26-215490D9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039FC-3839-492E-BDA9-3C31FA71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68110-1C53-4CFA-9CA4-DDFC3CCD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BE678-2480-470D-842D-81343FA5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D18C5-2168-42F8-9934-8820728F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21546-DDAE-4DFF-A9D9-62BFF3D7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BE5-029E-46FA-B6ED-B67F7760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0986B-9AB8-4E16-9720-0C5E2097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E7D74-A39B-47A7-A7FA-68EEEC7B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B9082-151E-44DF-B6BE-70F6ED2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3519C-FF0B-4D73-9A4F-787C90A1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8A156-FB27-4FDB-BB5C-045DC265A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77208-56E4-4EAE-A481-41F14111B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E5752-288B-450B-8BC6-D8F43B8C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80FED-002F-45F4-83F7-DEDCF0C5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145EA7-72C7-49C4-B864-4242DB3E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22327-88AB-4C19-89D6-4F9C29AE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DA0-DFB3-42CA-A144-22077422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74223-FD0A-4A1E-9F11-569C1EF8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AFE18-4070-4C6E-BE8B-03734102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05B90-962C-4914-88E0-EFCDD207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69F48-E36B-49E8-8750-C03B974E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DB048C-F03C-46E9-81BB-8C8BCE2F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C04D7F-1BB8-499A-A8ED-27E7AE02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970B14-8864-4E3D-BBA3-229FF0EFF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2BD-3BAE-42BB-A9BE-F3DE2836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585-A70F-4946-AA80-98F416EB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F19-D286-4BAB-A5B8-475EFB67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6CF-0E9C-4427-9A68-6F1880C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8F4-099D-4EC3-BFA2-851ADF9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54B-698F-4B6B-AD85-D80E1739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08F3-F2CC-49AC-AE7F-383300062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B8F3-3CD5-4226-A6B2-72674BE98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9768-9B7B-44E9-832F-DCBF082D1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毕业答辩幻灯片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800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BABY</dc:creator>
  <dc:description/>
  <dc:language>en-US</dc:language>
  <cp:lastModifiedBy>Administrator</cp:lastModifiedBy>
  <dcterms:modified xsi:type="dcterms:W3CDTF">2015-04-03T00:40:31Z</dcterms:modified>
  <cp:revision>53</cp:revision>
  <dc:subject/>
  <dc:title>幻灯片 1</dc:title>
</cp:coreProperties>
</file>