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07B-A9FB-4942-A511-7C1B05E9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482-765D-4FA4-8A63-24157E9B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A510-C0CD-4B28-8B4D-2E347E0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213EE-8A35-4B34-A4A7-CE9DBB74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F3A9-B681-46F3-B169-C6DB534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A4D4-53D4-4CEB-98EC-5B0A4FE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6C76-E545-4463-B797-ECAA3FE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C0E9-9C2E-4E54-BD10-5A4CF2B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92DF-9E09-4FF3-ACD6-6B987B4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B7ECF-AA04-4A97-AC43-5AC68667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E1378-03F6-46AD-B40D-220C4BFE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C6E16-EDBF-4C40-AD6A-F0C6B3BC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8D3-3A8F-4E6C-BB25-444D5E7F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6215C-2551-43DE-A2EA-1C2004F0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C0A25-E076-49F2-A795-274559C7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87B3-9F3D-4FE2-B5FC-9D50940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07666-2B3C-4DA7-AC1A-2D06B6F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6642D-5B65-4458-A500-889FF8C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C3B82-80AB-4D2C-B46C-CE8A84B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4BAB-F404-44BE-B5D6-7AF49B2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7249E-230D-4D11-ADCD-AA6621E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75EE-0C47-4857-9032-B1326EA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C5979-3D6A-407E-99CF-1CC5916F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C41-47DB-4F14-96B5-115929BF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0B9ED-1124-4FB8-BB73-376C3DBB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D72C6-1ED5-4672-B11F-4F103D8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683E9-C187-4767-8336-D4E384B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1688-1D0C-45AE-84BF-31B8FCC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3431-69B9-40B6-A7F9-F1B1623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033C-3879-4717-85E2-D71195E7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CB08C-04B3-4BD2-A644-573BC9CB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AE002-4DC5-426A-97BC-AA7DC7C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5DD1-0D90-4339-8D92-053D3F38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58671-1D71-46E7-86BE-AAE8C65A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721C-7132-435B-8423-5E5B8DB0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7710-8084-4DAC-ABEE-BFD65CF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B839D-7D18-4EED-A79A-B302437A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0ACA1-6971-45AB-8CDD-459AA387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69005-265F-440F-B201-341E0FE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B1CAC-6A34-4CA6-8C02-4A3075C1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98D28-FEAB-4663-B69F-0C7ACA7D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506B8-FF0E-4ABC-8400-137CFF1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A43AF-BD46-40E2-8918-6694B4D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90674-E181-4E0A-A441-BD85BBB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14D34-B5FF-47D5-9E71-F595F3C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998-FEDF-4213-88EA-0462613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9606E-E0EE-455F-8222-38558C3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F7B65-8C49-40CA-A9B3-2670CCD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8272D-DB54-40B8-8930-5B13CC4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AE32C-DC72-4AF9-AA3C-36A5370A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6F97E-369D-473D-A682-770D4C12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135E1-D695-4666-9AF0-04EA2BDF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C9D41-F0BF-49AB-BE38-68E723C2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10BE7-FA05-47B1-8CB6-45334BEE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B09D8-FE1B-4824-BE80-1BD2B9D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4ADAF-2CE4-4CBD-A0E8-AACB86B0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253-09AF-409D-8630-D1927B6C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CF957-99A6-4D31-86B5-5D349997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23E9C-E569-4C4A-A4FD-13ECF64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41D8A-9F68-4C54-BC83-4DA7664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43E48-3AAA-4FEB-A080-F6448AB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CD6D6-C5F4-4020-BC0C-4085F43C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11AF6-2ABD-4062-A671-68DA5025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9EB68-4198-4547-96F3-136FE43C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5013-0DAD-41CE-8761-59BBB648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C678-8FDB-465C-B9A3-98FA2B55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083-3EAD-49C7-97F7-61F6B95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AE4-222B-4E7A-A256-2CA55A4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DD7-16CB-4285-B2B8-F155047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7272-4500-4738-B19E-249F4A2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05B5-9D2A-41CD-9CC2-4BAD8C5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D7C8-B445-4179-ABC7-2C5B8FA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7C69-1DED-4A83-932F-A8B00A3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0B66-03F6-4E0A-AFEF-10C0DB22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1E9C-E1C5-4E45-93E9-93D38592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FF87-32B3-4E34-8B28-BCD0C6A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D156-D0FB-4411-BE96-9DBC017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D9DA-6FAC-48C9-AF98-40A53210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FDA0-2EE6-4378-82B0-C2F53708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25D-D4F9-453E-98C5-A8EADC6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C7E5-F5CD-4CB2-B3F9-541B137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8454-7D71-4036-8ECB-81B298B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36C7-2AB4-4825-AC8F-6EE5D8E4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C57B-4410-4E84-96E0-57377EC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8054-72A0-4EB9-A654-9B263C4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EDA8-4AA9-4232-B813-AB784D01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6B26-31B3-4E9C-9B94-57C0EC43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CC23-8F29-4289-8AAD-7C5FFB6E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B34F-678F-4EE5-861A-428DCFCF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0786-C962-4EDC-B7A0-1FDC28E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012-FD2D-4D85-BB22-FB8D41B3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07F2-B9A0-464D-8AD0-C0608B27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4BAE-5ADE-4654-B394-572435B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F16F-121A-4FD6-91E8-E1842CEC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AC16-5050-4920-ADE8-72B6CC4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B3BB-7049-49C5-B876-D5E4CB1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7C36-FB94-4216-92B6-C51436D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6258-8990-47D4-84A8-02CF332E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28D3-8131-4540-8527-7460C713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EFE9-17FE-485F-8720-3DD124E8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463E-5A65-4EEF-9543-E9AB8995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7AA-A884-408A-97A3-E4F76DB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0A11-7921-42B3-85A4-4EFA24A9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7556-56F2-4504-BAEF-5607F3B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0222-E1E4-4B8B-AB2C-EFDB4903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90F8-1A6F-4053-9AB6-4455B25F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60F1-5B2F-4F5B-A5F5-A8D25CA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2713-DCD4-4DD9-B716-C385DEB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931A-C632-4950-AC93-683D807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B343-5A20-4970-A481-017A133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CD9C-511C-4995-858C-1704C788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9656-6648-4217-9DFC-DA19BE45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843-9BF5-4644-B42A-1113B7A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CDA1-B34F-4F0B-BDC7-A3343F67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B362-DAE1-4CB1-B65B-381A0C36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3B3C-297F-481F-A9D7-8EDFF8E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E41CC-0B39-4BDD-9518-3AFD04F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9A7F0-192C-4DE9-B59F-0D86ED1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E4316-48C4-49F3-85CE-B413E12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9126-7E60-421A-8D5F-02B9A8A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C8D7-95DD-49CB-BED6-EF37A1F8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C6437-B29E-4EFC-99E2-2092C09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4FCF-7A2C-4D7F-B368-9A1374D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D11-4150-4FF0-ABCF-A04FF1B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9762-0367-49DE-A0C0-FD200E6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3FC5-9B36-4D21-8C89-6A6F040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FFBC-4DD4-458B-AEE5-7BE949A9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A6C9-A5BC-4949-B367-EDFFFA84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B67A-03AE-4283-A1FA-3E9899D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4CE8-9E30-4FE7-AAF9-E2C9D0D8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3BD37-B095-4D82-AEEE-3892202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CF595-EDA6-41BC-823B-B29FE099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2B981-EE03-47E2-81BD-BDC7DAD5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F803-072F-466F-8811-908848E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E76-75FF-4DA5-81C1-BE06E0A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80755-40F0-432B-B7C5-7906328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F1BF-9A2B-45EA-8967-CD17574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092D-9A96-4189-A187-CF092FA7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04A0C-D50C-4071-B12B-A26B383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A45C6-EA27-4EB7-B941-6044BE07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46B2-C764-4A6D-BF56-4E232DB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ED361-648E-45C9-9769-362B2FC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5FBD-5CCD-4807-9634-565B87C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5B3F-F6E8-49C8-B0E5-F19B138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7F46-81FC-4FC8-81C5-2B7FBDC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3E3-DEF8-45A3-909F-20C328F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80CB4-3A20-4F25-833D-0B1D9BC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A720-1848-43CA-B7FF-C2C57C2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2FD8-8B3E-4B91-8B53-E43720C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66A7-F8D6-4458-968B-DCD7D87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21672-ADDB-4B96-9E2C-ECE5CAB9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CE05-BE10-410D-B184-D96A7841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543D-B6FF-4852-8F83-BE839E21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6934B-5ABC-4EF8-85B9-71EEE077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BCF36-7B74-4AE5-AE43-4B1F812D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8492-1021-4F6C-93D6-B60BEF6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5F0-45D5-441A-85F3-C4A20B4B85E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A14-DEF1-4085-92E5-9DA34EF526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437-B8A6-4CF4-A0A3-1ADEA880A5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AFD4-9AA2-4C64-A9FC-7698268D5C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00C-4B5C-4762-8B7E-E39AB7C811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F92D-FCC8-44C0-A800-9321DAAE4B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640-2238-45AA-BD83-2504A72B60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EF5-0B8A-46B5-8050-B4583FAAAC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0D98-39D6-4FB7-A934-BEB7CBCF14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E4F-F2F1-4665-B90B-4596C23FC8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103-1969-439F-8E41-B691746F27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531-E610-4B16-A57E-67C14C08F5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D1AB-1D98-403A-A4B1-180E0CA3D8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D05-A307-4796-AF85-572617F80D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8DFF-8584-4FA6-8632-6592D83E0D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006-8934-40C8-891E-8FB5D61EBD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6D2-CDA2-46C5-8757-29FBD5CCEC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44B-2E79-4380-90CE-CB81B0143B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0A6-12E4-40CA-AA47-6181DDAB60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7DD-0797-4D84-9B11-7FD5F17424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D06-A242-433A-A498-A88CE40795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57C-07BE-4AE1-B4C4-39D4FA436B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247-B803-4C07-B1A5-7899697D07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67C-7FA2-46B6-ABAD-B48632111F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743-CE5A-443C-B848-57D35F76B3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6DB-8006-44F5-BC7C-2420626BBD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5"/>
          <p:cNvSpPr/>
          <p:nvPr/>
        </p:nvSpPr>
        <p:spPr>
          <a:xfrm>
            <a:off x="0" y="3168720"/>
            <a:ext cx="914400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4"/>
          <p:cNvSpPr/>
          <p:nvPr/>
        </p:nvSpPr>
        <p:spPr>
          <a:xfrm rot="10800000">
            <a:off x="0" y="284292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6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3348000" y="3168720"/>
            <a:ext cx="235764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359600" y="27860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4217040" y="2786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4539240" y="2786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610520" y="27860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4788720" y="278604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4034160" y="2786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3890160" y="2786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7"/>
          <p:cNvSpPr/>
          <p:nvPr/>
        </p:nvSpPr>
        <p:spPr>
          <a:xfrm>
            <a:off x="2860560" y="1785960"/>
            <a:ext cx="4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2934360" y="3643200"/>
            <a:ext cx="73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9"/>
          <p:cNvSpPr/>
          <p:nvPr/>
        </p:nvSpPr>
        <p:spPr>
          <a:xfrm>
            <a:off x="6432480" y="14288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0"/>
          <p:cNvSpPr/>
          <p:nvPr/>
        </p:nvSpPr>
        <p:spPr>
          <a:xfrm>
            <a:off x="5576040" y="35719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432400" y="2286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599 0.3044 E">
                                      <p:cBhvr>
                                        <p:cTn id="3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24375 -0.30301 E">
                                      <p:cBhvr>
                                        <p:cTn id="45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3.7037E-007 L 0.11805 -0.3676 E">
                                      <p:cBhvr>
                                        <p:cTn id="5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-0.03941 0.4199 E">
                                      <p:cBhvr>
                                        <p:cTn id="61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7037E-007 L 0.16528 0.3044 E">
                                      <p:cBhvr>
                                        <p:cTn id="6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0.40156 0.13657 E">
                                      <p:cBhvr>
                                        <p:cTn id="7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0.29132 -0.20996 E">
                                      <p:cBhvr>
                                        <p:cTn id="8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1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25360" y="1774800"/>
            <a:ext cx="475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物主题本科毕业答辩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4861080" y="40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3"/>
          <p:cNvSpPr/>
          <p:nvPr/>
        </p:nvSpPr>
        <p:spPr>
          <a:xfrm>
            <a:off x="2195640" y="2276640"/>
            <a:ext cx="51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6dde7"/>
                </a:solidFill>
                <a:latin typeface="Calibri"/>
              </a:rPr>
              <a:t>T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B18-9C81-4DC6-A5A4-042D498F9E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00Z</dcterms:created>
  <dc:creator>mouse</dc:creator>
  <dc:description/>
  <cp:keywords/>
  <dc:language>en-US</dc:language>
  <cp:lastModifiedBy>admin</cp:lastModifiedBy>
  <dcterms:modified xsi:type="dcterms:W3CDTF">2015-03-20T00:51:31Z</dcterms:modified>
  <cp:revision>9</cp:revision>
  <dc:subject/>
  <dc:title>你的大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