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9A7-E467-4DF3-9E0D-E62FE63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792-C35D-4663-A1CA-4AE4970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B84-002A-42E5-9F12-B86BB858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96E-3AA9-472B-8D9A-6C8EFBB8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34D-6367-462B-BB4D-227BE2C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D17-9308-4484-9B10-BA65D453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22D-8F8D-4460-B631-C61D2D7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6D3-6B9F-4D18-8B19-61EC1CBD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C13-E171-4BCE-87C7-FDF5BB5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391-EFBD-44F1-95B6-1B67CDFD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85-A8DE-4660-ABFE-A714C6F8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61A-0C96-4BD1-ADD5-9EA142D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522-4A1F-4A68-8289-0AEBF0FF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清明节</a:t>
            </a:r>
            <a:r>
              <a:rPr b="1" lang="en-US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13:54Z</dcterms:created>
  <dc:creator>chinaz</dc:creator>
  <dc:description/>
  <dc:language>en-US</dc:language>
  <cp:lastModifiedBy>Administrator</cp:lastModifiedBy>
  <dcterms:modified xsi:type="dcterms:W3CDTF">2015-03-30T00:44:00Z</dcterms:modified>
  <cp:revision>4</cp:revision>
  <dc:subject/>
  <dc:title>幻灯片 1</dc:title>
</cp:coreProperties>
</file>