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3AA-7BBF-4390-B42F-D28B3C12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6E7-3917-4E0E-A3E7-99104FD5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B12-0E08-4B2F-88D3-49BF731E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1D2-061E-474F-888B-38D51DB5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61C8-A94C-43F2-B77E-A2163E56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1EBF-93CC-476E-8832-E48B28F4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EEDB-9601-4B8A-B80A-A0DDB002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E777-7E76-4162-9B74-4061786C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7625-69A8-4BE5-ADD9-C581952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6F74-0B52-4C48-B0EF-F3BC0BB8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2BEF-6785-438D-A63F-BF99C7D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C59-B00A-4DBC-A2D9-16195B88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25CB-6EA9-47B1-A0B4-B5C7ECEE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4DAB-5728-4E7D-9EA5-A17246C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0EC3-E506-4E67-85D7-DE4469AD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F811-8ADB-40D6-BB5E-D6BF8B52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859D-EC39-4E1A-84AB-EF37A4FB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D46-E657-4433-8D75-C8FD5504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332-1F73-4514-8A14-DE3B04F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798-5C65-4870-AC1C-B85D9155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BC5-4803-40E8-AFE0-2E0D9300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194-FD8F-4312-B5C7-412496D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547-A5DB-4B14-9D27-916ECAF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EDE-56B0-4048-8892-74A2FED6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504C-FDFF-413E-BB2C-3A91BE572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18DD-A0A7-485C-BB43-69B5A6D1D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49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3300"/>
                </a:solidFill>
                <a:latin typeface="汉仪方隶简"/>
                <a:ea typeface="汉仪方隶简"/>
              </a:rPr>
              <a:t>京剧及欣赏</a:t>
            </a:r>
            <a:endParaRPr b="0" lang="en-US" sz="7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最主要的戏曲剧种，流行于全国各地，其前身是徽调和汉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剧后定为我国国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的形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原有南方演出的三庆、四喜、春台、和春四大微调班社进入北京，同来自湖北的汉调艺人合作，接受了其他剧种的表演方法，演变，而形成早期京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有的京剧是有许多的表演艺术家经过不断的创作丰富而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音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音乐属于皮黄腔系，唱腔以徽调的二黄和汉调的西皮为主所以叫“皮黄腔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唱腔伴奏乐器以京胡、京二胡、月琴、三弦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usice4"/>
          <p:cNvPicPr/>
          <p:nvPr/>
        </p:nvPicPr>
        <p:blipFill>
          <a:blip r:embed="rId1"/>
          <a:stretch/>
        </p:blipFill>
        <p:spPr>
          <a:xfrm>
            <a:off x="7978680" y="5565600"/>
            <a:ext cx="11653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表演角色分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人物男、女、老、少、俊、丑、正、雅分成生、旦、净、丑四大角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种角色都有其不同的脸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4"/>
          <p:cNvPicPr/>
          <p:nvPr/>
        </p:nvPicPr>
        <p:blipFill>
          <a:blip r:embed="rId1"/>
          <a:stretch/>
        </p:blipFill>
        <p:spPr>
          <a:xfrm>
            <a:off x="6022800" y="4560840"/>
            <a:ext cx="31212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欣赏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-----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智斗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智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沙家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现代京剧）第四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容介词：新四军家属阿庆嫂，在沙家浜以开茶馆为名从事党的地下交通站工作，原是土匪头子的胡传魁，曾因抗日被日本鬼子追击得走投无路，阿庆嫂因其抗日而掩护他，救了他的命。不料后来胡传魁投降日寇，成为伪军“忠义救国军”的司令，驻扎到沙家浜专事围剿新四军伤病员。日寇为了他，给他派了个参谋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地豪绅刁老太爷的儿子汉奸翻泽官刁德一为控制这支军队，执行围剿任务。来到了茶馆，刁德一看到胡传魁与阿庆嫂这么热情打招呼，顿生疑心，就旁敲侧击地盘误码阿庆嫂打听有关新四军伤病员的消息。可是阿庆嫂察颜观色、严密防备、机智伶俐、以守为攻，说出来的话无懈可击、滴水不漏，使刁德一一无所获，讨了个没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295280" y="2590920"/>
            <a:ext cx="752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剧中人物各有哪些特点（从语言中提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当时社会历史背景（人物所处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京剧音乐唱腔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860840" y="990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Times New Roman"/>
              </a:rPr>
              <a:t>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京剧 欣赏</cp:keywords>
  <dc:language>en-US</dc:language>
  <cp:lastModifiedBy>admin</cp:lastModifiedBy>
  <dcterms:modified xsi:type="dcterms:W3CDTF">2015-03-24T01:48:18Z</dcterms:modified>
  <cp:revision>2</cp:revision>
  <dc:subject/>
  <dc:title>京剧及欣赏</dc:title>
</cp:coreProperties>
</file>