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C56-7A87-49F2-97DC-42FFE8FC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BBC-F734-48E8-B2BB-4E7B2BF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7A2-ACFF-44FA-8129-394CAD4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1D4-8942-4F23-B076-10C3E03E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9EE-8CFB-48DA-AF8C-C8CBC647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4DB-EFC0-4E97-AED8-2324656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6E0-88A7-4D02-9727-8BD775F9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0AB9-EA01-4DAC-8A0B-810CB99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CAE2-AA68-4682-9D63-A38AF33C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4C3-C3B5-460E-BA9A-CDBC91B5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D26-81BD-46D5-942B-180D856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0AF-D9CF-4049-97B5-9858490F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4752-5E6E-4366-B2B6-9F28F74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6D2-9292-41EC-95AE-78E868D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A975-ED9B-49AE-9BC7-69FF890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6AD6-8973-4CB0-833F-64A81F4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0E8-C6D9-461A-947C-65397E54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06A-689A-466B-8458-34A61C3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0CD-C59F-4F78-829B-B83FE392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853-66DA-4390-961D-0246EE6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F8A-4CC5-4705-89C5-B83569A8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523-C819-4C1B-B447-780DDAC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5BE-EFB7-4AA8-A2E8-6FC1B6B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09B-AE34-4007-9B8C-DC483BB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902E-052E-4F08-AAF3-C0DAF774D04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C5D9-9209-49C6-AC2A-920157A92B9C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7954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5bb40"/>
                </a:solidFill>
                <a:latin typeface="微软雅黑"/>
                <a:ea typeface="微软雅黑"/>
              </a:rPr>
              <a:t>绿色环保</a:t>
            </a:r>
            <a:r>
              <a:rPr b="0" lang="en-US" sz="4000" spc="-1" strike="noStrike">
                <a:solidFill>
                  <a:srgbClr val="85bb4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5bb4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5bb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b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5bb4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4000" y="415800"/>
            <a:ext cx="6202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5bb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84000" y="1409760"/>
            <a:ext cx="6202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b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5bb4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5bb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b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5bb4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5bb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85b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Calibri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21:16:19Z</dcterms:created>
  <dc:creator>Ric6000</dc:creator>
  <dc:description/>
  <dc:language>en-US</dc:language>
  <cp:lastModifiedBy>Administrator</cp:lastModifiedBy>
  <cp:lastPrinted>1899-12-30T00:00:00Z</cp:lastPrinted>
  <dcterms:modified xsi:type="dcterms:W3CDTF">2015-03-12T00:48:43Z</dcterms:modified>
  <cp:revision>5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