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chimes.wav" ContentType="audio/x-wav"/>
  <Override PartName="/ppt/media/image21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8.png" ContentType="image/png"/>
  <Override PartName="/ppt/media/image9.jpeg" ContentType="image/jpeg"/>
  <Override PartName="/ppt/media/type.wav" ContentType="audio/x-wav"/>
  <Override PartName="/ppt/media/image26.gif" ContentType="image/gif"/>
  <Override PartName="/ppt/media/image20.jpeg" ContentType="image/jpeg"/>
  <Override PartName="/ppt/media/clap.wav" ContentType="audio/x-wav"/>
  <Override PartName="/ppt/media/image27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13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camera.wav" ContentType="audio/x-wav"/>
  <Override PartName="/ppt/media/cashreg.wav" ContentType="audio/x-wav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B0E-1BA0-4719-B8CC-BDF718FC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378-EB11-44E5-B80E-8023181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CED-F88A-4A58-872E-BEA40916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0A1-17B3-4679-8667-4199FC3E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C44-4E23-4071-BBF9-9372C016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0F00-9C71-4F98-A0A7-331ECD27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7E99-9BD7-436F-A082-CBD967B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9FE6-F7F2-461A-B9F7-EDEFA4CC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624C-FFAB-4F77-8F02-AF64FC8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483-1B29-452E-A9EC-76A6906F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A37-4F86-4F56-BF9A-99E7012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442-DA05-4FDA-BE8F-AED96671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D32-FD1E-4005-B537-3C49AB2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7C3A-7023-4B69-BBFB-EEF9AA9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F17-31D0-4726-B9B7-810FC525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DEEF-E05F-4F88-BC0C-2A2FA74F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EEB-0EBD-4292-9474-786E4D6C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B090-AEEC-498F-A7E8-10841213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6B55-3380-4772-851A-5CB407D3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D481-B36C-4D84-B270-BE7DB68B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4B92-0A0A-4AB8-8064-B8FBC36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DFC8-925C-47D9-88E9-9DD7A8E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C4A-57A2-45E9-8EF7-9C792A0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CF42-FC64-4A44-A58D-CF10C698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8C51-0CD4-47A8-8B19-F2CDABA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F2E2-7E6E-4105-A7FF-095E514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F4E7-1C61-4FD5-AFF9-5C00A72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CE41-D0A3-4F48-A055-ACDE307B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DCE4-370B-4704-ACBA-43DC7D28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67FA-B4F4-4139-A672-D7155DEF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7151-1752-48EF-9AE5-C99A10A9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77E0-F9AA-4C3B-A0C5-59449B40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D742-BECD-4A3A-89EB-0DA0618B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585-470E-4C9D-8817-A6BAA926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6E78-756B-4EFB-9582-3165520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C4C5-2F4C-4176-A60D-8996E34B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E7E5-E027-402E-B2C2-4015E69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626A-3D22-438D-A191-4FCDBA9F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740C-E597-455F-A337-7CA9F88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BA2E-D32D-422D-A1F9-47AEC36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93D2-B248-4E3C-89CE-D7AE312A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C13B-8C01-4F8D-BB22-5EEDB01A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82B00-270E-452D-9C0A-41CBEFFA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4FB-CBA7-4543-8267-3AE3F34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BCF-F5C2-450D-B0AD-8C11B91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7E2-A216-4FAC-9A45-BA0F5737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28A-7372-43C6-AD44-F1164E8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A2F-6607-4EEE-84EC-84D7E526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6749-FF57-404E-B301-BC703E35FFA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9C4-824C-4121-8774-7770355B1F05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EBF6-2A77-4F2A-8B31-A0FAEF8CFB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3C4F-327F-47B2-AFA2-C53071C0DE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5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6443640" y="1773360"/>
            <a:ext cx="792000" cy="2557440"/>
            <a:chOff x="6443640" y="1773360"/>
            <a:chExt cx="792000" cy="2557440"/>
          </a:xfrm>
        </p:grpSpPr>
        <p:sp>
          <p:nvSpPr>
            <p:cNvPr id="483" name=""/>
            <p:cNvSpPr/>
            <p:nvPr/>
          </p:nvSpPr>
          <p:spPr>
            <a:xfrm>
              <a:off x="6443640" y="396396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43640" y="359892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43640" y="323388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43640" y="2868480"/>
              <a:ext cx="790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43640" y="250344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3640" y="213840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43640" y="177336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43640" y="1773360"/>
              <a:ext cx="790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3640" y="4329000"/>
              <a:ext cx="790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43640" y="1773360"/>
              <a:ext cx="1080" cy="255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34560" y="1773360"/>
              <a:ext cx="1080" cy="255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9640" y="189000"/>
            <a:ext cx="8209080" cy="916920"/>
            <a:chOff x="539640" y="189000"/>
            <a:chExt cx="8209080" cy="916920"/>
          </a:xfrm>
        </p:grpSpPr>
        <p:sp>
          <p:nvSpPr>
            <p:cNvPr id="495" name="DownRibbonSharp"/>
            <p:cNvSpPr/>
            <p:nvPr/>
          </p:nvSpPr>
          <p:spPr>
            <a:xfrm>
              <a:off x="539640" y="189000"/>
              <a:ext cx="8209080" cy="762120"/>
            </a:xfrm>
            <a:custGeom>
              <a:avLst/>
              <a:gdLst>
                <a:gd name="textAreaLeft" fmla="*/ 2052000 w 8209080"/>
                <a:gd name="textAreaRight" fmla="*/ 6157080 w 8209080"/>
                <a:gd name="textAreaTop" fmla="*/ 9504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0000" y="189000"/>
              <a:ext cx="46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期中考光荣榜</a:t>
              </a:r>
              <a:endParaRPr b="0" lang="en-US" sz="5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24000" y="2452320"/>
            <a:ext cx="86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班级优秀生名单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177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李慧林、沈福涛、赵一楠、张晴、刘秀成、冯春良、陈飞、吕桂蕾、赵映源、魏立江、赵文笑、吴淑敏、陈金、张爱婧、吴娟、叶青娜、赵晨晖、刘本栋、赵叶青、王浩、李浩然、许长富、王倩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419640" y="5661000"/>
            <a:ext cx="91440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611280" y="290520"/>
            <a:ext cx="8208720" cy="762120"/>
            <a:chOff x="611280" y="290520"/>
            <a:chExt cx="8208720" cy="762120"/>
          </a:xfrm>
        </p:grpSpPr>
        <p:sp>
          <p:nvSpPr>
            <p:cNvPr id="501" name="DownRibbonSharp"/>
            <p:cNvSpPr/>
            <p:nvPr/>
          </p:nvSpPr>
          <p:spPr>
            <a:xfrm>
              <a:off x="611280" y="290520"/>
              <a:ext cx="8208720" cy="762120"/>
            </a:xfrm>
            <a:custGeom>
              <a:avLst/>
              <a:gdLst>
                <a:gd name="textAreaLeft" fmla="*/ 2052000 w 8208720"/>
                <a:gd name="textAreaRight" fmla="*/ 6156720 w 8208720"/>
                <a:gd name="textAreaTop" fmla="*/ 9504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11280" y="290520"/>
              <a:ext cx="46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进步标兵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419640" y="1773360"/>
            <a:ext cx="34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1444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学习状况急需稳定的学生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119700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267200"/>
            <a:ext cx="638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赵晨晖、朱聪颖 、赵一楠 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魏丽江、吕桂蕾、赵叶青、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王倩 、王壮 、许长远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周泉成、 李晨旭、 陈飞、 赵华磊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76360" y="3932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89040" y="4003920"/>
            <a:ext cx="409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叶青娜 、刘秀成  、赵文笑、  张爱婧 、王浩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吕梦雨 、 李文谱 、 赵振 、 刘高利 、李浩然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赵娟 、吴胜杰  、许树昕 、 刘墩慧  、王梦雨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 advTm="30000"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63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学习习惯好：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  <a:ea typeface="黑体"/>
              </a:rPr>
              <a:t>勤向老师提问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  <a:ea typeface="黑体"/>
              </a:rPr>
              <a:t>同学间讨论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11280" y="579600"/>
            <a:ext cx="8208720" cy="761760"/>
            <a:chOff x="611280" y="579600"/>
            <a:chExt cx="8208720" cy="761760"/>
          </a:xfrm>
        </p:grpSpPr>
        <p:sp>
          <p:nvSpPr>
            <p:cNvPr id="511" name="DownRibbonSharp"/>
            <p:cNvSpPr/>
            <p:nvPr/>
          </p:nvSpPr>
          <p:spPr>
            <a:xfrm>
              <a:off x="611280" y="579600"/>
              <a:ext cx="8208720" cy="761760"/>
            </a:xfrm>
            <a:custGeom>
              <a:avLst/>
              <a:gdLst>
                <a:gd name="textAreaLeft" fmla="*/ 2052000 w 8208720"/>
                <a:gd name="textAreaRight" fmla="*/ 6156720 w 8208720"/>
                <a:gd name="textAreaTop" fmla="*/ 9504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1280" y="579600"/>
              <a:ext cx="4608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榜样在身边</a:t>
              </a:r>
              <a:endParaRPr b="0" lang="en-US" sz="4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成绩中看问题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971640" y="1014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对小科不够重视，平时记录，背诵不自觉，导致优秀人数较少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47640" y="2249640"/>
            <a:ext cx="66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地理：优秀分（）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生物：优秀分（）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47640" y="458136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语文：虽然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17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分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；           但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17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分就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成绩中看问题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1014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偏科现象不同程度存在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6920" y="350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单科拔尖人数太少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ffff"/>
                </a:solidFill>
                <a:latin typeface="Arial Black"/>
                <a:ea typeface="华文行楷"/>
              </a:rPr>
              <a:t>期中反思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课堂效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作业订正、纠错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复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读背情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向老师提问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对部分男生情绪的稳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在这次考试后，我们发现很多同学的总分高不了，究其原因，偏科太厉害！尤其要引起重视的是英语、数学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老师反复强调的知识点没落实到位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部分同学态度不端正，上课不够专心，出现开小差、想心思、玩手机，自己做自己的事情，完全不顾老师所讲的内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有些学生作业马虎、差错多，选择题乱猜，计算题只写一个答案；学生没有养成提前预习和适时复习的习惯，导致绩效不高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学习不扎实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不能落实到实处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个别同学对老师有抵触情绪现象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不能合理安排时间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个别同学没有明确的目标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基础太差，学习习惯不好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学生自觉性差，个别同学有严重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6920" y="4581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曹庄中学 七（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5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 班家长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187280" y="1601640"/>
            <a:ext cx="4249800" cy="52563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720520" y="2205000"/>
            <a:ext cx="15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365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给孩子创造良好的学习环境（物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6760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对子女的期望水平适中，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注意观察学生变化（交友、着装、      学习态度），碰到孩子的新问题，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"/>
          <p:cNvSpPr/>
          <p:nvPr/>
        </p:nvSpPr>
        <p:spPr>
          <a:xfrm>
            <a:off x="1654560" y="333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有问题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1704240"/>
            <a:ext cx="83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1706400"/>
            <a:ext cx="82803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作息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早出晚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常无端数日不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物品：有不良刊物、药物、香烟酒类，甚至不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交友：有社会人士的朋友、电话，有朋友也不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"/>
          <p:cNvSpPr/>
          <p:nvPr/>
        </p:nvSpPr>
        <p:spPr>
          <a:xfrm>
            <a:off x="324000" y="39337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8360" y="1700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教育孩子怎样做人，关心孩子的思想动态使孩子有正确的思想导向、明确的奋斗目标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41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要尽量控制孩子的零用钱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学、回家的时间，教育孩子少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12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最好能经常与学校、老师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得联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6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692280"/>
            <a:ext cx="8304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、不以成绩论英雄，您的子女学习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成绩好，并不意味着思想好、能力高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您的子女学习成绩落后，并不意味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思想差、能力低。现在的社会需要各种各样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的人才。只要有能力，任何一个学生都能在社会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1417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479736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0930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V="1">
            <a:off x="1763640" y="-459360"/>
            <a:ext cx="4953240" cy="9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9840" y="-3240"/>
            <a:ext cx="37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结  束  语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您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37663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89536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1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、加强老师、家长、学校与学生之间的联系，相互交流学生在校及在家的情况，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2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、便于老师更有针对性的实施教育，家长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1258920" y="30686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450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13372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06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1619280" y="1052640"/>
            <a:ext cx="619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顾刚刚过去的学习情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期中考试成绩情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雨林木风</cp:lastModifiedBy>
  <dcterms:modified xsi:type="dcterms:W3CDTF">2012-11-22T12:13:21Z</dcterms:modified>
  <cp:revision>252</cp:revision>
  <dc:subject/>
  <dc:title>热烈欢迎各位家长</dc:title>
</cp:coreProperties>
</file>