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F1B-9BAD-47BA-85CD-62B4514B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A76-A5F5-4C48-866C-2D8CA3DC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11E-304B-4038-BF64-7ADFE125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76B-D9FC-4AC7-8022-67B1C5C6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02D1-1A10-42C4-89E0-1DF59314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F4A0-70D4-40CD-88A3-201128BE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F65A-0947-499C-9056-5DA63215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708D-4CB1-418B-8026-8279DB75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5BE-8787-45E7-A013-E1F89EE7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C846-64B3-4C79-9459-2342EAC1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211D-D591-40EF-B894-30A2379E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AC1-F70F-43D0-A1B4-53C3CE32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F9CC-A91B-472E-95CF-5B5D84B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77FC-CBED-48A4-9C8B-9D79F01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2F53-26CA-4DA6-BE82-AD96839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E6F3-DA74-4683-9D60-227818E8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E6EB-7009-4CC1-8F25-6F2F8998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55941-00DB-4B31-B86F-B2498AEA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078E-5226-4DA5-8AD0-78ABF12A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BE60-45DA-4560-A3E3-9C1103E2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F356-5C20-49BF-AA56-C4D042E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231A-5489-4BB4-8AB9-EB765506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344-9C5B-4546-B794-BD780319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9C29-2F0F-4891-95B8-9890691A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D22F-E14B-4B72-803A-1284ECD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F1F5-1E8F-428E-9B25-999E9D3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4E0F-203D-417C-8E1F-5E15EE79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C17D-2F7C-43E1-93BD-6957569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4F4C-B8C3-4E2E-9DB9-0AF9337C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A9A5-5D37-480B-B98D-49C62886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2AF4C-4F11-4D72-9317-5C74E774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B7B3-17BD-4349-9F9C-374B37ED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05CF-D3D8-458F-97FC-1F0A3297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B40-40EA-4457-B0AA-DFF5A3F9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A90E-1191-419E-A502-C509DE40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17BC-42F1-4972-9F97-D69D8EA4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38962-E222-4B0A-B86D-78221DFB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02BC-482C-48EB-A4E1-41547A3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DF322-5F7F-4CC0-A109-EDC8BDB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4ABC-856F-4836-98ED-F5C32077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FDDC-269F-44C4-8081-0ADA7240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9952B-4B84-462C-8A7F-FF3C8058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2AFF-0C72-4B8E-9B72-BF175A76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BCC-68D5-4560-9268-5DAA78B1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B2E-AAC8-4E75-A5F8-90640A41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E00-7C1A-4782-AF75-2F1C6A3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49C-2E52-41B6-9983-1992495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1FE-9F05-423F-AB4F-D5A03943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E8F8-B6AD-4FBD-8F28-65D4247C2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9BB1-3807-448F-8A7B-3C7BBEA7F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B7F7-BD81-4E2C-A2B3-88961A3FE6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5040" y="6854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CE90-089D-4E57-A860-6DE882E68C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校同心，</a:t>
            </a:r>
            <a:br>
              <a:rPr sz="8800"/>
            </a:b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师生同行</a:t>
            </a:r>
            <a:endParaRPr b="0" lang="en-US" sz="8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633680" y="4805280"/>
            <a:ext cx="604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东坡下载站编辑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2160" y="2133360"/>
            <a:ext cx="4647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学生现状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533520" y="762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1﹑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学习成绩</a:t>
            </a:r>
            <a:br>
              <a:rPr sz="3600"/>
            </a:b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  在学习上，初二是一个分水岭，一部分同学在初二进步很快，由成绩中等上升为优秀，但也有一部分学生存在畏难情绪，将心思用在学习之外，成绩迅速下降，对学习失去兴趣，自暴自弃，从此一蹶不振。这样的同学到了初三往往很难有所突破，中孝的失利难以避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这些孩子在初中学习将近二年，老本基本吃光了，但是有些孩子不肯吃苦，课堂上老师讲的知识还一知半解就满足了，自以为我会了，不在跟着老师讲课的步伐进行下去。真问到头上，支支吾吾说不出个一二三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流于作业形式，白纸画黑道，作业我写了，对与错是老师的事情，明显感觉写作业很盲目，没目标，对自己不负责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的学生学习本末倒置。有些科目应该温习课上知识后，再通过练习检查掌握的程度，然后弥补不足。但是他们只忙于书面作业，不会去翻书，翻笔记，只达到完成作业这一表面任务，力气没少用，效果不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学无章法，老师讲老师的，我做我的，有些孩子只学习自己感兴趣的学科，不均衡发展。而且有的孩子玩心太重，心思都在玩上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有些孩子之所以学习成绩和优秀生落差很大，源于习惯极其不好，缺乏耐心、恒心、专心，即使大型公开课，大型活动，也都是我行我素，瞻前顾后，左顾右盼，这样的场合他都肆无忌惮，反映出长期的养成教育不足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不仅需要我们督促，作为父母的你们在日常生活中也要强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71800" y="9140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华文行楷"/>
                <a:ea typeface="华文行楷"/>
              </a:rPr>
              <a:t>对家长的建议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895120" y="3580920"/>
            <a:ext cx="6985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从学校及教师的角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行楷"/>
                <a:ea typeface="华文行楷"/>
              </a:rPr>
              <a:t>也许有偏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457200" y="1447920"/>
            <a:ext cx="81532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不做准备的人，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</a:rPr>
              <a:t>就是准备失败的人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04920" y="14475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找准孩子学习的短板，要真正知道了解自己的孩子，在哪一学科是弱项。和其他孩子们横向、纵向比较一下，我究竟差到哪里，差到哪个学科，什么原因，并要积极应对，及时的查漏补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抓住学习的主次，比如数学 物理初二下学期知识逻辑性比较强，有的习题比较深，所以对于数学物理等学科的习题量一定要保证。并要保证即学即会，不留死角，不要单纯追求数量，而忽视做题的质量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家长会的主题 ：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是介绍前阶段同学们在校表现和学习情况。结合本学期期中考试的情况，分析学生的学习和心理状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是和家长们探讨今后学生的教育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掌握学习方法。对于英语等学科，要夯实基础，无论学习时间怎么紧张，必要的英语单词，最基本的句型，语法，都要熟练掌握，达到零失误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政治历史等学科，要充分利用课堂的主阵地，把考点要及时的勾画好，积累好，以备考试之用。同时也要利用一定的时间对阶段学习内容进行复习。从而保证在闭卷考试的时候，能有一定的知识储备。在开卷考试时能够积累全面知识点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对于语文学科，要训练好孩子把握基础知识的能力，各类的书上的文言文，古诗词，老师要求背好记好的，一个字也不能差。同时也要鼓励孩子认认真真的去完成老师布置的作文和阅读，掌握阅读和作文的能力。考试的时候不发慌，等心应手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正确看待孩子的学习成绩。有的孩子学习各科成绩不算太高，比如说能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多分 但是很难达到高分，这样的孩子还有很大提升的潜力，所以就要帮助孩子找出出现差距的原因。而不要一味的指责。有的孩子可能学习成绩差点，达到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0-9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这个时候到了学业临界点，所以家长就要携同老师全方位的，对各学科学习进行监控。严防持续下滑的现象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保证家中一切为孩子的学习让路，例如四平市实验中学高考状元的班主任在谈体会的时候说，孩子回家的时候一般情况下应该有一位家长在家，让他感觉到一种依靠，使他能够全身心的投入到学习当中。中午孩子回家要及时吃上饭菜，保证孩子有合适的休息时间和空间。从而保证孩子学习充沛的经历。这个时候我们家长有的时候做些必要的牺牲，对于意义不重大应酬活动尽量避免参加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关注孩子的日常表现，防止思想出现波动，家长和孩子之间要建立互信，保持经常的有效沟通。比如说有的孩子情绪低落，那么要弄清楚什么原因造成，是不是和同学发生矛盾还是被老师误解啊，还是学习上遇到了困难，家长都要在第一时间掌握情况，做好疏导。如果发现孩子近期在某个时间段爱美，总是特别注意自己的仪表，上学前在镜子旁边照个半天，没事发呆，情绪无常，这个时候家长要和老师及时的沟通，是不是孩子出现感情问题，因为这个阶段正是青春期，以便及时应对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关于安全问题。掌握放学时间　规定到家时间，很多学生放学在街上游荡，容易接触社会青年，不给过多零花钱　，不允许到朋友家过夜，尤其周末，不带贵重物品到校，例如手机，提醒安全过马路，严查抽烟现象，放在课后班的家长也不要撒手不管，要及时和老师保持联系掌握放学时间，有家长接送的还好，要是不接送的容易出现差错，老师这放学了，结果孩子没回家去哪里玩，可是家长还以为在老师这上课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培养孩子吃苦耐劳的精神。初二属于攻坚阶段，初三属于冲刺阶段，虽然我们将来面对的是高考，但是初中阶段的成绩，对于一个人的知识储备和未来形成的心理暗示，非常的重要。如果中考取得好成绩孩子就会在学习上有种优越感，到高中也会形成自信，进取的学习状态，认为我能行，而不是我不行，我不如别人。神童和特殊的尖子生毕竟是少数，绝大多数的孩子还需要有铁杵磨成针的精神。家长要保证孩子晚上必要的学习时间。我感觉中午要是午睡的话，晚上学习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1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点没什么问题。这样到初三就能适应这种学习生活，到高中更会适应。现在的学习不能是只写完作业就完事。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要严格规范孩子的学习习惯。平时做的习题要保证步骤完整，书写规范，不似是而非，培养孩子答题精准的习惯。会的题要做对。到了这个时候应该尽量不能出现马虎现像。不要从孩子历次考试的失利中单纯的寻求客观原因，而忽视主观因素。要知道考的不好只能证明平时学的不好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每周找一定时间和孩子聊一聊各科学习上有什么问题，给孩子创造良好的学习环境，多鼓励孩子，多与孩子一同学习。哪怕不是经常性的沟通，聊天，那么对于孩子也是莫大的鼓励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66680" y="68580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排名榜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33720" y="3886200"/>
            <a:ext cx="4459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种瓜得瓜 种豆得豆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838080" y="76212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加强与老师的联系。个别学生不愿意与家长交流，尤其不想和家长说学校里的情况，这样一来，家长往往不能从孩子那里知道他们最近的表现和变化，这就需要家长能够经常和老师联系，了解孩子的全面情况，就一些问题和老师沟通，双方合作，为孩子保驾护航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掌握好孩子的上学时间 早上 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，中午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要注意孩子的衣着，男生不留长发，女生不穿时髦衣服，不许带首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努力一定会有成效，放弃必定要失败，无论什么时候都要对自己的孩子有信心，只是在家长的心目当中一定要找准孩子发展的目标换和方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0520" y="1218960"/>
            <a:ext cx="8078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557"/>
                </a:solidFill>
                <a:latin typeface="华文行楷"/>
                <a:ea typeface="华文行楷"/>
              </a:rPr>
              <a:t>  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家长们，我们的目标是统一的，我们的任务是一致的，愿我们相互合作，把我们的学生，您的孩子，培养成学习勤奋，品质优良的优秀人才，为将来学生的升学、就业、乃至整个人生的发展打下坚实的良好的基础。在此衷心祝愿我们每一个孩子健康成长，每一个家庭幸福平安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6"/>
          <p:cNvSpPr/>
          <p:nvPr/>
        </p:nvSpPr>
        <p:spPr>
          <a:xfrm>
            <a:off x="312408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4894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4" name="矩形 7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1625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期中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，前三名是咱班的。第一名付晏升、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二名张效明，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第三名孙璐瑶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5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第五名佟彩瑜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六名 王子越 总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47.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 咱班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年部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；进入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0---119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8---1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---1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 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2---1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—108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43000" y="914400"/>
            <a:ext cx="1447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1.5---1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9.5—106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6---10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4.5—103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3—10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   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95280" y="76212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语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9---117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7---115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5—11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前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名的分数段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3.5—110.5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分，人数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8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533520"/>
            <a:ext cx="1447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英语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--9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8—9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5—9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名的分数段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分，人数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62120" y="8380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物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政治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历史年部满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，咱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10Z</dcterms:created>
  <dc:creator>Administrator</dc:creator>
  <dc:description/>
  <cp:keywords/>
  <dc:language>en-US</dc:language>
  <cp:lastModifiedBy>Sky123.Org</cp:lastModifiedBy>
  <dcterms:modified xsi:type="dcterms:W3CDTF">2015-03-30T01:35:14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