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591-2EE2-41C5-AA67-DDAB8E76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49A-034D-455E-9652-EA4A247D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37A-550F-434E-B2A8-DD0DA752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1FE-2167-42A1-BAB3-9868C665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F2C-F2F2-4D99-81AA-826707E0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1327-99FC-43B2-AB69-D57AEB96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C23-69A2-470C-9154-BEC0320B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9D8-7C8D-4DBB-9295-7B5F84C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148B-6BE3-4B48-835A-40248DCD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ABB-2F62-46E4-B8BA-D3A990FD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FA06-C02A-4AEF-9F8D-835BA6DD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8D9-1A9F-4ED4-B453-4B08EFA9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9D37-EF40-4580-B34E-1B335D7C31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内容占位符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2"/>
          <a:srcRect l="0" t="91256" r="0" b="0"/>
          <a:stretch/>
        </p:blipFill>
        <p:spPr>
          <a:xfrm>
            <a:off x="-22320" y="0"/>
            <a:ext cx="91663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1:51:18Z</dcterms:created>
  <dc:creator>涛涛作品</dc:creator>
  <dc:description>忆清明2013年清明节涛涛作品</dc:description>
  <dc:language>en-US</dc:language>
  <cp:lastModifiedBy>admin</cp:lastModifiedBy>
  <dcterms:modified xsi:type="dcterms:W3CDTF">2015-03-12T01:06:56Z</dcterms:modified>
  <cp:revision>8</cp:revision>
  <dc:subject/>
  <dc:title>PowerPoint 演示文稿</dc:title>
</cp:coreProperties>
</file>