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CAB-25BE-4392-8671-8F02BA81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255-2032-49F0-A106-1637C6D2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B6E4A-3B98-4E33-9F47-C3560109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3E62F-D36C-466D-A780-68426A8E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339D3-C95F-4EEE-8D84-E68A3930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10702-5AE1-47C9-90A3-4B2E0A8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AE30-ABA8-4B19-9D7F-1E1521A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6E513-8460-499E-8C48-93AC9FA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73C8C-2286-4A9B-B8C5-1DFB565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7219C-41C1-498A-8302-D8A7474E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506FC-CDE2-4A43-AA4E-1400978F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81248-5F03-4608-BFB6-670E36F7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D82-F93C-4EEE-8FD0-262336A2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497FF-CDEC-401C-A4FD-8DD87E8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CA3B5-3C60-4FC4-834D-DC41A78E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C542E-805E-4704-8229-83ED8B6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90343-0D9D-4F1E-B21F-96A41FCF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6BFB4-CAFD-4868-8461-0FED608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41049-5C86-45D2-AAD9-252C976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BD0EB-3FD7-4C09-8854-C05FFB9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A5B1F-F321-4C51-84AC-DC9F901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6DAA8-1EAE-46B7-922F-1EFB16DB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AFE56-5DC2-4B33-8EA7-180EEC98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DFD-8D3A-41AF-9351-8B04C47B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BB063-447E-4454-B494-02460A86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971B-E0B2-40AF-A1E0-FBEE044A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F05C-02B5-45E7-BE64-CF14042A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CBCB4-F7D0-4B0E-B142-4BBA32D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D288E-0C62-4CD4-94C2-3D8E1A94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B46C1-3478-4E4B-A15B-5A52AEB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C85E3-8CAE-4CAC-816A-32E6880B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5F10-5F3D-4C35-82C8-D6C6FCF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E736-8768-41C7-A418-C05EC31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C53F-7F6E-4DB9-8F0C-C789C40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BB71-8175-41A6-B892-0FC11327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E1558-7F36-4E1D-B6E8-50703B5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82ED3-433B-40D3-979B-F76C3A02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F9539-C432-48BE-A31D-31363ADB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6537-0995-4D12-BD33-8555A099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A2E06-A904-4AC9-84A9-CEE5F120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0E71D-BF53-465A-9150-643E937C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0E0A6-FC44-4B4D-A94F-AB6A2AD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ECA6B-310F-4A7F-9790-350B0DE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0669E-799B-462B-A1F2-C90CDB1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8A170-AC6D-4D21-A725-0CA4DE0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FD7A-E238-4A71-A37C-B818E9E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111CF-3614-457C-BB43-9D2B5DE5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CF5BA-1864-447C-855D-068E859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F2FCB-BEF2-4E8B-AEA3-33A8B2B0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9F3DC-B509-4EDD-B81B-FA9EF011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EC237-6E1D-4715-A345-38290CB4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E1645-17ED-485B-9FA4-6CB55D58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D5C37-E11C-4FD0-A82C-AAC0950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11385-6F3F-4B0E-B473-29906F6B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216CF-46A7-49EA-97ED-DD42426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2F3D8-B3FA-4AB7-B499-40BC994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048-0969-4D68-8B5E-D92FC362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C85C0-AFFD-4D35-85DC-8B60AB9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817BF-9B7A-4D14-ADE0-2B0F947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0DAAE-CAB4-4BD1-B57B-44BB62B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20F59-85C3-4000-99AD-4ED1CE7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16106-5880-4EB3-8BD0-2E5D7DB2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D66D9-2804-4DEB-A813-937F963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F738-190A-4372-A514-6B7E35C1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4BB-16CF-4EAA-81C1-7726DA03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3AD1-85F4-4266-918F-1A944FC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A7A8-07C7-4EF5-9341-2F12526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B9D9-8E3C-4A1F-8269-59A970A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FA7-17DF-425E-9EDA-3981B6E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1C3-089A-42DA-A254-8CFA6CA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4A2D-89DA-44C6-8166-168910B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DFB-E097-4590-BEEA-D9C3BEED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52F2-8492-4F73-881D-8A7C12D3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66BC-A5B3-4567-8D86-3DEC441B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FA2B-327C-4FFC-B919-BCC40DF5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7A92-3B6D-4611-9D53-F2112EA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0775-415E-4857-B092-9EEAFDD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A1A4-6171-4EEA-BAF2-169E42A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B322-D14A-4261-BACD-FA37824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499-AE1B-47E7-9021-132C276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8902-5505-40A9-B120-C184B019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498E-6EB0-4619-B6B8-45793C2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E1FF-9418-471E-B238-6A7BC30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F6B3-8A80-427A-93D6-7477A94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F65A-61EC-4A61-97F3-1F56082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819B-D5FE-4153-BCB4-2846F908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6A13-B5E8-4008-8FAE-2801BE1C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A290-0E0D-465C-B224-AB6CE84C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E821-39FC-4D18-843F-17440001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4FA4-AB45-44A9-9152-B0A52F38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0CB-B3C0-401D-A683-6C10129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C6F4-3E55-4FAC-A843-7531F1B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4D2D-0B38-4F03-AB21-D07631C3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A6BE-5FAB-4A8F-8494-159984D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3002-C2CF-4668-B083-B79841A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EE4B-5DD1-4591-84AB-CAAF0DF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1277-22EC-48A9-8952-AE688AA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1174-3103-4DBF-AFBA-4B51326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BEF0-273E-4E61-B314-41C18F94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ECA9-681D-4714-BFD7-A2FB075B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972A5-3A8C-49A8-83F6-2D2B643D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10A-3AF9-4BD5-844F-5498E856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F41D-FEE4-4DE2-B6F0-1E6E8B2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5337-0C50-4734-99F9-BC02FFA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3644-AE80-4C52-8FA3-9A0FACB6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4D82-6FC0-458B-A1AA-580DBD58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8F00-114B-4CEC-9C55-5291ABF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63AC-60A2-4D00-B612-7BE0189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4BCD-2286-45EF-85F5-89A0CC9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F825-5A86-4007-8A1D-9C18558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430B-A065-4582-BC4A-8208C67E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9811-BE13-4C3C-9884-728CBAE6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747-6072-449A-AEFC-B494B47F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E8FA-F1D1-4B0E-A72A-EB1195EF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41E2-1A61-4F49-A302-9819AFB3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A10D7-7694-4AA5-B000-7249E78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9BB7-B51D-47A3-A34E-EB4E6AB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99991-90B1-48F4-BD5A-A6ABB207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60E3-65A9-43FA-836C-12F00F8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4E66-678E-4AC8-AA5B-FF2C8DFF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874F-4DEA-495D-A31B-F0C03D48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5B13-36B3-4BE8-BA27-FDBA313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0CA0E-E1D8-4958-9202-0A1A0C5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39F-8EDB-4C60-85E5-7BAB6C6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C3E5-9BC6-4DE0-8680-72B4AEE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8FEC-BBEF-4AE5-8DBC-76D8F1CD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7AC9-5A8D-4A46-B05B-A725C90A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3A4F-67DD-4B90-8970-AFD54A52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E078-AA25-4D6B-8B4C-26D534C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5DFD-EBAD-4930-80D9-85D0D33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53D4-692E-4BAD-B90E-F85366E9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896E4-3B9F-4B99-A2E0-06194B7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60CE-7F86-4B90-908F-B00B38A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CBEA-F52D-4FBF-B776-4EDB311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AD3-F139-4356-A587-61CE2AB0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9F70-D784-4B23-A82E-AEC56A1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A146-3FCE-4DF8-BC80-15CF4168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3588-FC7C-401F-B6EB-306DD04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E689-4003-481A-97ED-ABE6956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B871-A829-4C97-B85A-FD88953B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2E9A-3B78-4D35-85F8-B9BCA3E0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FBC3C-EF06-4DD4-8CE9-7B60906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43BA-541F-4F72-8761-7B5DAC54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11E4-F57F-4428-AA9A-7BE45C6D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CA29-1325-4F4C-8BFA-B161DD5C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3CC-FDB2-4AFF-8DB7-D354CE9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23640" y="25848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A914B-E1E1-44A5-95BE-5BACD03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A7A5-6A06-4413-8A83-A44BBB76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0D4CC-82BE-426F-A971-CD51937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112F-7662-4216-A021-DA0C52C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563F-A255-417A-A445-AB969B1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8B20C-37EB-4DA6-B1AD-AA0FFF76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5D3A-50FD-421C-8C34-4BDF8B03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73687-4DB6-4336-A6DD-563AFD4A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4035F-006F-4618-966A-CD901BB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4400B-70C5-42A7-9055-F6A1826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9CD-C5C4-4CB4-8218-AD45EC8C03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09E-7929-4E6D-8248-9C8DC29F0B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335-FFDF-4828-94AD-7084948C84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BFB-519B-4CFD-8B11-A230C9DC39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C6B5-FC3B-4B3D-BAFD-81429A6825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ED65-DBCC-4BA1-B306-91D71AAC9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848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DCA4-A54F-4E59-8C7F-B314FD6800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D8C-F01C-4642-9594-3E34079711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DB6-08F4-46A7-BE3D-F7ED776B76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0C6A-6BE5-4BD6-86CA-83670A0298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DBC-4A5D-4FC9-8CAE-ABBDDCFAA9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C9B-10E1-4BF3-8ED8-D0DE0DECE2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092-BFCF-4F76-98B5-932E6CBFC2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7" descr=""/>
          <p:cNvPicPr/>
          <p:nvPr/>
        </p:nvPicPr>
        <p:blipFill>
          <a:blip r:embed="rId2"/>
          <a:stretch/>
        </p:blipFill>
        <p:spPr>
          <a:xfrm>
            <a:off x="1109520" y="4956120"/>
            <a:ext cx="72961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2"/>
          <p:cNvSpPr/>
          <p:nvPr/>
        </p:nvSpPr>
        <p:spPr>
          <a:xfrm>
            <a:off x="0" y="-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4"/>
          <p:cNvSpPr txBox="1"/>
          <p:nvPr/>
        </p:nvSpPr>
        <p:spPr>
          <a:xfrm>
            <a:off x="3132000" y="51577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8" name="WordArt 5"/>
          <p:cNvSpPr txBox="1"/>
          <p:nvPr/>
        </p:nvSpPr>
        <p:spPr>
          <a:xfrm>
            <a:off x="3610080" y="60148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admin</cp:lastModifiedBy>
  <dcterms:modified xsi:type="dcterms:W3CDTF">2015-03-19T01:48:02Z</dcterms:modified>
  <cp:revision>353</cp:revision>
  <dc:subject/>
  <dc:title>锐得PPT模板</dc:title>
</cp:coreProperties>
</file>