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490C-F962-4B47-92AD-FB6FBE5240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A3C-50BB-439A-B9D0-E1AF22AA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83B-590E-43C0-BA91-3B7A7F3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627-63F5-476D-A426-4CBEE227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D06-FCC5-4AA2-9723-12EB2825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3EB-75EE-432C-B8F8-1AD064A5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DFB2-18F6-4424-B0F5-50589280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661-D831-422A-95BA-6463B194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A959-90B3-4973-ACB0-2CE6806C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6E1-DB05-4F5B-A5F2-E2D014CC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432C-6F2B-4DAA-AF60-89B6A5B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D8BD-5890-4B4E-A2A8-D420CF47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4D5-7409-4B8E-8BA1-D863EBAE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CE7-9277-4AE6-9C93-794736D2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E7A-C876-4E42-919B-61D3218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813-0564-49EA-9FC9-A303A281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C732-370F-4E80-8049-59B10ED3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4B41-1BDC-47B9-B74A-B459698C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0DD-8637-4411-AEF0-59D58205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995-2297-4C31-BB21-AC0C5DBE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0C7-DF9A-48C0-B983-D25A9C77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B59-688E-4DF4-B2AC-7076D439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7D9-EA68-475D-859A-B8D34E2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832-8F7B-408B-A55F-2C65294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0E1-AB16-4522-A172-53D76A7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478D-156D-4ED8-BBEB-8B3EFFBB463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45C-CE79-4810-A3D3-8E54A0484054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交通安全教育 主题班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2133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交通带来的繁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419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酒后驾车案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4419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酒后驾车公益广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2133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安全警示录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182880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生命在闪耀中现出绚烂，在平凡中现出真实。 ——伯 克 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寿命的缩短与思想的虚耗成正比。 ——达尔文 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生命不可能有两次，但许多人连一次也不善于度过。 ——吕凯特 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如能善于利用，生命乃悠长。 ——塞涅卡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0" y="5335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珍惜生命的名人名言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476760" cy="484200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600200"/>
          <a:ext cx="5791320" cy="3282840"/>
        </p:xfrm>
        <a:graphic>
          <a:graphicData uri="http://schemas.openxmlformats.org/drawingml/2006/table">
            <a:tbl>
              <a:tblPr/>
              <a:tblGrid>
                <a:gridCol w="1158840"/>
                <a:gridCol w="1157400"/>
                <a:gridCol w="1158840"/>
                <a:gridCol w="1157400"/>
                <a:gridCol w="115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交通死亡人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0.4372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770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66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汽车保有量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2400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2.36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亿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7000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800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死亡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3.5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7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1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37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美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德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4aae"/>
                </a:solidFill>
                <a:latin typeface="Tahoma"/>
                <a:ea typeface="华文行楷"/>
              </a:rPr>
              <a:t>2003</a:t>
            </a:r>
            <a:r>
              <a:rPr b="1" i="1" lang="zh-CN" sz="3600" spc="-1" strike="noStrike">
                <a:solidFill>
                  <a:srgbClr val="004aae"/>
                </a:solidFill>
                <a:latin typeface="Tahoma"/>
                <a:ea typeface="华文行楷"/>
              </a:rPr>
              <a:t>汽车大国交通死亡人数对比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,arial"/>
              </a:rPr>
              <a:t>　　中国“万车死亡率”，是发达国家的几十倍，中国的机动车辆相比较而言，看起来更加危险……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,arial"/>
              </a:rPr>
              <a:t>　　交通事故已超过战争，成仅次于疾病的人类生命的杀手，并给成千上万个家庭带来难以愈合的创伤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477120" y="160020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酒后驾车案例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今夏杭州高温，随温度升高的，有啤酒销量，有酒后驾车事故数量。交警说，每年酒后驾车最高发的季节是夏季和春节，遗憾的是，交警部门再三提醒，悲剧仍再三上演，且很多事故都导致多人伤亡，造成严重伤害。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月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日（大年初四）凌晨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40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，庆春东路上，一辆海南马自达轿车突然撞到路中间的隔离墩，隔离栏钢管刺进车头，穿透仪表盘直插司机胸膛，司机张某当场死亡。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事发前，张某和朋友聚会（共六人，三男三女），共喝下了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斤白酒和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瓶啤酒。事后经血液化验显示，张某当时血液中酒精浓度为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.97mg/ml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，属于严重的醉酒后驾车。一场延续到凌晨的朋友欢聚，在寒夜的哭声中终止。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月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日凌晨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点左右，一辆丰田轿车在曙光路友谊新村门口附近，撞了一位在机动车道上的行人，行人送医院抢救无效死亡。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事故发生时，肇事司机刘某从东坡路附近一家酒吧开车出来，经曙光路回家，受害人孙某，在杭州当歌手。事故发生时，她正在从歌厅回友谊新村租房的路上。车祸中，肇事司机和受害人都是年轻女子，一个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23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岁，一个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26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岁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1320840"/>
            <a:ext cx="5943600" cy="5537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895480" y="228600"/>
            <a:ext cx="35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交通标志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010280" cy="5761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447920" y="228600"/>
            <a:ext cx="3047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通标志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391520" y="55627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4:21:01Z</dcterms:created>
  <dc:creator>jiaoshi01</dc:creator>
  <dc:description/>
  <dc:language>en-US</dc:language>
  <cp:lastModifiedBy>User</cp:lastModifiedBy>
  <dcterms:modified xsi:type="dcterms:W3CDTF">2010-09-18T13:50:38Z</dcterms:modified>
  <cp:revision>3</cp:revision>
  <dc:subject/>
  <dc:title>交通安全教育 主题班会</dc:title>
</cp:coreProperties>
</file>