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EC9B-3840-44E7-8A9F-2ABCB700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8D71-F14E-42A0-A4B5-EB1BE807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8A9D-4EB3-4FA4-8DA7-74459264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55C-908A-4794-8777-5FB982F4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2E0-003C-4597-B579-E1FBC1C9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FCBC-25DC-40E3-92F1-1BCEE4A5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30B-B091-4C8A-9065-AC2A345E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E302-4CAF-4592-A9F5-722EDCBF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C60-A332-48B9-B65E-493A62FA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9543-343A-4DB9-8A16-0B9E295C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32D-D08C-4DEB-B5EC-5CAAD6E7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7C2-49B2-4E78-ABFB-38405CF1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D8CC-F6F3-44FC-8E10-65CA13AB0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0331631cd2c1a3c8e2fe0b6d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3348000" y="2781360"/>
            <a:ext cx="296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3072960" y="4941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隶书"/>
                <a:ea typeface="华文隶书"/>
              </a:rPr>
              <a:t>东坡下载站编辑整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47640" y="1484280"/>
            <a:ext cx="6120000" cy="21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珍惜粮食 文明用餐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857160" y="78732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伸伸手，为他人，大家开心我开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4" descr="2.jpg"/>
          <p:cNvPicPr/>
          <p:nvPr/>
        </p:nvPicPr>
        <p:blipFill>
          <a:blip r:embed="rId2"/>
          <a:stretch/>
        </p:blipFill>
        <p:spPr>
          <a:xfrm>
            <a:off x="500040" y="1571760"/>
            <a:ext cx="78580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6" descr="10.jpg"/>
          <p:cNvPicPr/>
          <p:nvPr/>
        </p:nvPicPr>
        <p:blipFill>
          <a:blip r:embed="rId2"/>
          <a:stretch/>
        </p:blipFill>
        <p:spPr>
          <a:xfrm>
            <a:off x="500040" y="1428840"/>
            <a:ext cx="8072640" cy="50004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857160" y="788400"/>
            <a:ext cx="72151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米线，很简单，坚持养成好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35353"/>
                </a:solidFill>
                <a:latin typeface="Times New Roman"/>
              </a:rPr>
              <a:t>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857160" y="788040"/>
            <a:ext cx="72151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坐坐好，微微笑，开开心心用佳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35353"/>
                </a:solidFill>
                <a:latin typeface="Times New Roman"/>
              </a:rPr>
              <a:t>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4" descr="6.jpg"/>
          <p:cNvPicPr/>
          <p:nvPr/>
        </p:nvPicPr>
        <p:blipFill>
          <a:blip r:embed="rId2"/>
          <a:stretch/>
        </p:blipFill>
        <p:spPr>
          <a:xfrm>
            <a:off x="571680" y="1523880"/>
            <a:ext cx="771516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857160" y="78732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添饭之前给信号，说声谢谢有礼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5" descr="7.jpg"/>
          <p:cNvPicPr/>
          <p:nvPr/>
        </p:nvPicPr>
        <p:blipFill>
          <a:blip r:embed="rId2"/>
          <a:stretch/>
        </p:blipFill>
        <p:spPr>
          <a:xfrm>
            <a:off x="500040" y="1357200"/>
            <a:ext cx="7786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857160" y="78732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餐盘一定轻摆放，上下对齐真漂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4" descr="9.jpg"/>
          <p:cNvPicPr/>
          <p:nvPr/>
        </p:nvPicPr>
        <p:blipFill>
          <a:blip r:embed="rId2"/>
          <a:stretch/>
        </p:blipFill>
        <p:spPr>
          <a:xfrm>
            <a:off x="500040" y="1523880"/>
            <a:ext cx="778680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200731216431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康布丁体W12"/>
              </a:rPr>
              <a:t>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康布丁体W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康布丁体W12"/>
              </a:rPr>
              <a:t>文明用膳”儿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198440"/>
            <a:ext cx="836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饭菜已摆好，用餐讲礼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先让同学坐，自己再坐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不要高声语，碗筷别乱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细嚼又慢咽，偏食可不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饭菜不浪费，文明用餐好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900000" y="1805760"/>
            <a:ext cx="7215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让我们做一个珍惜粮食，文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用餐的少先队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826920" y="2637000"/>
            <a:ext cx="721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2411280" y="2421000"/>
            <a:ext cx="3603600" cy="24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康布丁体W12"/>
              </a:rPr>
              <a:t>Bye-bye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康布丁体W12"/>
              <a:ea typeface="华康布丁体W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图片2"/>
          <p:cNvPicPr/>
          <p:nvPr/>
        </p:nvPicPr>
        <p:blipFill>
          <a:blip r:embed="rId1"/>
          <a:stretch/>
        </p:blipFill>
        <p:spPr>
          <a:xfrm>
            <a:off x="-118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549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问 卷 调 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17733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问题一：你吃早餐吗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早餐一般吃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2428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问题二：你喜欢吃馒头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39337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问题三：你知道馒头是怎么做出来的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88000" y="476280"/>
            <a:ext cx="2095560" cy="171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588000" y="907920"/>
            <a:ext cx="2160720" cy="2003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59640" y="1484280"/>
            <a:ext cx="218124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659640" y="2060640"/>
            <a:ext cx="2098440" cy="2109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508464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问题四：对于吃剩的馒头，你的处理方式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26920" y="404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馒头是怎么“炼”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1619280" cy="1262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1584360" cy="1163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411280" y="1341360"/>
            <a:ext cx="1656000" cy="1241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164360" y="3213000"/>
            <a:ext cx="1655640" cy="1514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7164360" y="134136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4859280" y="3213000"/>
            <a:ext cx="1582920" cy="1482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2484360" y="3141720"/>
            <a:ext cx="1584360" cy="1519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0" y="3141720"/>
            <a:ext cx="1547640" cy="1525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0" y="5445000"/>
            <a:ext cx="1547640" cy="1025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2195640" y="5299200"/>
            <a:ext cx="1800000" cy="1347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92360" y="1773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1773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177336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85080" y="2637000"/>
            <a:ext cx="287280" cy="504720"/>
          </a:xfrm>
          <a:prstGeom prst="downArrow">
            <a:avLst>
              <a:gd name="adj1" fmla="val 50000"/>
              <a:gd name="adj2" fmla="val 439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3860640"/>
            <a:ext cx="505080" cy="289080"/>
          </a:xfrm>
          <a:prstGeom prst="leftArrow">
            <a:avLst>
              <a:gd name="adj1" fmla="val 50000"/>
              <a:gd name="adj2" fmla="val 43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40360" y="3860640"/>
            <a:ext cx="576000" cy="358920"/>
          </a:xfrm>
          <a:prstGeom prst="leftArrow">
            <a:avLst>
              <a:gd name="adj1" fmla="val 50000"/>
              <a:gd name="adj2" fmla="val 40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63640" y="3789360"/>
            <a:ext cx="576360" cy="358920"/>
          </a:xfrm>
          <a:prstGeom prst="leftArrow">
            <a:avLst>
              <a:gd name="adj1" fmla="val 50000"/>
              <a:gd name="adj2" fmla="val 401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4797360"/>
            <a:ext cx="287280" cy="504720"/>
          </a:xfrm>
          <a:prstGeom prst="downArrow">
            <a:avLst>
              <a:gd name="adj1" fmla="val 50000"/>
              <a:gd name="adj2" fmla="val 439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587700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图片2"/>
          <p:cNvPicPr/>
          <p:nvPr/>
        </p:nvPicPr>
        <p:blipFill>
          <a:blip r:embed="rId1"/>
          <a:stretch/>
        </p:blipFill>
        <p:spPr>
          <a:xfrm>
            <a:off x="-757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549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你觉得吃到馒头容易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62864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、时间周期长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馒头取材于面粉，面粉来自于小麦。秋播，冬生，春熟，夏收，结束了小麦的轮回，接着进入加工厂，磨成面粉，然后来到食堂，经历一系列的变化，最后，在热气腾腾的蒸锅里，“破茧成蝶”成了白白胖胖的馒头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3213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、劳动强度大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从田间地头，馒头开始了它漫长的“演变”：耕种，管理，收割，脱粒，晾晒，入仓，运输，加工，制作，最后一站是教室。可真是“谁知盘中餐，粒粒皆辛苦”啊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4653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、参与人员多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农民伯伯、收割机师傅、运输司机、加工厂工人、炊事员、值日学生等。一个小小馒头，竟然凝聚了这么多劳动者的付出，真是来之不易啊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16000" y="620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你怎么看待浪费粮食的行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42920" y="1989000"/>
            <a:ext cx="2343240" cy="1727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716360" y="1989000"/>
            <a:ext cx="2664000" cy="180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763640" y="3933720"/>
            <a:ext cx="432108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620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浪费一种可耻的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1989000"/>
            <a:ext cx="60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锄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锄禾日当午，汗滴禾下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谁知盘中餐，粒粒皆辛苦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539640" y="835560"/>
            <a:ext cx="80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请问同学们在学校食堂就餐时，见到过哪些不文明现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2880000" cy="2016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284720" y="1773360"/>
            <a:ext cx="3024000" cy="2087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00000" y="393372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284720" y="3933720"/>
            <a:ext cx="3024000" cy="2195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451640" y="1989000"/>
            <a:ext cx="1368360" cy="1800360"/>
          </a:xfrm>
          <a:prstGeom prst="wedgeRoundRectCallout">
            <a:avLst>
              <a:gd name="adj1" fmla="val -45013"/>
              <a:gd name="adj2" fmla="val 692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你认为这些行为对吗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1988640"/>
            <a:ext cx="799308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对照一下，我们自己哪些方面做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得好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哪些地方需要注意？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们应该怎样做到文明用餐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857160" y="788400"/>
            <a:ext cx="72151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排好队，进餐厅，人人都是小标兵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35353"/>
                </a:solidFill>
                <a:latin typeface="Times New Roman"/>
              </a:rPr>
              <a:t>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4" descr="1.jpg"/>
          <p:cNvPicPr/>
          <p:nvPr/>
        </p:nvPicPr>
        <p:blipFill>
          <a:blip r:embed="rId2"/>
          <a:stretch/>
        </p:blipFill>
        <p:spPr>
          <a:xfrm>
            <a:off x="500040" y="1523880"/>
            <a:ext cx="778680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03:02:07Z</dcterms:created>
  <dc:creator>番茄花园</dc:creator>
  <dc:description/>
  <dc:language>en-US</dc:language>
  <cp:lastModifiedBy>Sky123.Org</cp:lastModifiedBy>
  <dcterms:modified xsi:type="dcterms:W3CDTF">2015-10-10T02:45:27Z</dcterms:modified>
  <cp:revision>34</cp:revision>
  <dc:subject/>
  <dc:title>文明用餐 保持好心情</dc:title>
</cp:coreProperties>
</file>