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584-75DC-4765-BB16-46BC5848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317-63C4-454B-AC16-DB9558E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912-D229-4018-A062-659867E0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915-A0A9-4F8E-83B0-ECC9672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7F8-F9B8-4B56-8DE0-FFED63E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D34-70C0-4E01-8712-F732BD0E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65A7-B7AF-4E18-9DD5-30D9CCE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D0BF-606D-414F-9A8C-A94065C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568-3356-44CC-9814-2373102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7DAC-CFD0-4B06-A3A6-D15AB77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CECB-312B-4B6C-AB90-F325546C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B93-B40C-4CE1-8890-047DBBC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97A-5306-41FB-A6B8-007E307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67B-30E0-461A-8883-26C3F47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4D2-3E73-45E8-8627-CB49EA57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634-2A8E-4191-A94F-23B8A59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C7F-2880-4B7F-AE94-B181E979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12E-5122-4F57-89D3-5994DEAB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408-E261-4256-B5AF-7AF18B76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BF4-CF90-452B-A8A9-BAA85A6E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D4B-FEFD-44B4-898A-47F9A26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E6E-9A7E-4EF9-B67B-FD57FCA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D73-49AA-4D40-893E-CB2B694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043-2B1F-4655-936A-2E2CDDE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2F24-ADBF-47B8-9755-2E2A22BD1B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08A3-9FC5-43F7-A890-3F1F23238E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弘扬爱国主义思想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做新时代有为青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941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八年级十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主持人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933720"/>
            <a:ext cx="754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请谈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神舟七号发射成功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7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7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7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3645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请同学们朗诵下列关于爱国的诗歌</a:t>
            </a: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00" y="1413000"/>
            <a:ext cx="54007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333360"/>
            <a:ext cx="391464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舒婷） </a:t>
            </a:r>
            <a:br>
              <a:rPr sz="2800"/>
            </a:br>
            <a:br>
              <a:rPr sz="2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勒进你的肩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千百年来未落到地面的花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12536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正在喷薄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的富饶，你的荣光，你的自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亲爱的祖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环节：神舟七号发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环节：国庆中畅谈爱国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环节：深情朗诵爱国诗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环节：爱国典范的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环节：中学生要如何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环节：演唱爱国歌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804960"/>
            <a:ext cx="8497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br>
              <a:rPr sz="4800"/>
            </a:b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6920" y="836640"/>
            <a:ext cx="266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84600" cy="263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2505240"/>
            <a:ext cx="3953160" cy="4352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415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133880" y="1428840"/>
            <a:ext cx="5010120" cy="5429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124000" y="44280"/>
            <a:ext cx="1859040" cy="24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面请同学们欣赏董存瑞舍身炸堡碉的电影片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32000" y="692280"/>
            <a:ext cx="691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中学生如何弘扬爱国精神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下面请几位同学为我们展示自己的精彩才艺—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爱我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609300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60930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616572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614988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爱我中华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宋祖英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    专辑：大地飞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62946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过程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一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分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神舟七号于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秒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三名宇航员，他们中的一人将在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下午进行中国第一次出舱活动，取回实验样本，出舱活动进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钟左右，这是一个很大的进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03:38Z</dcterms:created>
  <dc:creator>flz</dc:creator>
  <dc:description/>
  <dc:language>en-US</dc:language>
  <cp:lastModifiedBy>李红斌</cp:lastModifiedBy>
  <dcterms:modified xsi:type="dcterms:W3CDTF">2012-09-23T08:18:40Z</dcterms:modified>
  <cp:revision>51</cp:revision>
  <dc:subject/>
  <dc:title>PowerPoint 演示文稿</dc:title>
</cp:coreProperties>
</file>