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616F-4A33-4F22-8BDE-110F55BA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AD0F-4B8A-4374-890D-18FD8E97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BB99-92C4-4D9D-8C99-93D1DA7A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5DB1-4239-4A31-AAA6-0002B264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2A27-E9A3-488D-AF38-3BFCE96A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7562-A3F1-4E73-9DC5-ABFD175B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A76F-67BE-4A69-9FE5-6AB68BAC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A7A-FB80-41CE-8E77-88EE695C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48AE-7DF7-427F-83BB-001E62F1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4E8B-4504-426A-BA73-A455FCD8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00EA-D067-4CD2-9EDE-3973FEAD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268A-96CF-4586-899E-538B5BD8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A8B0-E258-4764-9D89-9E16498720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35280" y="1281240"/>
            <a:ext cx="73310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d60093"/>
                </a:solidFill>
                <a:latin typeface="Arial"/>
              </a:rPr>
              <a:t>认真学习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d60093"/>
                </a:solidFill>
                <a:latin typeface="Arial"/>
              </a:rPr>
              <a:t>遵守纪律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四年级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32440" y="684360"/>
            <a:ext cx="37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课间十分钟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你是怎么度过的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02520" y="1376280"/>
            <a:ext cx="3964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认为哪种做法是错误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到处跑、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大声喧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翻阅杂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和同学轻轻说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做不文明的游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9480" y="2060640"/>
            <a:ext cx="20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×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48200" y="257796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×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3132000"/>
            <a:ext cx="216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 √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43480" y="3851280"/>
            <a:ext cx="23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  √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4508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×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77840" y="1197000"/>
            <a:ext cx="6032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上操或升国旗的队列，请大家做到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、精神抖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、踏步整齐、摆臂齐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、到位站立不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63200" y="4267080"/>
            <a:ext cx="4204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做早操时，我们要做到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动作到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精神饱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9640" y="210960"/>
            <a:ext cx="90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Arial"/>
              </a:rPr>
              <a:t>上室外课，我们要注意哪些地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6200" y="1619280"/>
            <a:ext cx="441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排队快、静、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7840" y="2482920"/>
            <a:ext cx="65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桌椅摆整齐，关好门、风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7840" y="3348000"/>
            <a:ext cx="923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上下楼梯要轻声、慢步，不推挤、不打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4119480"/>
            <a:ext cx="71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注意安全，不做危害他人的事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280360" cy="6286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55640" y="385920"/>
            <a:ext cx="806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放学后，有同学不想排队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排队不整齐，还有人说：“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师没看见的，没关系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.”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你作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班级的一员，该怎样做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72360" y="3789360"/>
            <a:ext cx="4143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做班级的小主人，可以督促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劝告身边的同学，让我们一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为班级争光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459520" y="46368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上洗手间时，你看到一下不文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的现象，你有什么想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196056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将墨水洒在墙壁或门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291636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弄纸屑和污水在洗手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3780000"/>
            <a:ext cx="434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不冲水就离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4427640"/>
            <a:ext cx="65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将瓶子或杂物扔进下水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5075280"/>
            <a:ext cx="564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用脚去踩冲水的按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56908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258920" y="1130400"/>
            <a:ext cx="772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有随手乱扔垃圾的习惯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2924280"/>
            <a:ext cx="712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当你看到别人乱丢垃圾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你该怎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6640" y="48690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当你看到垃圾时，你是怎么做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759320" y="922320"/>
            <a:ext cx="576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2020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年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月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31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日中午放学期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南京文枢中学初三学生小新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化名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从初中部新大楼二楼楼梯往下跳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不慎将小腿摔骨折，医药费已高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17000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多元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55840" y="3919680"/>
            <a:ext cx="72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了这个报道，你有什么启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39840" y="4711680"/>
            <a:ext cx="76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同学们不能乱蹦乱跳，否则意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随时都有可能发生，不仅如此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们还要懂得保护自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0920" y="501336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同学们在一起要和睦相处，宽容对待他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发生口角千万不要采取打架的暴力行为，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架轻者是道德问题，重者触犯法律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981000"/>
            <a:ext cx="985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一名同学和别人发生了矛盾，就动手打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结果两人就打起架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1840" y="2316240"/>
            <a:ext cx="55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你在旁边你该怎么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8200" y="3108240"/>
            <a:ext cx="40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这件事曾经在你的身上发生过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反思遇到和同学发生矛盾时，应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何处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71640" y="1746360"/>
            <a:ext cx="145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愿同学们都成为遵守纪律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热爱学习的班级主人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487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1280" y="260280"/>
            <a:ext cx="7264440" cy="37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大家想办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课堂上，有同学不听讲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还和别的同学讲闲话，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认为有哪些危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68360" y="3068640"/>
            <a:ext cx="717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你认为良好的课堂秩序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我们每个人该怎样做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16200" y="4699080"/>
            <a:ext cx="513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班级是我家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遵守纪律靠大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26920" y="1484280"/>
            <a:ext cx="8755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古往今来有许多关于遵守纪律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三国时期的曹操，军纪如山，不让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士踩踏庄稼。可是有一次，他的马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惊了，踩了一大片庄稼，他要自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在将士们的劝说下，他割下自己的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缕头发，在当时已经是一种很重的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罚了。遵守纪律真重要啊。我们不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过分的放任自由，一点也不加以限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的自由，它的害处与危险实在不少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411120"/>
            <a:ext cx="525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伟人守纪的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44920" y="836640"/>
            <a:ext cx="14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同在一个班级学习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什么有的同学成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很好，而有的相差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远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260280"/>
            <a:ext cx="5759640" cy="2808360"/>
          </a:xfrm>
          <a:prstGeom prst="wedgeRoundRectCallout">
            <a:avLst>
              <a:gd name="adj1" fmla="val -15240"/>
              <a:gd name="adj2" fmla="val 844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9280" y="404640"/>
            <a:ext cx="54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同在一个班级学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什么有的同学成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很好，而有的相差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远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328464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家各自进行反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23840" y="3995640"/>
            <a:ext cx="71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习好、纪律好的同学谈心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23840" y="4643280"/>
            <a:ext cx="758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如果发现自己哪些地方做得不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勇敢地说出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同学或老师帮你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办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0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433680" y="519120"/>
            <a:ext cx="223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郭沫若苦学二三事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714680"/>
            <a:ext cx="8639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 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郭沫若是我国现代文化史上一位才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卓著的文豪。曾任中国科学院院长。他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文学艺术、历史考古、古文字学以及其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很多方面，都有重要建树。与此同时，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勤奋苦学的精神也十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感人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-324000" y="260280"/>
            <a:ext cx="1826604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郭沫若在小学一年级读书时，老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讲历史课－－《十六国春秋》，其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有许多胡人的名字，跟外国人的名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一样，非常难记，因而记人名便成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当时历史课的一只“拦路虎”。为了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服这个困难，一天，郭沫若约了一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要好的同学躲进一间阴暗的自修室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两人苦读硬记，进行比赛，直到把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本历史课本一字一句背得滚瓜烂熟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走出屋子。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68360" y="620640"/>
            <a:ext cx="7935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在后来的日子里，即使在年假期间，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沫若都手不释卷，天天苦读。有一年年假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间，他把太史公司马迁写的《史记》，从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到尾通读了一遍，并一篇一篇地进行分析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校订和评价，在旁边写下批注，连《伯夷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传》里有一句被历代注家解释错了的话，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都在阅读过程中发现并加以校正。对其中一些精辟言论和难得的资料，郭沫若视为珍贵财宝，不惜时间和精力整篇整段地用毛笔把它抄录下来，放在案头，随时翻阅学习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360" y="692280"/>
            <a:ext cx="17927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郭沫若一生写了不少诗词和文章，论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宏富。但他从事著述有个习惯，就是从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不让旁人代为抄写，一律都是自己动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即使到了晚年，在他年近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80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高龄撰写《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白与杜甫》这部研究性著作时，因视力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退，有人提议让别人代抄，可他仍然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意。他的不少书都是前后几次易稿，全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是他亲自逐字逐句地反复进行斟酌、锤炼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修改和抄写而成的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2171880"/>
            <a:ext cx="17748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显然，郭沫若的这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勤奋苦学的精神，始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是值得我们学习的。 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01:29:50Z</dcterms:created>
  <dc:creator>微软用户</dc:creator>
  <dc:description/>
  <dc:language>en-US</dc:language>
  <cp:lastModifiedBy>微软用户</cp:lastModifiedBy>
  <dcterms:modified xsi:type="dcterms:W3CDTF">2011-10-17T05:36:00Z</dcterms:modified>
  <cp:revision>6</cp:revision>
  <dc:subject/>
  <dc:title>幻灯片 1</dc:title>
</cp:coreProperties>
</file>