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A1A-34D3-4C09-9CE8-E1C4EA52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571-2A66-43B9-90F3-A761533B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DD8-2C90-44B6-9B70-CC85BDB1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587-28C1-46B6-85CF-EF4386D9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1D20-7956-483D-90BE-50AED0EB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15E2-6007-44CB-91D7-8F5C2155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C94A-99EA-4C09-A152-B02447AB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A333-6EB9-4F15-A7D6-7865A81F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D239-016C-4DE5-908B-8E4BD3CC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289E-1B72-4B99-A557-0FF91F5A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D3C9-0C9D-4D6E-ADA8-838558FF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720-81E4-4AD8-8574-F3CFB65C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E52E-A909-45FB-9DAB-3B8ADDB9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FDB5-E053-4452-98DB-438CB08D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838D-D57E-4F59-9274-E0C719B3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3D01-120C-44A8-9CC3-A46752E2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932C-804A-4A10-BD93-780E5645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A0C-E05C-433F-BF13-D2B0FAF7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F4D-0646-4D87-8DF5-C7A104FB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0DE-707F-443B-AAA3-040AD3D3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147-2EF6-42CF-920D-C100DFB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9C2-8CBF-4A46-844F-E75DD223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EAC-11FD-44CC-98B5-C07488FD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467-394D-4523-8F7A-78E64A10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C95F-9724-462F-963C-61F6AA4968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9AD6-F092-4CE5-902E-F784FC59F1E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9320" y="2819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8000" spc="-1" strike="noStrike">
                <a:solidFill>
                  <a:srgbClr val="0000ff"/>
                </a:solidFill>
                <a:latin typeface="Tahoma"/>
              </a:rPr>
              <a:t>老师你好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4419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一</a:t>
            </a: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&lt;23&gt;</a:t>
            </a: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班教师节主题班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反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我有时在校园里碰到老师觉得有些不好意思，就低着头从他身边走过，没有和他打招呼，这是对老师不礼貌的表现，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楷体"/>
              </a:rPr>
              <a:t>以后我在校园里一定主动向老师问好，不管他是不是我们班的任课老师，都要有礼貌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7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7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3276360"/>
            <a:ext cx="777240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ahoma"/>
                <a:ea typeface="楷体"/>
              </a:rPr>
              <a:t>尊敬老师，就请将教师节的心态放诸每一个平凡的日子里。</a:t>
            </a: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7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7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诸多尊敬在许多人那里只能持续一天，而且形式大于内容，更看重的是给教师办个什么样的庆贺会，甚至送了什么样的重礼。心灵深处的尊重往往靠器物的价值来衡量，这显然有悖于“尊师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的真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楷体"/>
                <a:ea typeface="楷体"/>
              </a:rPr>
              <a:t>尊敬老师，就请用一颗平常心来看待老师。</a:t>
            </a:r>
            <a:r>
              <a:rPr b="1" lang="zh-CN" sz="4000" spc="-1" strike="noStrike">
                <a:solidFill>
                  <a:srgbClr val="3333cc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7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7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楷体"/>
                <a:ea typeface="楷体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楷体"/>
                <a:ea typeface="楷体"/>
              </a:rPr>
              <a:t>十年树木，百年树人”。相比其他行业，老师身上肩负的责任更为重大。教师的职业很神圣，但教师首先是一个人，教师也有常人的缺点毛病，教师也会犯错，因此，在教师犯错的时候，我们应用平常的心态来对待教师。时刻记着教师只是一个凡人，而不是一个圣人。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895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ahoma"/>
                <a:ea typeface="楷体"/>
              </a:rPr>
              <a:t>信任老师，努力学好每一科。尽自己的全力获得好成绩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7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7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不信任老师就像一个杯子盛满了东西，再也不能接受新事物。而说人学习好的基础是虚心，这样才可以敞开怀抱接受新事物了。所以我说成就要从信任老师起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怎么样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ahoma"/>
                <a:ea typeface="楷体"/>
              </a:rPr>
              <a:t>我们的老师多年教学的经验，他们的要求都有目的。他们出的习题都有目的，但他不会和你讲，你只管依教奉行，百分百的完成，你一定会有出于意料的收获。除了学习我更应该说的是老师于我们日常的教导、要求都是他人生和教学积累的智慧的总结，有的同学自认为有个性，很有自尊，对老师的话听不入耳，甚至反感，却不知这正是你下滑的时候，有心的同学细心品味老师的话，反复思索老师的话，因而时时进步，因为他信任老师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誓词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819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cc"/>
                </a:solidFill>
                <a:uFillTx/>
                <a:latin typeface="Tahoma"/>
                <a:ea typeface="楷体"/>
              </a:rPr>
              <a:t>尊敬老师，听老师的话，按老师的教导办事，做老师的好学生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楷体"/>
              </a:rPr>
              <a:t>热烈欢迎各位老师的到来！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寄语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ahoma"/>
                <a:ea typeface="楷体"/>
              </a:rPr>
              <a:t>一个人，无论地位有多高，成就有多大，如果饮水思源，他就不会忘记老师在他的成长道路上所花费的巨大心血。“国家兴亡，系于教育；教育兴亡，系于教师。”是教师让我们告别愚昧，是教师让我们挥别贫穷，是教师让人们智慧起来，是教师让民族振兴起来。因此，尊敬老师是一个民族文明的标志，是提高国民素质的关键，是经济腾飞的基础，是国家兴旺的根本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寄语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ahoma"/>
                <a:ea typeface="楷体"/>
              </a:rPr>
              <a:t>老师们的无私奉献、不图回报、爱岗敬业、安贫乐道、甘作人梯、愿作牛马的精神是永远值得我们学习和爱戴的。所以我们要尊敬老师，热爱老师！但尊师重教不是一句口号，而是实实在在的行动。不仅仅是教师节才有的专利，而是落实到日常生活中。许多同学在教师节给老师送上贺卡以表心愿，其实，尊师不在于这些，而在于我们同学的头脑中，是否时刻都有这样一个意识，在于是否将这种意识溶于自己的每一言、每一行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寄语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真切的希望各位同学能将今天所说的一切化为实际行动，用你们的一言一行来表达对老师的尊敬与爱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来自偶然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像一颗尘土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有谁看出我的脆弱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来自何方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情归何处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谁在下一刻呼唤我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天地虽宽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这条路却难走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看遍这人间坎坷辛苦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还有多少爱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还有多少泪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要苍天知道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不认输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谢有你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伴我一生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让我有勇气作我自己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谢命运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花开花落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一样会珍惜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来自偶然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像一颗尘土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有谁看出我的脆弱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来自何方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情归何处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谁在下一刻呼唤我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天地虽宽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这条路却难走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看遍这人间坎坷辛苦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还有多少爱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还有多少泪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要苍天知道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不认输</a:t>
            </a:r>
            <a:br>
              <a:rPr sz="32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感谢有你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伴我一生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让我有勇气作我自己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感谢命运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花开花落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一样会珍惜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感恩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谢有你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伴我一生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让我有勇气作我自己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恩的心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感谢命运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花开花落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我一样会珍惜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尊师重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每天清晨，同学在校园遇见老师亲切地问一声：老师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早上好！ 教师节，同学们会向老师送一张精美的贺卡。这一声声亲切的问候，一张张美丽的贺卡，都折射出中华民族优秀传统在当今时代所绽放出的绚丽色彩。有人说教师是人类灵魂的工程师。是的，当我们刚入学还不懂事的时候，是老师从细小的事情入手，耐心地指导我们如何做人、如何做事。当我们犯了错误的时候，或是彷徨无奈的时候，又是老师循循善诱地启迪我们，仿佛是在我们的心灵深处点燃了一盏明亮的灯，把我们的人生引向光明的彼岸。如果说学校是知识的源泉，那么在我们学习知识的过程中最离不开的就是老师了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666880"/>
            <a:ext cx="777240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楷体"/>
              </a:rPr>
              <a:t>    </a:t>
            </a: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楷体"/>
              </a:rPr>
              <a:t>祝各位老师节日快乐，家庭幸福！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为什么要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为什么要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毛主席</a:t>
            </a: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在给他的老师徐特立老先生的生日贺信中说道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：“你是我二十年以前的老师，现在仍然是我的老师，将来必定还是我的老师。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杨时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程门立雪</a:t>
            </a:r>
            <a:r>
              <a:rPr b="0" lang="zh-CN" sz="2800" spc="-1" strike="noStrike">
                <a:solidFill>
                  <a:srgbClr val="3333cc"/>
                </a:solidFill>
                <a:latin typeface="Tahoma"/>
              </a:rPr>
              <a:t> 杨时在洛阳求教于程颐。杨时那个时候大概已经四十岁了。一天他去拜见程颐时，恰巧程颐正在坐着打盹，杨时就和游酢恭敬的站在旁边，一直没有走开。等到程颐醒来的时候，门外的雪已经有一尺深了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为什么要尊师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尊师重教，是中华民族传统美德的重要规范。其本质是尊重知识、尊重教育、尊重人才。对青少年进行尊师重教教育，这是人类生存、发展和社会文明进步的需要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反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楷体"/>
              </a:rPr>
              <a:t>问题一：你以前有过那些不尊敬老师的行为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楷体"/>
              </a:rPr>
              <a:t>问题二：你打算今后怎样尊敬老师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7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7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7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反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当我犯了错误，受了老师的批评，总是不服气，有时还要顶撞老师。</a:t>
            </a: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楷体"/>
              </a:rPr>
              <a:t>其实我错了，老师批评我，教育我，都在教我做人的道理。以后我一定虚心接收老师的批评教育，并积极改正错误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7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7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反思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有时上课不认真听讲，经常开小差。有时还要讲话，影响课堂纪律和老师的讲课，这是对老师劳动不尊重的表现。</a:t>
            </a:r>
            <a:r>
              <a:rPr b="0" lang="zh-CN" sz="3600" spc="-1" strike="noStrike">
                <a:solidFill>
                  <a:srgbClr val="3333cc"/>
                </a:solidFill>
                <a:latin typeface="Tahoma"/>
                <a:ea typeface="楷体"/>
              </a:rPr>
              <a:t>我们应该上课专心听讲，独立思考，积极举手发言，认真完成作业，这是老师最大的欣慰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7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7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45:13Z</dcterms:created>
  <dc:creator>home</dc:creator>
  <dc:description/>
  <dc:language>en-US</dc:language>
  <cp:lastModifiedBy>T-Mac</cp:lastModifiedBy>
  <dcterms:modified xsi:type="dcterms:W3CDTF">2012-09-10T05:00:3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