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64C9B-5181-44DA-8C31-EA7705B5C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 name="PlaceHolder 2"/>
          <p:cNvSpPr>
            <a:spLocks noGrp="1"/>
          </p:cNvSpPr>
          <p:nvPr>
            <p:ph/>
          </p:nvPr>
        </p:nvSpPr>
        <p:spPr>
          <a:xfrm>
            <a:off x="684000" y="160020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BE19D-C714-430B-BBCB-BB30FB50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0"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5"/>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344CB-237B-493A-B27F-AA99036A8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 name="PlaceHolder 2"/>
          <p:cNvSpPr>
            <a:spLocks noGrp="1"/>
          </p:cNvSpPr>
          <p:nvPr>
            <p:ph/>
          </p:nvPr>
        </p:nvSpPr>
        <p:spPr>
          <a:xfrm>
            <a:off x="68400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3"/>
          <p:cNvSpPr>
            <a:spLocks noGrp="1"/>
          </p:cNvSpPr>
          <p:nvPr>
            <p:ph/>
          </p:nvPr>
        </p:nvSpPr>
        <p:spPr>
          <a:xfrm>
            <a:off x="27291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4"/>
          <p:cNvSpPr>
            <a:spLocks noGrp="1"/>
          </p:cNvSpPr>
          <p:nvPr>
            <p:ph/>
          </p:nvPr>
        </p:nvSpPr>
        <p:spPr>
          <a:xfrm>
            <a:off x="47739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5"/>
          <p:cNvSpPr>
            <a:spLocks noGrp="1"/>
          </p:cNvSpPr>
          <p:nvPr>
            <p:ph/>
          </p:nvPr>
        </p:nvSpPr>
        <p:spPr>
          <a:xfrm>
            <a:off x="68400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6"/>
          <p:cNvSpPr>
            <a:spLocks noGrp="1"/>
          </p:cNvSpPr>
          <p:nvPr>
            <p:ph/>
          </p:nvPr>
        </p:nvSpPr>
        <p:spPr>
          <a:xfrm>
            <a:off x="27291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7"/>
          <p:cNvSpPr>
            <a:spLocks noGrp="1"/>
          </p:cNvSpPr>
          <p:nvPr>
            <p:ph/>
          </p:nvPr>
        </p:nvSpPr>
        <p:spPr>
          <a:xfrm>
            <a:off x="47739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0EDAE-714C-4DFE-AE16-7902D68A9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180AC-E259-4368-84F9-3C49ED119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 name="PlaceHolder 2"/>
          <p:cNvSpPr>
            <a:spLocks noGrp="1"/>
          </p:cNvSpPr>
          <p:nvPr>
            <p:ph type="subTitle"/>
          </p:nvPr>
        </p:nvSpPr>
        <p:spPr>
          <a:xfrm>
            <a:off x="684000" y="1600200"/>
            <a:ext cx="6048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72788-2F79-4C34-BED8-4D2D0B599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 name="PlaceHolder 2"/>
          <p:cNvSpPr>
            <a:spLocks noGrp="1"/>
          </p:cNvSpPr>
          <p:nvPr>
            <p:ph/>
          </p:nvPr>
        </p:nvSpPr>
        <p:spPr>
          <a:xfrm>
            <a:off x="684000" y="1600200"/>
            <a:ext cx="6048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39E27-B933-4257-AFCA-133CED333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2"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CFFC0-F5E0-41C9-AF3B-E9F84009D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530CA-EB59-4D54-97C9-F7CE3158E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94920" y="274680"/>
            <a:ext cx="84978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F3A19-FA6F-4012-8676-C918EAF9C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6"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8"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ED352-F4DA-4DD4-89D2-007554F56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 name="PlaceHolder 2"/>
          <p:cNvSpPr>
            <a:spLocks noGrp="1"/>
          </p:cNvSpPr>
          <p:nvPr>
            <p:ph type="subTitle"/>
          </p:nvPr>
        </p:nvSpPr>
        <p:spPr>
          <a:xfrm>
            <a:off x="684000" y="1600200"/>
            <a:ext cx="6048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A53B3-34D3-4EF3-A9AC-438E61F08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2" name="PlaceHolder 4"/>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3B553-C292-4F99-A4D4-C6429ED72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6" name="PlaceHolder 4"/>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D3454-0C5A-40C3-9D8A-EB859F19F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684000" y="160020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3"/>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CB3B2-D4AF-4C04-91F8-5B6A9F04F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1"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3"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5"/>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F9091-FFB4-4F3F-BFB1-B39888E6D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6" name="PlaceHolder 2"/>
          <p:cNvSpPr>
            <a:spLocks noGrp="1"/>
          </p:cNvSpPr>
          <p:nvPr>
            <p:ph/>
          </p:nvPr>
        </p:nvSpPr>
        <p:spPr>
          <a:xfrm>
            <a:off x="68400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3"/>
          <p:cNvSpPr>
            <a:spLocks noGrp="1"/>
          </p:cNvSpPr>
          <p:nvPr>
            <p:ph/>
          </p:nvPr>
        </p:nvSpPr>
        <p:spPr>
          <a:xfrm>
            <a:off x="27291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8" name="PlaceHolder 4"/>
          <p:cNvSpPr>
            <a:spLocks noGrp="1"/>
          </p:cNvSpPr>
          <p:nvPr>
            <p:ph/>
          </p:nvPr>
        </p:nvSpPr>
        <p:spPr>
          <a:xfrm>
            <a:off x="47739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5"/>
          <p:cNvSpPr>
            <a:spLocks noGrp="1"/>
          </p:cNvSpPr>
          <p:nvPr>
            <p:ph/>
          </p:nvPr>
        </p:nvSpPr>
        <p:spPr>
          <a:xfrm>
            <a:off x="68400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6"/>
          <p:cNvSpPr>
            <a:spLocks noGrp="1"/>
          </p:cNvSpPr>
          <p:nvPr>
            <p:ph/>
          </p:nvPr>
        </p:nvSpPr>
        <p:spPr>
          <a:xfrm>
            <a:off x="27291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7"/>
          <p:cNvSpPr>
            <a:spLocks noGrp="1"/>
          </p:cNvSpPr>
          <p:nvPr>
            <p:ph/>
          </p:nvPr>
        </p:nvSpPr>
        <p:spPr>
          <a:xfrm>
            <a:off x="47739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228F0-42D0-4748-AF24-A8C65B2A2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A2AB9E-6634-44CC-9ED5-D1906FE0BC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9" name="PlaceHolder 2"/>
          <p:cNvSpPr>
            <a:spLocks noGrp="1"/>
          </p:cNvSpPr>
          <p:nvPr>
            <p:ph type="subTitle"/>
          </p:nvPr>
        </p:nvSpPr>
        <p:spPr>
          <a:xfrm>
            <a:off x="684000" y="1600200"/>
            <a:ext cx="6048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5F15A2-BBF6-46B6-897D-0D63CED9BD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1" name="PlaceHolder 2"/>
          <p:cNvSpPr>
            <a:spLocks noGrp="1"/>
          </p:cNvSpPr>
          <p:nvPr>
            <p:ph/>
          </p:nvPr>
        </p:nvSpPr>
        <p:spPr>
          <a:xfrm>
            <a:off x="684000" y="1600200"/>
            <a:ext cx="6048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FF67C2-43BF-4697-BB0C-A52F8B5C3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3"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4"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94B45B-76E7-4D22-9865-DCA2842D6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9D2B4F-04DB-42C6-A8D2-2E737B983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p:nvPr>
        </p:nvSpPr>
        <p:spPr>
          <a:xfrm>
            <a:off x="684000" y="1600200"/>
            <a:ext cx="6048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24309-7E63-4DF1-B187-445CAD39D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94920" y="274680"/>
            <a:ext cx="84978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E63A39-3F4D-44DE-9311-00C50E5C0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9"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0"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F62EF-A2A1-4503-AB54-F059BF018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2"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4" name="PlaceHolder 4"/>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7A8EE-859A-440C-9B35-047BA78D7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6"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8" name="PlaceHolder 4"/>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02AAD-7D54-4B35-B339-D279462AC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0" name="PlaceHolder 2"/>
          <p:cNvSpPr>
            <a:spLocks noGrp="1"/>
          </p:cNvSpPr>
          <p:nvPr>
            <p:ph/>
          </p:nvPr>
        </p:nvSpPr>
        <p:spPr>
          <a:xfrm>
            <a:off x="684000" y="160020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3"/>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6A3F52-9551-444D-B6E6-B31F2FBDE6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4"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5"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6" name="PlaceHolder 5"/>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79D0DC-99C6-47C6-8549-E8C29D6D22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8" name="PlaceHolder 2"/>
          <p:cNvSpPr>
            <a:spLocks noGrp="1"/>
          </p:cNvSpPr>
          <p:nvPr>
            <p:ph/>
          </p:nvPr>
        </p:nvSpPr>
        <p:spPr>
          <a:xfrm>
            <a:off x="68400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3"/>
          <p:cNvSpPr>
            <a:spLocks noGrp="1"/>
          </p:cNvSpPr>
          <p:nvPr>
            <p:ph/>
          </p:nvPr>
        </p:nvSpPr>
        <p:spPr>
          <a:xfrm>
            <a:off x="27291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0" name="PlaceHolder 4"/>
          <p:cNvSpPr>
            <a:spLocks noGrp="1"/>
          </p:cNvSpPr>
          <p:nvPr>
            <p:ph/>
          </p:nvPr>
        </p:nvSpPr>
        <p:spPr>
          <a:xfrm>
            <a:off x="47739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1" name="PlaceHolder 5"/>
          <p:cNvSpPr>
            <a:spLocks noGrp="1"/>
          </p:cNvSpPr>
          <p:nvPr>
            <p:ph/>
          </p:nvPr>
        </p:nvSpPr>
        <p:spPr>
          <a:xfrm>
            <a:off x="68400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2" name="PlaceHolder 6"/>
          <p:cNvSpPr>
            <a:spLocks noGrp="1"/>
          </p:cNvSpPr>
          <p:nvPr>
            <p:ph/>
          </p:nvPr>
        </p:nvSpPr>
        <p:spPr>
          <a:xfrm>
            <a:off x="27291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3" name="PlaceHolder 7"/>
          <p:cNvSpPr>
            <a:spLocks noGrp="1"/>
          </p:cNvSpPr>
          <p:nvPr>
            <p:ph/>
          </p:nvPr>
        </p:nvSpPr>
        <p:spPr>
          <a:xfrm>
            <a:off x="47739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992D63-F455-40CF-BAF0-C29857E74E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61EF1E-1E27-493A-8452-804E870D05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5" name="PlaceHolder 2"/>
          <p:cNvSpPr>
            <a:spLocks noGrp="1"/>
          </p:cNvSpPr>
          <p:nvPr>
            <p:ph type="subTitle"/>
          </p:nvPr>
        </p:nvSpPr>
        <p:spPr>
          <a:xfrm>
            <a:off x="684000" y="1600200"/>
            <a:ext cx="6048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40D017-2F57-408D-9DC4-67EBE36235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7" name="PlaceHolder 2"/>
          <p:cNvSpPr>
            <a:spLocks noGrp="1"/>
          </p:cNvSpPr>
          <p:nvPr>
            <p:ph/>
          </p:nvPr>
        </p:nvSpPr>
        <p:spPr>
          <a:xfrm>
            <a:off x="684000" y="1600200"/>
            <a:ext cx="6048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A61398-5943-465E-B0D5-0593466EE4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49A59-BFF2-4A33-B1D3-8B012C6CB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0"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CE142-BA16-480E-BF0F-848352E82F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ADD67-C869-4347-B5FA-43CE949113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94920" y="274680"/>
            <a:ext cx="84978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9EE75-0F90-48C7-94A6-0EC30D43D1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4"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5"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6"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FB143-5C55-49DA-8068-66F1B1C6C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8"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9"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0" name="PlaceHolder 4"/>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4A51B-8F4D-41F2-B206-D4585AA53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2"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3"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4" name="PlaceHolder 4"/>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BE00F2-EFB3-47C2-9DAE-D4E973504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6" name="PlaceHolder 2"/>
          <p:cNvSpPr>
            <a:spLocks noGrp="1"/>
          </p:cNvSpPr>
          <p:nvPr>
            <p:ph/>
          </p:nvPr>
        </p:nvSpPr>
        <p:spPr>
          <a:xfrm>
            <a:off x="684000" y="160020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7" name="PlaceHolder 3"/>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6CE6DB-470B-42DC-B84B-6422F2B15B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9"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0"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1"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2" name="PlaceHolder 5"/>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2277DA-07D1-43CB-A44F-9BF45810BD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4" name="PlaceHolder 2"/>
          <p:cNvSpPr>
            <a:spLocks noGrp="1"/>
          </p:cNvSpPr>
          <p:nvPr>
            <p:ph/>
          </p:nvPr>
        </p:nvSpPr>
        <p:spPr>
          <a:xfrm>
            <a:off x="68400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5" name="PlaceHolder 3"/>
          <p:cNvSpPr>
            <a:spLocks noGrp="1"/>
          </p:cNvSpPr>
          <p:nvPr>
            <p:ph/>
          </p:nvPr>
        </p:nvSpPr>
        <p:spPr>
          <a:xfrm>
            <a:off x="27291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6" name="PlaceHolder 4"/>
          <p:cNvSpPr>
            <a:spLocks noGrp="1"/>
          </p:cNvSpPr>
          <p:nvPr>
            <p:ph/>
          </p:nvPr>
        </p:nvSpPr>
        <p:spPr>
          <a:xfrm>
            <a:off x="47739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7" name="PlaceHolder 5"/>
          <p:cNvSpPr>
            <a:spLocks noGrp="1"/>
          </p:cNvSpPr>
          <p:nvPr>
            <p:ph/>
          </p:nvPr>
        </p:nvSpPr>
        <p:spPr>
          <a:xfrm>
            <a:off x="68400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8" name="PlaceHolder 6"/>
          <p:cNvSpPr>
            <a:spLocks noGrp="1"/>
          </p:cNvSpPr>
          <p:nvPr>
            <p:ph/>
          </p:nvPr>
        </p:nvSpPr>
        <p:spPr>
          <a:xfrm>
            <a:off x="27291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9" name="PlaceHolder 7"/>
          <p:cNvSpPr>
            <a:spLocks noGrp="1"/>
          </p:cNvSpPr>
          <p:nvPr>
            <p:ph/>
          </p:nvPr>
        </p:nvSpPr>
        <p:spPr>
          <a:xfrm>
            <a:off x="47739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8A1900-53D3-4F8B-974B-49FA14A552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D1AEEA-DA08-42EE-9D33-60AE033988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F5569-FFF4-4515-9C87-DC42D2811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0" name="PlaceHolder 2"/>
          <p:cNvSpPr>
            <a:spLocks noGrp="1"/>
          </p:cNvSpPr>
          <p:nvPr>
            <p:ph type="subTitle"/>
          </p:nvPr>
        </p:nvSpPr>
        <p:spPr>
          <a:xfrm>
            <a:off x="684000" y="1600200"/>
            <a:ext cx="6048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FAE501-CC1A-4B97-82F3-E8B7E2084C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2" name="PlaceHolder 2"/>
          <p:cNvSpPr>
            <a:spLocks noGrp="1"/>
          </p:cNvSpPr>
          <p:nvPr>
            <p:ph/>
          </p:nvPr>
        </p:nvSpPr>
        <p:spPr>
          <a:xfrm>
            <a:off x="684000" y="1600200"/>
            <a:ext cx="6048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2A9FFE-7B71-4F60-868F-83E07AC9D0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4"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5"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B2D03-AD6C-4EC8-99B3-99687CA8C3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301A3-1CA6-409F-A03E-AE3F53760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394920" y="274680"/>
            <a:ext cx="84978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DC6637-819B-4E89-ABD8-DAC04EF6D6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9"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0"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1"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547A2-FCA1-4F65-A1BC-3281642A3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3"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4"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5" name="PlaceHolder 4"/>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0B2DFC-23E6-4931-9F12-75630E6B5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7"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8"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9" name="PlaceHolder 4"/>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EC21BE-0A6E-4E1B-BAA8-BF00239320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1" name="PlaceHolder 2"/>
          <p:cNvSpPr>
            <a:spLocks noGrp="1"/>
          </p:cNvSpPr>
          <p:nvPr>
            <p:ph/>
          </p:nvPr>
        </p:nvSpPr>
        <p:spPr>
          <a:xfrm>
            <a:off x="684000" y="160020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2" name="PlaceHolder 3"/>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8DF276-E406-4A59-BBFD-4B419CE91D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4"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5"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6"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7" name="PlaceHolder 5"/>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2050E4-ABF5-4479-B9A3-1FC0E2121D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4920" y="274680"/>
            <a:ext cx="84978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0C862-8D66-4581-BA9E-ECBAA9BA6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p:nvPr>
        </p:nvSpPr>
        <p:spPr>
          <a:xfrm>
            <a:off x="68400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0" name="PlaceHolder 3"/>
          <p:cNvSpPr>
            <a:spLocks noGrp="1"/>
          </p:cNvSpPr>
          <p:nvPr>
            <p:ph/>
          </p:nvPr>
        </p:nvSpPr>
        <p:spPr>
          <a:xfrm>
            <a:off x="27291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1" name="PlaceHolder 4"/>
          <p:cNvSpPr>
            <a:spLocks noGrp="1"/>
          </p:cNvSpPr>
          <p:nvPr>
            <p:ph/>
          </p:nvPr>
        </p:nvSpPr>
        <p:spPr>
          <a:xfrm>
            <a:off x="47739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2" name="PlaceHolder 5"/>
          <p:cNvSpPr>
            <a:spLocks noGrp="1"/>
          </p:cNvSpPr>
          <p:nvPr>
            <p:ph/>
          </p:nvPr>
        </p:nvSpPr>
        <p:spPr>
          <a:xfrm>
            <a:off x="68400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3" name="PlaceHolder 6"/>
          <p:cNvSpPr>
            <a:spLocks noGrp="1"/>
          </p:cNvSpPr>
          <p:nvPr>
            <p:ph/>
          </p:nvPr>
        </p:nvSpPr>
        <p:spPr>
          <a:xfrm>
            <a:off x="27291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4" name="PlaceHolder 7"/>
          <p:cNvSpPr>
            <a:spLocks noGrp="1"/>
          </p:cNvSpPr>
          <p:nvPr>
            <p:ph/>
          </p:nvPr>
        </p:nvSpPr>
        <p:spPr>
          <a:xfrm>
            <a:off x="47739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441C31-8CDC-4C07-8215-1B453A6881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963F0-487E-4DA8-8D31-3919F037D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AE4DF-55A1-4458-8029-8A17A4784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F669-96DD-422E-9753-ABB1D8D1D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586B-289A-4F1F-9E7F-791E0D23B6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07B7-22F0-429F-A392-6365AED823E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5" descr="traffic-lights2"/>
          <p:cNvPicPr/>
          <p:nvPr/>
        </p:nvPicPr>
        <p:blipFill>
          <a:blip r:embed="rId2"/>
          <a:stretch/>
        </p:blipFill>
        <p:spPr>
          <a:xfrm>
            <a:off x="0" y="-1440"/>
            <a:ext cx="9144000" cy="6859440"/>
          </a:xfrm>
          <a:prstGeom prst="rect">
            <a:avLst/>
          </a:prstGeom>
          <a:ln w="0">
            <a:noFill/>
          </a:ln>
        </p:spPr>
      </p:pic>
      <p:sp>
        <p:nvSpPr>
          <p:cNvPr id="8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84" name="PlaceHolder 2"/>
          <p:cNvSpPr>
            <a:spLocks noGrp="1"/>
          </p:cNvSpPr>
          <p:nvPr>
            <p:ph type="body"/>
          </p:nvPr>
        </p:nvSpPr>
        <p:spPr>
          <a:xfrm>
            <a:off x="684000" y="1600200"/>
            <a:ext cx="6048360" cy="4525920"/>
          </a:xfrm>
          <a:prstGeom prst="rect">
            <a:avLst/>
          </a:prstGeom>
          <a:noFill/>
          <a:ln w="0">
            <a:noFill/>
          </a:ln>
        </p:spPr>
        <p:txBody>
          <a:bodyPr lIns="90000" rIns="90000" tIns="46800" bIns="46800" anchor="t">
            <a:normAutofit fontScale="97000"/>
          </a:bodyPr>
          <a:p>
            <a:pPr marL="332640" indent="-332640">
              <a:spcBef>
                <a:spcPts val="799"/>
              </a:spcBef>
              <a:buClr>
                <a:srgbClr val="1ccc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20720" indent="-277200">
              <a:spcBef>
                <a:spcPts val="799"/>
              </a:spcBef>
              <a:buClr>
                <a:srgbClr val="1ccc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08440" indent="-221400">
              <a:spcBef>
                <a:spcPts val="799"/>
              </a:spcBef>
              <a:buClr>
                <a:srgbClr val="1ccc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551960" indent="-221400">
              <a:spcBef>
                <a:spcPts val="799"/>
              </a:spcBef>
              <a:buClr>
                <a:srgbClr val="1ccc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1995480" indent="-221400">
              <a:spcBef>
                <a:spcPts val="799"/>
              </a:spcBef>
              <a:buClr>
                <a:srgbClr val="1ccc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1995480" indent="-22140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1995480" indent="-22140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8306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alibri"/>
              </a:rPr>
              <a:t>Page </a:t>
            </a:r>
            <a:fld id="{00C9A893-0C84-4762-BED8-21AA95AE557E}" type="slidenum">
              <a:rPr b="0" lang="en-US" sz="1400" spc="-1" strike="noStrike">
                <a:solidFill>
                  <a:srgbClr val="000099"/>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24" name=""/>
          <p:cNvGrpSpPr/>
          <p:nvPr/>
        </p:nvGrpSpPr>
        <p:grpSpPr>
          <a:xfrm>
            <a:off x="3800520" y="1789200"/>
            <a:ext cx="5348160" cy="5056200"/>
            <a:chOff x="3800520" y="1789200"/>
            <a:chExt cx="5348160" cy="5056200"/>
          </a:xfrm>
        </p:grpSpPr>
        <p:sp>
          <p:nvSpPr>
            <p:cNvPr id="125"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7"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1"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000000"/>
              </a:solidFill>
              <a:latin typeface="Arial"/>
            </a:endParaRPr>
          </a:p>
        </p:txBody>
      </p:sp>
      <p:sp>
        <p:nvSpPr>
          <p:cNvPr id="162"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000000"/>
              </a:solidFill>
              <a:latin typeface="Arial"/>
            </a:endParaRPr>
          </a:p>
        </p:txBody>
      </p:sp>
      <p:sp>
        <p:nvSpPr>
          <p:cNvPr id="163"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2EB5-99F4-4F1D-9ADE-6CDF4DC43D8F}" type="slidenum">
              <a:rPr b="0" lang="zh-CN"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00" name=""/>
          <p:cNvGrpSpPr/>
          <p:nvPr/>
        </p:nvGrpSpPr>
        <p:grpSpPr>
          <a:xfrm>
            <a:off x="3800520" y="1789200"/>
            <a:ext cx="5348160" cy="5056200"/>
            <a:chOff x="3800520" y="1789200"/>
            <a:chExt cx="5348160" cy="5056200"/>
          </a:xfrm>
        </p:grpSpPr>
        <p:sp>
          <p:nvSpPr>
            <p:cNvPr id="20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PlaceHolder 1"/>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000000"/>
              </a:solidFill>
              <a:latin typeface="Arial"/>
            </a:endParaRPr>
          </a:p>
        </p:txBody>
      </p:sp>
      <p:sp>
        <p:nvSpPr>
          <p:cNvPr id="236" name="PlaceHolder 2"/>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000000"/>
              </a:solidFill>
              <a:latin typeface="Arial"/>
            </a:endParaRPr>
          </a:p>
        </p:txBody>
      </p:sp>
      <p:sp>
        <p:nvSpPr>
          <p:cNvPr id="237"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38" name="PlaceHolder 4"/>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156B-0A34-4233-9B0A-DE2E6FFE46AF}" type="slidenum">
              <a:rPr b="0" lang="zh-CN"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aike.baidu.com/view/4911.htm" TargetMode="External"/><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txBox="1"/>
          <p:nvPr/>
        </p:nvSpPr>
        <p:spPr>
          <a:xfrm>
            <a:off x="685800" y="1905120"/>
            <a:ext cx="76201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9900"/>
                </a:solidFill>
                <a:effectLst>
                  <a:outerShdw dist="17819" dir="2700000" blurRad="0" rotWithShape="0">
                    <a:srgbClr val="990000"/>
                  </a:outerShdw>
                </a:effectLst>
                <a:latin typeface="宋体"/>
              </a:rPr>
              <a:t>做个遵守纪律的好学生</a:t>
            </a:r>
            <a:endParaRPr b="0" lang="en-US" sz="1800" spc="1" strike="noStrike">
              <a:ln w="19080">
                <a:solidFill>
                  <a:srgbClr val="ffcc00"/>
                </a:solidFill>
                <a:miter/>
              </a:ln>
              <a:solidFill>
                <a:srgbClr val="ff99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0" name=""/>
          <p:cNvSpPr/>
          <p:nvPr/>
        </p:nvSpPr>
        <p:spPr>
          <a:xfrm>
            <a:off x="539640" y="1341360"/>
            <a:ext cx="7993080" cy="938880"/>
          </a:xfrm>
          <a:prstGeom prst="rect">
            <a:avLst/>
          </a:prstGeom>
          <a:noFill/>
          <a:ln w="0">
            <a:noFill/>
          </a:ln>
        </p:spPr>
        <p:style>
          <a:lnRef idx="0"/>
          <a:fillRef idx="0"/>
          <a:effectRef idx="0"/>
          <a:fontRef idx="minor"/>
        </p:style>
        <p:txBody>
          <a:bodyPr lIns="90000" rIns="90000" tIns="46800" bIns="46800" anchor="t">
            <a:spAutoFit/>
          </a:bodyPr>
          <a:p>
            <a:pPr>
              <a:lnSpc>
                <a:spcPct val="1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一些学生抱怨学校班级的纪律以及规章制度太严而不服从老师与班委的管理，并且因此觉得自己不够自由。你有这种想法吗？你又如何理解纪律呢？</a:t>
            </a:r>
            <a:endParaRPr b="0" lang="en-US" sz="3000" spc="-1" strike="noStrike">
              <a:solidFill>
                <a:srgbClr val="000000"/>
              </a:solidFill>
              <a:latin typeface="Arial"/>
            </a:endParaRPr>
          </a:p>
        </p:txBody>
      </p:sp>
      <p:sp>
        <p:nvSpPr>
          <p:cNvPr id="291" name=""/>
          <p:cNvSpPr/>
          <p:nvPr/>
        </p:nvSpPr>
        <p:spPr>
          <a:xfrm>
            <a:off x="468360" y="404640"/>
            <a:ext cx="2448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Tahoma"/>
              </a:rPr>
              <a:t>问一问：</a:t>
            </a:r>
            <a:endParaRPr b="0" lang="en-US" sz="5000" spc="-1" strike="noStrike">
              <a:solidFill>
                <a:srgbClr val="000000"/>
              </a:solidFill>
              <a:latin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Text Box 2"/>
          <p:cNvSpPr/>
          <p:nvPr/>
        </p:nvSpPr>
        <p:spPr>
          <a:xfrm>
            <a:off x="3124080" y="2590920"/>
            <a:ext cx="3063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00"/>
                </a:solidFill>
                <a:latin typeface="Arial"/>
                <a:ea typeface="楷体_GB2312"/>
              </a:rPr>
              <a:t>纪</a:t>
            </a:r>
            <a:r>
              <a:rPr b="1" lang="zh-CN" sz="8000" spc="-1" strike="noStrike">
                <a:solidFill>
                  <a:srgbClr val="66ff33"/>
                </a:solidFill>
                <a:latin typeface="Arial"/>
                <a:ea typeface="楷体_GB2312"/>
              </a:rPr>
              <a:t>律</a:t>
            </a:r>
            <a:endParaRPr b="0" lang="en-US" sz="8000" spc="-1" strike="noStrike">
              <a:solidFill>
                <a:srgbClr val="000000"/>
              </a:solidFill>
              <a:latin typeface="Arial"/>
            </a:endParaRPr>
          </a:p>
        </p:txBody>
      </p:sp>
      <p:sp>
        <p:nvSpPr>
          <p:cNvPr id="293" name="Text Box 3"/>
          <p:cNvSpPr/>
          <p:nvPr/>
        </p:nvSpPr>
        <p:spPr>
          <a:xfrm>
            <a:off x="1752480" y="91440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0099"/>
                </a:solidFill>
                <a:latin typeface="Arial"/>
              </a:rPr>
              <a:t>联想一下</a:t>
            </a:r>
            <a:r>
              <a:rPr b="1" lang="zh-CN" sz="7200" spc="-1" strike="noStrike">
                <a:solidFill>
                  <a:srgbClr val="cc0099"/>
                </a:solidFill>
                <a:latin typeface="Arial"/>
              </a:rPr>
              <a:t>,</a:t>
            </a:r>
            <a:r>
              <a:rPr b="1" lang="zh-CN" sz="7200" spc="-1" strike="noStrike">
                <a:solidFill>
                  <a:srgbClr val="cc0099"/>
                </a:solidFill>
                <a:latin typeface="Arial"/>
              </a:rPr>
              <a:t>没有</a:t>
            </a:r>
            <a:endParaRPr b="0" lang="en-US" sz="7200" spc="-1" strike="noStrike">
              <a:solidFill>
                <a:srgbClr val="000000"/>
              </a:solidFill>
              <a:latin typeface="Arial"/>
            </a:endParaRPr>
          </a:p>
        </p:txBody>
      </p:sp>
      <p:sp>
        <p:nvSpPr>
          <p:cNvPr id="294" name="PlaceHolder 1"/>
          <p:cNvSpPr>
            <a:spLocks noGrp="1"/>
          </p:cNvSpPr>
          <p:nvPr>
            <p:ph type="title"/>
          </p:nvPr>
        </p:nvSpPr>
        <p:spPr>
          <a:xfrm>
            <a:off x="533520" y="4647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这个世界会怎么样</a:t>
            </a:r>
            <a:endParaRPr b="0" lang="en-US" sz="6600" spc="-1" strike="noStrike">
              <a:solidFill>
                <a:srgbClr val="000000"/>
              </a:solidFill>
              <a:latin typeface="Arial"/>
            </a:endParaRPr>
          </a:p>
        </p:txBody>
      </p:sp>
      <p:pic>
        <p:nvPicPr>
          <p:cNvPr id="295" name="Picture 5" descr="131u059542h0-2324q"/>
          <p:cNvPicPr/>
          <p:nvPr/>
        </p:nvPicPr>
        <p:blipFill>
          <a:blip r:embed="rId2"/>
          <a:stretch/>
        </p:blipFill>
        <p:spPr>
          <a:xfrm>
            <a:off x="7010280" y="-2590920"/>
            <a:ext cx="2438640" cy="2438640"/>
          </a:xfrm>
          <a:prstGeom prst="rect">
            <a:avLst/>
          </a:prstGeom>
          <a:ln w="0">
            <a:noFill/>
          </a:ln>
        </p:spPr>
      </p:pic>
    </p:spTree>
  </p:cSld>
  <p:transition>
    <p:zoom dir="ou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1">
                                  <p:stCondLst>
                                    <p:cond delay="0"/>
                                  </p:stCondLst>
                                  <p:childTnLst>
                                    <p:set>
                                      <p:cBhvr>
                                        <p:cTn id="62" dur="1" fill="hold">
                                          <p:stCondLst>
                                            <p:cond delay="0"/>
                                          </p:stCondLst>
                                        </p:cTn>
                                        <p:tgtEl>
                                          <p:spTgt spid="293"/>
                                        </p:tgtEl>
                                        <p:attrNameLst>
                                          <p:attrName>style.visibility</p:attrName>
                                        </p:attrNameLst>
                                      </p:cBhvr>
                                      <p:to>
                                        <p:strVal val="visible"/>
                                      </p:to>
                                    </p:set>
                                    <p:animEffect filter="fade" transition="in">
                                      <p:cBhvr additive="repl">
                                        <p:cTn id="63" dur="770"/>
                                        <p:tgtEl>
                                          <p:spTgt spid="293"/>
                                        </p:tgtEl>
                                      </p:cBhvr>
                                    </p:animEffect>
                                    <p:animScale>
                                      <p:cBhvr>
                                        <p:cTn id="64" dur="770" fill="hold"/>
                                        <p:tgtEl>
                                          <p:spTgt spid="293"/>
                                        </p:tgtEl>
                                      </p:cBhvr>
                                      <p:from x="10000" y="10000"/>
                                      <p:to x="200000" y="450000"/>
                                    </p:animScale>
                                    <p:animScale>
                                      <p:cBhvr>
                                        <p:cTn id="65" dur="1230" fill="hold">
                                          <p:stCondLst>
                                            <p:cond delay="770"/>
                                          </p:stCondLst>
                                        </p:cTn>
                                        <p:tgtEl>
                                          <p:spTgt spid="293"/>
                                        </p:tgtEl>
                                      </p:cBhvr>
                                      <p:from x="200000" y="450000"/>
                                      <p:to x="100000" y="100000"/>
                                    </p:animScale>
                                    <p:set>
                                      <p:cBhvr>
                                        <p:cTn id="66" dur="770" fill="hold"/>
                                        <p:tgtEl>
                                          <p:spTgt spid="293"/>
                                        </p:tgtEl>
                                        <p:attrNameLst>
                                          <p:attrName>ppt_x</p:attrName>
                                        </p:attrNameLst>
                                      </p:cBhvr>
                                      <p:to>
                                        <p:strVal val="(0.5)"/>
                                      </p:to>
                                    </p:set>
                                    <p:anim calcmode="lin" valueType="num" from="(0.5)" to="(#ppt_x)">
                                      <p:cBhvr additive="repl">
                                        <p:cTn id="67" dur="1230" fill="hold">
                                          <p:stCondLst>
                                            <p:cond delay="770"/>
                                          </p:stCondLst>
                                        </p:cTn>
                                        <p:tgtEl>
                                          <p:spTgt spid="293"/>
                                        </p:tgtEl>
                                        <p:attrNameLst>
                                          <p:attrName>ppt_x</p:attrName>
                                        </p:attrNameLst>
                                      </p:cBhvr>
                                    </p:anim>
                                    <p:set>
                                      <p:cBhvr>
                                        <p:cTn id="68" dur="770" fill="hold"/>
                                        <p:tgtEl>
                                          <p:spTgt spid="293"/>
                                        </p:tgtEl>
                                        <p:attrNameLst>
                                          <p:attrName>ppt_y</p:attrName>
                                        </p:attrNameLst>
                                      </p:cBhvr>
                                      <p:to>
                                        <p:strVal val="(#ppt_y+0.4)"/>
                                      </p:to>
                                    </p:set>
                                    <p:anim calcmode="lin" valueType="num" from="(#ppt_y+0.4)" to="(#ppt_y)">
                                      <p:cBhvr additive="repl">
                                        <p:cTn id="69" dur="1230" fill="hold">
                                          <p:stCondLst>
                                            <p:cond delay="770"/>
                                          </p:stCondLst>
                                        </p:cTn>
                                        <p:tgtEl>
                                          <p:spTgt spid="293"/>
                                        </p:tgtEl>
                                        <p:attrNameLst>
                                          <p:attrName>ppt_y</p:attrName>
                                        </p:attrNameLst>
                                      </p:cBhvr>
                                    </p:anim>
                                  </p:childTnLst>
                                </p:cTn>
                              </p:par>
                              <p:par>
                                <p:cTn id="70" nodeType="withEffect" fill="hold" presetClass="entr" presetID="51">
                                  <p:stCondLst>
                                    <p:cond delay="2000"/>
                                  </p:stCondLst>
                                  <p:childTnLst>
                                    <p:set>
                                      <p:cBhvr>
                                        <p:cTn id="71" dur="1" fill="hold">
                                          <p:stCondLst>
                                            <p:cond delay="0"/>
                                          </p:stCondLst>
                                        </p:cTn>
                                        <p:tgtEl>
                                          <p:spTgt spid="292"/>
                                        </p:tgtEl>
                                        <p:attrNameLst>
                                          <p:attrName>style.visibility</p:attrName>
                                        </p:attrNameLst>
                                      </p:cBhvr>
                                      <p:to>
                                        <p:strVal val="visible"/>
                                      </p:to>
                                    </p:set>
                                    <p:animEffect filter="fade" transition="in">
                                      <p:cBhvr additive="repl">
                                        <p:cTn id="72" dur="770"/>
                                        <p:tgtEl>
                                          <p:spTgt spid="292"/>
                                        </p:tgtEl>
                                      </p:cBhvr>
                                    </p:animEffect>
                                    <p:animScale>
                                      <p:cBhvr>
                                        <p:cTn id="73" dur="770" fill="hold"/>
                                        <p:tgtEl>
                                          <p:spTgt spid="292"/>
                                        </p:tgtEl>
                                      </p:cBhvr>
                                      <p:from x="10000" y="10000"/>
                                      <p:to x="200000" y="450000"/>
                                    </p:animScale>
                                    <p:animScale>
                                      <p:cBhvr>
                                        <p:cTn id="74" dur="1230" fill="hold">
                                          <p:stCondLst>
                                            <p:cond delay="770"/>
                                          </p:stCondLst>
                                        </p:cTn>
                                        <p:tgtEl>
                                          <p:spTgt spid="292"/>
                                        </p:tgtEl>
                                      </p:cBhvr>
                                      <p:from x="200000" y="450000"/>
                                      <p:to x="100000" y="100000"/>
                                    </p:animScale>
                                    <p:set>
                                      <p:cBhvr>
                                        <p:cTn id="75" dur="770" fill="hold"/>
                                        <p:tgtEl>
                                          <p:spTgt spid="292"/>
                                        </p:tgtEl>
                                        <p:attrNameLst>
                                          <p:attrName>ppt_x</p:attrName>
                                        </p:attrNameLst>
                                      </p:cBhvr>
                                      <p:to>
                                        <p:strVal val="(0.5)"/>
                                      </p:to>
                                    </p:set>
                                    <p:anim calcmode="lin" valueType="num" from="(0.5)" to="(#ppt_x)">
                                      <p:cBhvr additive="repl">
                                        <p:cTn id="76" dur="1230" fill="hold">
                                          <p:stCondLst>
                                            <p:cond delay="770"/>
                                          </p:stCondLst>
                                        </p:cTn>
                                        <p:tgtEl>
                                          <p:spTgt spid="292"/>
                                        </p:tgtEl>
                                        <p:attrNameLst>
                                          <p:attrName>ppt_x</p:attrName>
                                        </p:attrNameLst>
                                      </p:cBhvr>
                                    </p:anim>
                                    <p:set>
                                      <p:cBhvr>
                                        <p:cTn id="77" dur="770" fill="hold"/>
                                        <p:tgtEl>
                                          <p:spTgt spid="292"/>
                                        </p:tgtEl>
                                        <p:attrNameLst>
                                          <p:attrName>ppt_y</p:attrName>
                                        </p:attrNameLst>
                                      </p:cBhvr>
                                      <p:to>
                                        <p:strVal val="(#ppt_y+0.4)"/>
                                      </p:to>
                                    </p:set>
                                    <p:anim calcmode="lin" valueType="num" from="(#ppt_y+0.4)" to="(#ppt_y)">
                                      <p:cBhvr additive="repl">
                                        <p:cTn id="78" dur="1230" fill="hold">
                                          <p:stCondLst>
                                            <p:cond delay="770"/>
                                          </p:stCondLst>
                                        </p:cTn>
                                        <p:tgtEl>
                                          <p:spTgt spid="292"/>
                                        </p:tgtEl>
                                        <p:attrNameLst>
                                          <p:attrName>ppt_y</p:attrName>
                                        </p:attrNameLst>
                                      </p:cBhvr>
                                    </p:anim>
                                  </p:childTnLst>
                                </p:cTn>
                              </p:par>
                              <p:par>
                                <p:cTn id="79" nodeType="withEffect" fill="hold" presetClass="entr" presetID="52">
                                  <p:stCondLst>
                                    <p:cond delay="2500"/>
                                  </p:stCondLst>
                                  <p:childTnLst>
                                    <p:set>
                                      <p:cBhvr>
                                        <p:cTn id="80" dur="1" fill="hold">
                                          <p:stCondLst>
                                            <p:cond delay="0"/>
                                          </p:stCondLst>
                                        </p:cTn>
                                        <p:tgtEl>
                                          <p:spTgt spid="294"/>
                                        </p:tgtEl>
                                        <p:attrNameLst>
                                          <p:attrName>style.visibility</p:attrName>
                                        </p:attrNameLst>
                                      </p:cBhvr>
                                      <p:to>
                                        <p:strVal val="visible"/>
                                      </p:to>
                                    </p:set>
                                    <p:animScale>
                                      <p:cBhvr>
                                        <p:cTn id="81" dur="1000" fill="hold">
                                          <p:stCondLst>
                                            <p:cond delay="0"/>
                                          </p:stCondLst>
                                        </p:cTn>
                                        <p:tgtEl>
                                          <p:spTgt spid="2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 dur="1000" fill="hold">
                                          <p:stCondLst>
                                            <p:cond delay="0"/>
                                          </p:stCondLst>
                                        </p:cTn>
                                        <p:tgtEl>
                                          <p:spTgt spid="294"/>
                                        </p:tgtEl>
                                      </p:cBhvr>
                                    </p:animMotion>
                                    <p:animEffect filter="fade" transition="in">
                                      <p:cBhvr additive="repl">
                                        <p:cTn id="83" dur="1000"/>
                                        <p:tgtEl>
                                          <p:spTgt spid="294"/>
                                        </p:tgtEl>
                                      </p:cBhvr>
                                    </p:animEffect>
                                  </p:childTnLst>
                                </p:cTn>
                              </p:par>
                              <p:par>
                                <p:cTn id="84" nodeType="withEffect" fill="hold" presetClass="path" presetID="0">
                                  <p:stCondLst>
                                    <p:cond delay="2500"/>
                                  </p:stCondLst>
                                  <p:childTnLst>
                                    <p:animMotion origin="layout" path="M 0.01563 0.18194 C 0.01024 0.18542 0.00903 0.18935 0.00625 0.19606 C 0.00434 0.20023 0 0.20833 0 0.20833 C -0.00764 0.27014 -0.01128 0.33588 0.00625 0.39444 C 0.01076 0.42778 0.00486 0.39144 0.01354 0.425 C 0.01875 0.44491 0.02118 0.46065 0.02813 0.47917 C 0.02934 0.48773 0.03021 0.49583 0.03229 0.50417 C 0.03264 0.50833 0.03333 0.5125 0.03333 0.51667 C 0.03333 0.54213 0.03333 0.56759 0.03229 0.59306 C 0.03177 0.60764 0.00399 0.61181 -0.00312 0.61389 C -0.01042 0.61319 -0.01875 0.6088 -0.025 0.61389 C -0.02865 0.6169 -0.02812 0.62477 -0.02917 0.63056 C -0.02951 0.63241 -0.03021 0.63611 -0.03021 0.63611 C -0.02726 0.66157 -0.02517 0.675 -0.01354 0.69444 C -0.01024 0.70995 -0.01285 0.70139 -0.00417 0.71944 C -0.00174 0.72454 0.00104 0.73611 0.00104 0.73611 C 0.00191 0.74491 0.0033 0.75046 0.00625 0.75833 C 0.00694 0.76296 0.00938 0.76736 0.00938 0.77222 C 0.00903 0.79074 0.00781 0.80926 0.00625 0.82778 C 0.00573 0.8338 -0.00191 0.83727 -0.00521 0.84028 C -0.03003 0.86227 -0.06493 0.8412 -0.09479 0.84167 C -0.09792 0.84769 -0.09809 0.85394 -0.09896 0.86111 C -0.09583 0.90856 -0.10052 0.91343 -0.08229 0.94722 C -0.0776 0.95579 -0.07535 0.96435 -0.06875 0.97083 C -0.06372 0.99097 -0.06997 0.97176 -0.06354 0.98194 C -0.06094 0.98611 -0.05972 0.99282 -0.05729 0.99722 C -0.05642 0.99884 -0.05503 0.99977 -0.05417 1.00139 C -0.05156 1.00625 -0.05 1.01806 -0.05 1.01806 C -0.05035 1.02361 -0.04948 1.02963 -0.05104 1.03472 C -0.05729 1.05463 -0.09045 1.04838 -0.09687 1.04861 C -0.13681 1.05625 -0.10972 1.05278 -0.19583 1.05139 C -0.1974 1.05046 -0.19861 1.04931 -0.2 1.04861 C -0.20278 1.04745 -0.20833 1.04583 -0.20833 1.04583 C -0.23229 1.02454 -0.25712 1.06296 -0.27812 1.07222 C -0.28785 1.07083 -0.29774 1.0713 -0.30729 1.06806 C -0.31059 1.0669 -0.3125 1.06181 -0.31562 1.05972 C -0.31979 1.05718 -0.32396 1.05602 -0.32812 1.05417 C -0.34253 1.04005 -0.33003 1.04931 -0.34497 1.04444 C -0.34948 1.04282 -0.34809 1.0412 -0.35208 1.03889 C -0.35642 1.03634 -0.35903 1.03588 -0.36354 1.03472 C -0.36875 1.03519 -0.37413 1.03426 -0.37917 1.03611 C -0.37986 1.03634 -0.38559 1.04861 -0.38646 1.05 C -0.39149 1.05856 -0.39514 1.06991 -0.40104 1.07778 C -0.40382 1.08148 -0.40799 1.08171 -0.41146 1.08333 C -0.43437 1.08102 -0.45781 1.0831 -0.48021 1.07639 C -0.4875 1.07431 -0.4934 1.06944 -0.50104 1.06806 C -0.50955 1.06227 -0.50538 1.06088 -0.51562 1.06667 C -0.52205 1.0794 -0.53437 1.08565 -0.54479 1.09028 C -0.58003 1.08704 -0.5816 1.08657 -0.60625 1.07917 C -0.61007 1.07593 -0.61302 1.07454 -0.61562 1.06944 C -0.62014 1.07153 -0.62309 1.07523 -0.62708 1.07778 C -0.63368 1.08171 -0.64201 1.08218 -0.64896 1.08333 C -0.66962 1.08218 -0.67778 1.08356 -0.69375 1.07083 C -0.69722 1.06389 -0.70503 1.05995 -0.71042 1.05556 C -0.73437 1.03542 -0.74931 1.02245 -0.77917 1.01667 C -0.78681 1.00648 -0.78559 0.98634 -0.77812 0.97639 C -0.77969 0.95046 -0.78056 0.92407 -0.78437 0.89861 C -0.78333 0.89352 -0.78299 0.88819 -0.78125 0.88333 C -0.78073 0.88171 -0.77917 0.88148 -0.77812 0.88056 C -0.7717 0.87407 -0.76615 0.87245 -0.75833 0.87083 C -0.7467 0.87338 -0.73663 0.87639 -0.72604 0.88333 C -0.72535 0.88009 -0.72517 0.87662 -0.72396 0.87361 C -0.72257 0.87014 -0.71215 0.85579 -0.70937 0.85417 C -0.70677 0.85255 -0.70104 0.85139 -0.70104 0.85139 C -0.69549 0.85509 -0.69045 0.85694 -0.68437 0.85833 C -0.67031 0.86898 -0.65885 0.86782 -0.64896 0.8875 C -0.63524 0.87847 -0.62656 0.86273 -0.61042 0.85972 C -0.57691 0.83727 -0.52847 0.86551 -0.49896 0.89167 C -0.4875 0.86505 -0.46719 0.84028 -0.44583 0.82778 C -0.44045 0.82477 -0.43455 0.82361 -0.42917 0.82083 C -0.41076 0.82269 -0.39896 0.82083 -0.38542 0.83611 C -0.38142 0.84051 -0.37778 0.84745 -0.37604 0.85417 C -0.37517 0.85787 -0.37396 0.86528 -0.37396 0.86528 C -0.35104 0.84074 -0.33524 0.81829 -0.30521 0.80833 C -0.29913 0.80926 -0.29253 0.80926 -0.28663 0.81111 C -0.28073 0.81296 -0.27552 0.81759 -0.26979 0.81944 C -0.26111 0.82917 -0.25417 0.8375 -0.24375 0.84306 C -0.2408 0.84977 -0.23889 0.85625 -0.23559 0.8625 C -0.23229 0.875 -0.23576 0.86435 -0.23038 0.84306 C -0.22934 0.83958 -0.22795 0.83611 -0.22604 0.83333 C -0.21771 0.81968 -0.20573 0.81042 -0.19271 0.80694 C -0.18594 0.80093 -0.17865 0.80324 -0.17083 0.80417 C -0.16302 0.80764 -0.16285 0.8169 -0.16458 0.8 C -0.16007 0.76412 -0.16632 0.78426 -0.15521 0.76667 C -0.1533 0.76366 -0.15226 0.75972 -0.15 0.75694 C -0.14583 0.75162 -0.14097 0.74769 -0.13646 0.74306 C -0.13455 0.74097 -0.13021 0.7375 -0.13021 0.7375 C -0.12222 0.73889 -0.11424 0.73981 -0.10625 0.74167 C -0.10451 0.74213 -0.09583 0.74514 -0.09583 0.75 C -0.09583 0.75208 -0.09861 0.74815 -0.1 0.74722 C -0.10382 0.73704 -0.10503 0.72847 -0.10833 0.71806 C -0.10799 0.69954 -0.10885 0.68102 -0.10729 0.6625 C -0.10694 0.65926 -0.10434 0.65694 -0.10312 0.65417 C -0.10035 0.64815 -0.10017 0.64329 -0.09583 0.6375 C -0.09479 0.63611 -0.09132 0.6338 -0.09271 0.63333 C -0.09549 0.63264 -0.10104 0.63611 -0.10104 0.63611 C -0.12847 0.63102 -0.13385 0.63056 -0.15417 0.6125 C -0.15972 0.59792 -0.16372 0.58125 -0.16667 0.56528 C -0.1658 0.55139 -0.16788 0.54699 -0.15833 0.54444 C -0.16545 0.56852 -0.19184 0.57755 -0.20937 0.58056 C -0.23576 0.57431 -0.25608 0.56111 -0.27812 0.54167 C -0.27778 0.53843 -0.275 0.5338 -0.27708 0.53194 C -0.27899 0.53032 -0.27969 0.53681 -0.28142 0.53889 C -0.28281 0.54097 -0.28472 0.54259 -0.28663 0.54444 C -0.29184 0.54977 -0.29635 0.55671 -0.30208 0.56111 C -0.31163 0.56806 -0.325 0.56968 -0.33542 0.57222 C -0.3526 0.5713 -0.36944 0.57106 -0.38646 0.56944 C -0.39878 0.56829 -0.4092 0.56088 -0.42083 0.55694 C -0.42187 0.55602 -0.42361 0.55579 -0.42396 0.55417 C -0.42448 0.55231 -0.42187 0.55 -0.42292 0.54861 C -0.42378 0.54745 -0.42431 0.55139 -0.425 0.55278 C -0.42726 0.5581 -0.43038 0.56713 -0.43437 0.57083 C -0.43872 0.575 -0.45434 0.57824 -0.45937 0.57917 C -0.54948 0.57361 -0.50347 0.58403 -0.53333 0.57083 C -0.53368 0.56944 -0.53472 0.56806 -0.53437 0.56667 C -0.53385 0.56505 -0.53142 0.56227 -0.53125 0.56389 C -0.53021 0.57639 -0.53611 0.58819 -0.54375 0.59444 C -0.5592 0.60671 -0.57969 0.60556 -0.59687 0.60694 C -0.60208 0.60833 -0.60781 0.60787 -0.6125 0.61111 C -0.61406 0.61227 -0.61372 0.61574 -0.61354 0.61806 C -0.61198 0.64074 -0.61094 0.66389 -0.60729 0.68611 C -0.60608 0.69375 -0.59722 0.7037 -0.59271 0.70833 C -0.57049 0.73102 -0.54566 0.75 -0.51979 0.76389 C -0.51597 0.7713 -0.52066 0.77616 -0.52604 0.78056 C -0.5401 0.79213 -0.55868 0.79444 -0.57396 0.80278 C -0.57778 0.80231 -0.58368 0.80602 -0.58542 0.80139 C -0.58715 0.79676 -0.58455 0.78056 -0.57917 0.77639 C -0.57361 0.77199 -0.56476 0.76991 -0.55851 0.76806 C -0.54271 0.76944 -0.52708 0.76968 -0.51146 0.77222 C -0.50538 0.77315 -0.49201 0.78218 -0.48646 0.78472 C -0.46944 0.79259 -0.47448 0.78727 -0.45833 0.79722 C -0.45 0.80231 -0.44444 0.80995 -0.43646 0.81528 C -0.43264 0.83032 -0.45712 0.82153 -0.47396 0.82083 C -0.4842 0.79792 -0.45538 0.77269 -0.44271 0.76528 C -0.38212 0.73009 -0.32309 0.70903 -0.25851 0.69306 C -0.23715 0.69398 -0.21597 0.69421 -0.19497 0.69583 C -0.19132 0.69606 -0.18733 0.69606 -0.18437 0.69861 C -0.18142 0.70116 -0.17812 0.70972 -0.17812 0.70972 C -0.17326 0.73611 -0.17847 0.75949 -0.19792 0.76389 C -0.21042 0.76296 -0.22309 0.76435 -0.23559 0.76111 C -0.2434 0.75903 -0.24983 0.75208 -0.25729 0.74861 C -0.29861 0.72986 -0.28385 0.74329 -0.325 0.71944 C -0.3401 0.71065 -0.36076 0.69838 -0.37187 0.68056 C -0.37153 0.6713 -0.37257 0.66181 -0.37083 0.65278 C -0.3684 0.64097 -0.34913 0.6375 -0.34167 0.63611 C -0.33507 0.63657 -0.32708 0.63171 -0.32205 0.6375 C -0.31858 0.64144 -0.32465 0.64861 -0.32604 0.65417 C -0.33142 0.67361 -0.34444 0.6875 -0.35833 0.69583 C -0.39931 0.72037 -0.4599 0.71181 -0.49896 0.7125 C -0.51597 0.71528 -0.52222 0.71551 -0.53646 0.70417 C -0.54635 0.68449 -0.53021 0.66667 -0.51771 0.65833 C -0.50955 0.65301 -0.4934 0.64815 -0.48542 0.64444 C -0.46979 0.63704 -0.45712 0.62894 -0.44062 0.62639 C -0.42031 0.6287 -0.41493 0.62963 -0.39896 0.64167 C -0.38889 0.65903 -0.38264 0.67824 -0.37708 0.69861 C -0.3724 0.73611 -0.37049 0.74375 -0.37708 0.79028 C -0.37882 0.80185 -0.40729 0.80972 -0.41354 0.81111 C -0.46788 0.80602 -0.53472 0.80324 -0.5625 0.72917 C -0.56146 0.71296 -0.56163 0.69653 -0.55955 0.68056 C -0.55885 0.67731 -0.54618 0.65856 -0.54583 0.65833 C -0.51684 0.6375 -0.4842 0.63171 -0.45208 0.62778 C -0.40486 0.62894 -0.40677 0.62569 -0.37604 0.6375 C -0.37118 0.64236 -0.36979 0.64722 -0.36667 0.65417 C -0.35243 0.73079 -0.41128 0.76111 -0.45521 0.76944 C -0.46389 0.76759 -0.47326 0.76852 -0.48125 0.76389 C -0.50694 0.74907 -0.51788 0.72801 -0.53021 0.69722 C -0.5309 0.69167 -0.53281 0.68611 -0.53229 0.68056 C -0.52899 0.63796 -0.51823 0.62847 -0.49792 0.60139 C -0.49531 0.59792 -0.4941 0.5919 -0.49062 0.59028 C -0.48125 0.58611 -0.46146 0.58472 -0.46146 0.58472 C -0.4099 0.59051 -0.35382 0.59213 -0.3125 0.64028 C -0.30937 0.6537 -0.30451 0.66574 -0.30104 0.67917 C -0.29983 0.69213 -0.29913 0.69583 -0.30104 0.71111 C -0.30451 0.73704 -0.32882 0.74236 -0.34375 0.74722 C -0.37361 0.74213 -0.40365 0.73843 -0.43333 0.73194 C -0.46354 0.72523 -0.49236 0.71042 -0.52187 0.7 C -0.53889 0.6838 -0.52847 0.66435 -0.51667 0.64583 C -0.50087 0.62106 -0.47674 0.58218 -0.45208 0.57222 C -0.43993 0.57407 -0.42743 0.57338 -0.41562 0.57778 C -0.40851 0.58032 -0.39167 0.60972 -0.3875 0.61806 C -0.37969 0.63356 -0.38003 0.63588 -0.37396 0.65556 C -0.37326 0.65787 -0.37187 0.6625 -0.37187 0.6625 C -0.37396 0.67222 -0.37535 0.68218 -0.37812 0.69167 C -0.38681 0.7213 -0.41753 0.72963 -0.4375 0.73333 C -0.44965 0.73056 -0.46198 0.72917 -0.47396 0.725 C -0.48819 0.71991 -0.50174 0.71204 -0.51562 0.70556 C -0.5184 0.70417 -0.52396 0.70139 -0.52396 0.70139 C -0.53767 0.68611 -0.52899 0.67616 -0.51771 0.66111 C -0.49722 0.6338 -0.47014 0.60949 -0.44271 0.59583 C -0.4342 0.59167 -0.41667 0.58611 -0.41667 0.58611 C -0.40972 0.58704 -0.4026 0.58657 -0.39583 0.58889 C -0.3908 0.59051 -0.38802 0.59815 -0.38542 0.60417 C -0.36233 0.65856 -0.3816 0.6169 -0.36979 0.65139 C -0.35156 0.70486 -0.36319 0.66458 -0.35538 0.69306 C -0.35729 0.70417 -0.35868 0.71551 -0.36146 0.72639 C -0.36562 0.74144 -0.38698 0.74213 -0.39583 0.74306 C -0.43715 0.7412 -0.47847 0.74051 -0.51979 0.7375 C -0.52691 0.73704 -0.52865 0.73056 -0.53125 0.72361 C -0.53264 0.70856 -0.53385 0.70139 -0.53125 0.68333 C -0.525 0.63889 -0.48889 0.62245 -0.46042 0.61528 C -0.45139 0.61574 -0.44201 0.61296 -0.43333 0.61667 C -0.40781 0.62755 -0.39583 0.67338 -0.39062 0.70417 C -0.39236 0.7162 -0.39323 0.72847 -0.39583 0.74028 C -0.39931 0.75625 -0.4217 0.75995 -0.43125 0.76111 C -0.4776 0.75509 -0.44983 0.76296 -0.49167 0.74167 C -0.5099 0.73241 -0.52274 0.7294 -0.53542 0.70972 C -0.53767 0.69792 -0.53212 0.68889 -0.525 0.68194 C -0.50608 0.66389 -0.47344 0.65046 -0.45104 0.64306 C -0.44392 0.64074 -0.43646 0.64028 -0.42917 0.63889 C -0.4125 0.64051 -0.39028 0.63287 -0.37917 0.65278 C -0.37292 0.68218 -0.36597 0.72731 -0.38958 0.74306 C -0.4059 0.73843 -0.42257 0.73542 -0.43854 0.72917 C -0.4625 0.71991 -0.48351 0.70116 -0.50729 0.69167 C -0.51181 0.66204 -0.4816 0.64676 -0.46458 0.63889 C -0.44323 0.62917 -0.42031 0.61366 -0.39792 0.60833 C -0.37448 0.60278 -0.34965 0.59977 -0.32604 0.59722 C -0.31024 0.59329 -0.29566 0.58426 -0.28021 0.57778 C -0.26771 0.57245 -0.25434 0.57245 -0.24167 0.56806 C -0.22795 0.56319 -0.2151 0.55463 -0.20104 0.55 C -0.19861 0.54815 -0.19583 0.54699 -0.19375 0.54444 C -0.19253 0.54306 -0.19288 0.54028 -0.19184 0.53889 C -0.18802 0.53449 -0.18142 0.53194 -0.17708 0.52917 C -0.17066 0.525 -0.1651 0.51829 -0.15833 0.51528 C -0.15243 0.50856 -0.14497 0.5044 -0.13958 0.49722 C -0.1309 0.48565 -0.1408 0.49421 -0.12812 0.48333 C -0.12187 0.47801 -0.11424 0.47431 -0.10833 0.46806 C -0.10226 0.46181 -0.09705 0.45602 -0.08958 0.45278 C -0.07969 0.44282 -0.06719 0.43542 -0.05833 0.42361 C -0.05434 0.41829 -0.05156 0.41088 -0.04896 0.40417 C -0.0474 0.39213 -0.04653 0.38889 -0.04896 0.37361 C -0.05122 0.35949 -0.05885 0.3581 -0.06667 0.35139 C -0.06944 0.34907 -0.07118 0.34491 -0.07396 0.34306 C -0.1066 0.3213 -0.08437 0.33935 -0.10937 0.32778 C -0.13455 0.3162 -0.15972 0.29907 -0.18646 0.29583 C -0.25 0.26412 -0.32049 0.2706 -0.3875 0.26528 C -0.48819 0.24861 -0.61962 0.26134 -0.72604 0.2625 C -0.75 0.27153 -0.7691 0.2963 -0.77396 0.32917 C -0.77326 0.34028 -0.77274 0.35139 -0.77187 0.3625 C -0.77118 0.3713 -0.76545 0.38032 -0.7625 0.3875 C -0.75312 0.41065 -0.74253 0.42986 -0.73021 0.45 C -0.72483 0.4588 -0.71927 0.46829 -0.71458 0.47778 C -0.71215 0.48264 -0.71146 0.48912 -0.70833 0.49306 C -0.69722 0.50694 -0.69757 0.50301 -0.6875 0.50972 C -0.6816 0.51366 -0.67778 0.5213 -0.67187 0.525 C -0.66389 0.52986 -0.65694 0.53079 -0.64896 0.53472 C -0.63854 0.53981 -0.63212 0.54375 -0.62187 0.54722 C -0.58333 0.56019 -0.51319 0.55255 -0.49167 0.55278 C -0.45816 0.54167 -0.29931 0.5419 -0.28958 0.54167 C -0.25764 0.52894 -0.22726 0.52917 -0.19375 0.52639 C -0.16944 0.52431 -0.14514 0.52176 -0.12083 0.51944 C -0.10312 0.51157 -0.08542 0.5037 -0.06771 0.49583 C -0.05677 0.48125 -0.04444 0.46968 -0.03646 0.45139 C -0.03333 0.44398 -0.02708 0.42917 -0.02708 0.42917 C -0.025 0.41574 -0.02743 0.3787 -0.02917 0.36528 C -0.02951 0.36273 -0.04566 0.35417 -0.04583 0.35417 C -0.05642 0.34907 -0.06806 0.34699 -0.07812 0.34028 C -0.08993 0.33241 -0.10069 0.32176 -0.1125 0.31389 C -0.16736 0.27731 -0.09878 0.32986 -0.14375 0.29722 C -0.14774 0.29444 -0.15104 0.28981 -0.15521 0.2875 C -0.15851 0.28565 -0.16215 0.28611 -0.16562 0.28472 C -0.17743 0.27986 -0.18941 0.27454 -0.20104 0.26944 C -0.22066 0.26111 -0.23212 0.25486 -0.2533 0.25278 C -0.33247 0.25324 -0.41146 0.2537 -0.49062 0.25417 C -0.62483 0.25509 -0.6717 0.19931 -0.73021 0.30833 C -0.7349 0.32731 -0.73906 0.3463 -0.74375 0.36528 C -0.74497 0.38611 -0.74861 0.40463 -0.75208 0.425 C -0.75139 0.43519 -0.75139 0.4456 -0.75 0.45556 C -0.74757 0.47222 -0.73698 0.4831 -0.73125 0.49722 C -0.71615 0.53426 -0.68576 0.56088 -0.65521 0.57222 C -0.63542 0.57963 -0.61424 0.57454 -0.59375 0.575 C -0.56858 0.57315 -0.54288 0.57431 -0.51771 0.56944 C -0.50903 0.56782 -0.50208 0.55926 -0.49375 0.55556 C -0.47656 0.54792 -0.4592 0.54097 -0.44167 0.53472 C -0.42292 0.52778 -0.40278 0.53171 -0.38333 0.53056 C -0.31215 0.53148 -0.24097 0.53148 -0.16979 0.53333 C -0.16059 0.53356 -0.15208 0.54005 -0.14375 0.54444 C -0.11615 0.55903 -0.09323 0.57384 -0.06875 0.59722 C -0.05747 0.60787 -0.04167 0.61667 -0.03229 0.63056 C -0.02865 0.63588 -0.02639 0.64398 -0.02396 0.65 C -0.02257 0.65324 -0.02118 0.65648 -0.01979 0.65972 C -0.01632 0.66852 -0.01285 0.67731 -0.00937 0.68611 C -0.00399 0.69977 -0.00312 0.71528 0.00208 0.72917 C 0.00434 0.74606 0.01007 0.75995 0.01354 0.77639 C 0.01753 0.79514 0.02066 0.81597 0.02917 0.83194 C 0.03056 0.84352 0.03333 0.8537 0.03438 0.86528 C 0.03524 0.90394 0.0434 0.9669 0.02917 0.99861 C 0.02691 1.00903 0.02292 1.01458 0.01875 1.02361 C 0.01337 1.04861 -0.00295 1.06088 -0.01771 1.075 C -0.02031 1.07755 -0.02222 1.08102 -0.025 1.08333 C -0.02726 1.08519 -0.03003 1.08565 -0.03229 1.0875 C -0.0342 1.08889 -0.03542 1.0919 -0.0375 1.09306 C -0.04219 1.0956 -0.05208 1.09861 -0.05208 1.09861 C -0.08281 1.12778 -0.14062 1.12106 -0.16979 1.12361 C -0.24375 1.1213 -0.31771 1.11759 -0.39167 1.11528 C -0.48108 1.10833 -0.55486 1.10833 -0.65417 1.10694 C -0.67448 1.10347 -0.69427 1.09583 -0.71458 1.09167 C -0.725 1.08611 -0.73351 1.07778 -0.74271 1.06944 C -0.74792 1.04838 -0.74097 1.07106 -0.74896 1.05694 C -0.75295 1.05 -0.75573 1.03866 -0.75833 1.03056 C -0.76024 1.01782 -0.76372 1.00602 -0.76771 0.99444 C -0.76858 0.99167 -0.7691 0.98889 -0.76979 0.98611 C -0.77049 0.98333 -0.77187 0.97778 -0.77187 0.97778 C -0.77274 0.93981 -0.77431 0.89537 -0.77187 0.85833 C -0.77135 0.84977 -0.76441 0.84421 -0.76042 0.8375 C -0.75017 0.81968 -0.74028 0.81458 -0.725 0.80694 C -0.69601 0.79236 -0.74045 0.81111 -0.70625 0.79583 C -0.69549 0.79097 -0.68299 0.79097 -0.67187 0.78889 C -0.6441 0.79028 -0.61632 0.79028 -0.58854 0.79306 C -0.58351 0.79352 -0.57396 0.79861 -0.57396 0.79861 C -0.56354 0.8081 -0.54236 0.81435 -0.53021 0.81806 C -0.51962 0.82106 -0.50937 0.82778 -0.49896 0.83194 C -0.48889 0.83588 -0.46771 0.8375 -0.46771 0.8375 C -0.46389 0.83912 -0.45347 0.84352 -0.44896 0.84444 C -0.4434 0.8456 -0.43229 0.84722 -0.43229 0.84722 C -0.40833 0.85671 -0.38125 0.8537 -0.35625 0.85556 C -0.30955 0.87106 -0.27431 0.86991 -0.22083 0.87222 C -0.2158 0.87106 -0.20382 0.86875 -0.19896 0.86528 C -0.19097 0.85972 -0.18559 0.85185 -0.17708 0.84722 C -0.15486 0.82292 -0.14896 0.79907 -0.14062 0.76389 C -0.13854 0.75486 -0.1342 0.74606 -0.13125 0.7375 C -0.12639 0.72361 -0.12274 0.70949 -0.11771 0.69583 C -0.11042 0.64769 -0.11354 0.67407 -0.11979 0.57222 C -0.12031 0.56319 -0.12691 0.55579 -0.13021 0.54861 C -0.13507 0.53819 -0.13958 0.52731 -0.14583 0.51806 C -0.15087 0.51065 -0.15625 0.50671 -0.1625 0.50139 C -0.18038 0.48611 -0.19861 0.46921 -0.21997 0.46528 C -0.23802 0.45556 -0.26128 0.45741 -0.28021 0.45556 C -0.31493 0.45903 -0.34965 0.45787 -0.38437 0.4625 C -0.38542 0.46296 -0.38646 0.46366 -0.3875 0.46389 C -0.39097 0.46458 -0.39462 0.46389 -0.39792 0.46528 C -0.39965 0.46597 -0.40069 0.46806 -0.40208 0.46944 C -0.40816 0.47523 -0.41476 0.47708 -0.41979 0.48611 C -0.42083 0.48796 -0.42153 0.49028 -0.42292 0.49167 C -0.43056 0.49907 -0.44115 0.50347 -0.44792 0.5125 C -0.45365 0.52014 -0.4592 0.52824 -0.46667 0.53333 C -0.47413 0.54653 -0.48872 0.55856 -0.49792 0.57083 C -0.5092 0.58588 -0.51997 0.60162 -0.53125 0.61667 C -0.53542 0.62222 -0.53906 0.6287 -0.54375 0.63333 C -0.54687 0.63634 -0.55156 0.64097 -0.55417 0.64444 C -0.56302 0.65625 -0.57049 0.6706 -0.58333 0.67639 C -0.59288 0.68588 -0.60365 0.69398 -0.61354 0.70278 C -0.61979 0.70833 -0.62222 0.71296 -0.62917 0.71528 C -0.63455 0.72106 -0.63802 0.72315 -0.64479 0.725 C -0.65052 0.73079 -0.65608 0.73472 -0.6625 0.73889 C -0.68142 0.75162 -0.66354 0.74491 -0.675 0.74861 C -0.67934 0.75255 -0.68212 0.75301 -0.6875 0.75417 C -0.69358 0.75949 -0.69826 0.7581 -0.70521 0.75694 C -0.71128 0.75162 -0.71233 0.74074 -0.71458 0.73194 C -0.71354 0.70185 -0.71667 0.69028 -0.69792 0.67361 C -0.68889 0.67963 -0.69479 0.69259 -0.69479 0.70417 E">
                                      <p:cBhvr>
                                        <p:cTn id="85" dur="5000" fill="hold"/>
                                        <p:tgtEl>
                                          <p:spTgt spid="2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835280" y="1483920"/>
            <a:ext cx="4114800" cy="9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ea typeface="楷体_GB2312"/>
              </a:rPr>
              <a:t>无规矩不成方圆</a:t>
            </a:r>
            <a:endParaRPr b="0" lang="en-US" sz="4400" spc="-1" strike="noStrike">
              <a:solidFill>
                <a:srgbClr val="000000"/>
              </a:solidFill>
              <a:latin typeface="Arial"/>
            </a:endParaRPr>
          </a:p>
        </p:txBody>
      </p:sp>
      <p:sp>
        <p:nvSpPr>
          <p:cNvPr id="297" name="TextBox 3"/>
          <p:cNvSpPr/>
          <p:nvPr/>
        </p:nvSpPr>
        <p:spPr>
          <a:xfrm>
            <a:off x="4308840" y="2894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任何一个社会、一个国家、一个集体都要的自己的纪律。</a:t>
            </a:r>
            <a:endParaRPr b="0" lang="en-US" sz="2400" spc="-1" strike="noStrike">
              <a:solidFill>
                <a:srgbClr val="000000"/>
              </a:solidFill>
              <a:latin typeface="Arial"/>
            </a:endParaRPr>
          </a:p>
        </p:txBody>
      </p:sp>
      <p:sp>
        <p:nvSpPr>
          <p:cNvPr id="298" name="TextBox 4"/>
          <p:cNvSpPr/>
          <p:nvPr/>
        </p:nvSpPr>
        <p:spPr>
          <a:xfrm>
            <a:off x="4298040" y="357336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Calibri"/>
              </a:rPr>
              <a:t>一个工厂没有劳动纪律，工人们各行其是，这个工厂就会乱乱糟糟，生产就会陷于瘫痪。</a:t>
            </a:r>
            <a:endParaRPr b="0" lang="en-US" sz="1800" spc="-1" strike="noStrike">
              <a:solidFill>
                <a:srgbClr val="000000"/>
              </a:solidFill>
              <a:latin typeface="Arial"/>
            </a:endParaRPr>
          </a:p>
        </p:txBody>
      </p:sp>
      <p:sp>
        <p:nvSpPr>
          <p:cNvPr id="299" name="TextBox 5"/>
          <p:cNvSpPr/>
          <p:nvPr/>
        </p:nvSpPr>
        <p:spPr>
          <a:xfrm>
            <a:off x="20520" y="4292640"/>
            <a:ext cx="865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Calibri"/>
              </a:rPr>
              <a:t>一个城市如果没有交通纪律，那么这个城市的交通状况必然是一片混乱。</a:t>
            </a:r>
            <a:endParaRPr b="0" lang="en-US" sz="1800" spc="-1" strike="noStrike">
              <a:solidFill>
                <a:srgbClr val="000000"/>
              </a:solidFill>
              <a:latin typeface="Arial"/>
            </a:endParaRPr>
          </a:p>
        </p:txBody>
      </p:sp>
      <p:sp>
        <p:nvSpPr>
          <p:cNvPr id="300" name="TextBox 6"/>
          <p:cNvSpPr/>
          <p:nvPr/>
        </p:nvSpPr>
        <p:spPr>
          <a:xfrm>
            <a:off x="2546280" y="502452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Calibri"/>
              </a:rPr>
              <a:t>一个国家没有法律，那么这个国家很快就会走向毁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base">
                                        <p:cTn id="92" dur="500" fill="hold"/>
                                        <p:tgtEl>
                                          <p:spTgt spid="297"/>
                                        </p:tgtEl>
                                        <p:attrNameLst>
                                          <p:attrName>ppt_x</p:attrName>
                                        </p:attrNameLst>
                                      </p:cBhvr>
                                      <p:tavLst>
                                        <p:tav tm="0">
                                          <p:val>
                                            <p:strVal val="#ppt_x"/>
                                          </p:val>
                                        </p:tav>
                                        <p:tav tm="100000">
                                          <p:val>
                                            <p:strVal val="#ppt_x"/>
                                          </p:val>
                                        </p:tav>
                                      </p:tavLst>
                                    </p:anim>
                                    <p:anim calcmode="lin" valueType="num">
                                      <p:cBhvr additive="base">
                                        <p:cTn id="93"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98">
                                            <p:txEl>
                                              <p:pRg st="0" end="0"/>
                                            </p:txEl>
                                          </p:spTgt>
                                        </p:tgtEl>
                                        <p:attrNameLst>
                                          <p:attrName>style.visibility</p:attrName>
                                        </p:attrNameLst>
                                      </p:cBhvr>
                                      <p:to>
                                        <p:strVal val="visible"/>
                                      </p:to>
                                    </p:set>
                                    <p:animEffect filter="fade" transition="in">
                                      <p:cBhvr additive="repl">
                                        <p:cTn id="98" dur="1000"/>
                                        <p:tgtEl>
                                          <p:spTgt spid="298">
                                            <p:txEl>
                                              <p:pRg st="0" end="0"/>
                                            </p:txEl>
                                          </p:spTgt>
                                        </p:tgtEl>
                                      </p:cBhvr>
                                    </p:animEffect>
                                    <p:anim calcmode="lin" valueType="num">
                                      <p:cBhvr additive="repl">
                                        <p:cTn id="99" dur="10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2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2">
                                  <p:stCondLst>
                                    <p:cond delay="0"/>
                                  </p:stCondLst>
                                  <p:childTnLst>
                                    <p:set>
                                      <p:cBhvr>
                                        <p:cTn id="104" dur="1" fill="hold">
                                          <p:stCondLst>
                                            <p:cond delay="0"/>
                                          </p:stCondLst>
                                        </p:cTn>
                                        <p:tgtEl>
                                          <p:spTgt spid="299"/>
                                        </p:tgtEl>
                                        <p:attrNameLst>
                                          <p:attrName>style.visibility</p:attrName>
                                        </p:attrNameLst>
                                      </p:cBhvr>
                                      <p:to>
                                        <p:strVal val="visible"/>
                                      </p:to>
                                    </p:set>
                                    <p:animEffect filter="fade" transition="in">
                                      <p:cBhvr additive="repl">
                                        <p:cTn id="105" dur="1000"/>
                                        <p:tgtEl>
                                          <p:spTgt spid="299"/>
                                        </p:tgtEl>
                                      </p:cBhvr>
                                    </p:animEffect>
                                    <p:anim calcmode="lin" valueType="num">
                                      <p:cBhvr additive="repl">
                                        <p:cTn id="106" dur="1000" fill="hold"/>
                                        <p:tgtEl>
                                          <p:spTgt spid="299"/>
                                        </p:tgtEl>
                                        <p:attrNameLst>
                                          <p:attrName>ppt_x</p:attrName>
                                        </p:attrNameLst>
                                      </p:cBhvr>
                                      <p:tavLst>
                                        <p:tav tm="0">
                                          <p:val>
                                            <p:strVal val="#ppt_x"/>
                                          </p:val>
                                        </p:tav>
                                        <p:tav tm="100000">
                                          <p:val>
                                            <p:strVal val="#ppt_x"/>
                                          </p:val>
                                        </p:tav>
                                      </p:tavLst>
                                    </p:anim>
                                    <p:anim calcmode="lin" valueType="num">
                                      <p:cBhvr additive="repl">
                                        <p:cTn id="107"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2">
                                  <p:stCondLst>
                                    <p:cond delay="0"/>
                                  </p:stCondLst>
                                  <p:childTnLst>
                                    <p:set>
                                      <p:cBhvr>
                                        <p:cTn id="111" dur="1" fill="hold">
                                          <p:stCondLst>
                                            <p:cond delay="0"/>
                                          </p:stCondLst>
                                        </p:cTn>
                                        <p:tgtEl>
                                          <p:spTgt spid="300"/>
                                        </p:tgtEl>
                                        <p:attrNameLst>
                                          <p:attrName>style.visibility</p:attrName>
                                        </p:attrNameLst>
                                      </p:cBhvr>
                                      <p:to>
                                        <p:strVal val="visible"/>
                                      </p:to>
                                    </p:set>
                                    <p:animEffect filter="fade" transition="in">
                                      <p:cBhvr additive="repl">
                                        <p:cTn id="112" dur="1000"/>
                                        <p:tgtEl>
                                          <p:spTgt spid="300"/>
                                        </p:tgtEl>
                                      </p:cBhvr>
                                    </p:animEffect>
                                    <p:anim calcmode="lin" valueType="num">
                                      <p:cBhvr additive="repl">
                                        <p:cTn id="113" dur="1000" fill="hold"/>
                                        <p:tgtEl>
                                          <p:spTgt spid="300"/>
                                        </p:tgtEl>
                                        <p:attrNameLst>
                                          <p:attrName>ppt_x</p:attrName>
                                        </p:attrNameLst>
                                      </p:cBhvr>
                                      <p:tavLst>
                                        <p:tav tm="0">
                                          <p:val>
                                            <p:strVal val="#ppt_x"/>
                                          </p:val>
                                        </p:tav>
                                        <p:tav tm="100000">
                                          <p:val>
                                            <p:strVal val="#ppt_x"/>
                                          </p:val>
                                        </p:tav>
                                      </p:tavLst>
                                    </p:anim>
                                    <p:anim calcmode="lin" valueType="num">
                                      <p:cBhvr additive="repl">
                                        <p:cTn id="114" dur="1000" fill="hold"/>
                                        <p:tgtEl>
                                          <p:spTgt spid="3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Box 3"/>
          <p:cNvSpPr/>
          <p:nvPr/>
        </p:nvSpPr>
        <p:spPr>
          <a:xfrm>
            <a:off x="5437800" y="22860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哪有风筝的高翔</a:t>
            </a:r>
            <a:endParaRPr b="0" lang="en-US" sz="4400" spc="-1" strike="noStrike">
              <a:solidFill>
                <a:srgbClr val="000000"/>
              </a:solidFill>
              <a:latin typeface="Arial"/>
            </a:endParaRPr>
          </a:p>
        </p:txBody>
      </p:sp>
      <p:sp>
        <p:nvSpPr>
          <p:cNvPr id="302" name="TextBox 5"/>
          <p:cNvSpPr/>
          <p:nvPr/>
        </p:nvSpPr>
        <p:spPr>
          <a:xfrm>
            <a:off x="1094400" y="22860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若不是线的制约</a:t>
            </a:r>
            <a:endParaRPr b="0" lang="en-US" sz="4400" spc="-1" strike="noStrike">
              <a:solidFill>
                <a:srgbClr val="000000"/>
              </a:solidFill>
              <a:latin typeface="Arial"/>
            </a:endParaRPr>
          </a:p>
        </p:txBody>
      </p:sp>
      <p:sp>
        <p:nvSpPr>
          <p:cNvPr id="303" name="TextBox 6"/>
          <p:cNvSpPr/>
          <p:nvPr/>
        </p:nvSpPr>
        <p:spPr>
          <a:xfrm>
            <a:off x="304920" y="1905120"/>
            <a:ext cx="845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Calibri"/>
              </a:rPr>
              <a:t>人没有了纪律的约束，就像是断了线的风筝，可能当时会放纵一下自己，以后就再也不会高飞起来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02"/>
                                        </p:tgtEl>
                                        <p:attrNameLst>
                                          <p:attrName>style.visibility</p:attrName>
                                        </p:attrNameLst>
                                      </p:cBhvr>
                                      <p:to>
                                        <p:strVal val="visible"/>
                                      </p:to>
                                    </p:set>
                                    <p:anim calcmode="lin" valueType="num">
                                      <p:cBhvr additive="base">
                                        <p:cTn id="121" dur="500" fill="hold"/>
                                        <p:tgtEl>
                                          <p:spTgt spid="302"/>
                                        </p:tgtEl>
                                        <p:attrNameLst>
                                          <p:attrName>ppt_x</p:attrName>
                                        </p:attrNameLst>
                                      </p:cBhvr>
                                      <p:tavLst>
                                        <p:tav tm="0">
                                          <p:val>
                                            <p:strVal val="#ppt_x"/>
                                          </p:val>
                                        </p:tav>
                                        <p:tav tm="100000">
                                          <p:val>
                                            <p:strVal val="#ppt_x"/>
                                          </p:val>
                                        </p:tav>
                                      </p:tavLst>
                                    </p:anim>
                                    <p:anim calcmode="lin" valueType="num">
                                      <p:cBhvr additive="base">
                                        <p:cTn id="122"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6">
                                  <p:stCondLst>
                                    <p:cond delay="0"/>
                                  </p:stCondLst>
                                  <p:childTnLst>
                                    <p:set>
                                      <p:cBhvr>
                                        <p:cTn id="126" dur="1" fill="hold">
                                          <p:stCondLst>
                                            <p:cond delay="0"/>
                                          </p:stCondLst>
                                        </p:cTn>
                                        <p:tgtEl>
                                          <p:spTgt spid="301"/>
                                        </p:tgtEl>
                                        <p:attrNameLst>
                                          <p:attrName>style.visibility</p:attrName>
                                        </p:attrNameLst>
                                      </p:cBhvr>
                                      <p:to>
                                        <p:strVal val="visible"/>
                                      </p:to>
                                    </p:set>
                                    <p:animEffect filter="wipe(down)" transition="in">
                                      <p:cBhvr additive="repl">
                                        <p:cTn id="127" dur="580">
                                          <p:stCondLst>
                                            <p:cond delay="0"/>
                                          </p:stCondLst>
                                        </p:cTn>
                                        <p:tgtEl>
                                          <p:spTgt spid="301"/>
                                        </p:tgtEl>
                                      </p:cBhvr>
                                    </p:animEffect>
                                    <p:anim calcmode="lin" valueType="num">
                                      <p:cBhvr additive="repl">
                                        <p:cTn id="128" dur="1822">
                                          <p:stCondLst>
                                            <p:cond delay="0"/>
                                          </p:stCondLst>
                                        </p:cTn>
                                        <p:tgtEl>
                                          <p:spTgt spid="301"/>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301"/>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301"/>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301"/>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301"/>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301"/>
                                        </p:tgtEl>
                                      </p:cBhvr>
                                      <p:to x="100000" y="60000"/>
                                    </p:animScale>
                                    <p:animScale>
                                      <p:cBhvr>
                                        <p:cTn id="134" dur="166" fill="hold">
                                          <p:stCondLst>
                                            <p:cond delay="676"/>
                                          </p:stCondLst>
                                        </p:cTn>
                                        <p:tgtEl>
                                          <p:spTgt spid="301"/>
                                        </p:tgtEl>
                                      </p:cBhvr>
                                      <p:to x="100000" y="100000"/>
                                    </p:animScale>
                                    <p:animScale>
                                      <p:cBhvr>
                                        <p:cTn id="135" dur="26" fill="hold">
                                          <p:stCondLst>
                                            <p:cond delay="1312"/>
                                          </p:stCondLst>
                                        </p:cTn>
                                        <p:tgtEl>
                                          <p:spTgt spid="301"/>
                                        </p:tgtEl>
                                      </p:cBhvr>
                                      <p:to x="100000" y="80000"/>
                                    </p:animScale>
                                    <p:animScale>
                                      <p:cBhvr>
                                        <p:cTn id="136" dur="166" fill="hold">
                                          <p:stCondLst>
                                            <p:cond delay="1338"/>
                                          </p:stCondLst>
                                        </p:cTn>
                                        <p:tgtEl>
                                          <p:spTgt spid="301"/>
                                        </p:tgtEl>
                                      </p:cBhvr>
                                      <p:to x="100000" y="100000"/>
                                    </p:animScale>
                                    <p:animScale>
                                      <p:cBhvr>
                                        <p:cTn id="137" dur="26" fill="hold">
                                          <p:stCondLst>
                                            <p:cond delay="1642"/>
                                          </p:stCondLst>
                                        </p:cTn>
                                        <p:tgtEl>
                                          <p:spTgt spid="301"/>
                                        </p:tgtEl>
                                      </p:cBhvr>
                                      <p:to x="100000" y="90000"/>
                                    </p:animScale>
                                    <p:animScale>
                                      <p:cBhvr>
                                        <p:cTn id="138" dur="166" fill="hold">
                                          <p:stCondLst>
                                            <p:cond delay="1668"/>
                                          </p:stCondLst>
                                        </p:cTn>
                                        <p:tgtEl>
                                          <p:spTgt spid="301"/>
                                        </p:tgtEl>
                                      </p:cBhvr>
                                      <p:to x="100000" y="100000"/>
                                    </p:animScale>
                                    <p:animScale>
                                      <p:cBhvr>
                                        <p:cTn id="139" dur="26" fill="hold">
                                          <p:stCondLst>
                                            <p:cond delay="1808"/>
                                          </p:stCondLst>
                                        </p:cTn>
                                        <p:tgtEl>
                                          <p:spTgt spid="301"/>
                                        </p:tgtEl>
                                      </p:cBhvr>
                                      <p:to x="100000" y="95000"/>
                                    </p:animScale>
                                    <p:animScale>
                                      <p:cBhvr>
                                        <p:cTn id="140" dur="166" fill="hold">
                                          <p:stCondLst>
                                            <p:cond delay="1834"/>
                                          </p:stCondLst>
                                        </p:cTn>
                                        <p:tgtEl>
                                          <p:spTgt spid="301"/>
                                        </p:tgtEl>
                                      </p:cBhvr>
                                      <p:to x="100000" y="100000"/>
                                    </p:animScale>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1">
                                  <p:stCondLst>
                                    <p:cond delay="0"/>
                                  </p:stCondLst>
                                  <p:childTnLst>
                                    <p:set>
                                      <p:cBhvr>
                                        <p:cTn id="144" dur="1" fill="hold">
                                          <p:stCondLst>
                                            <p:cond delay="0"/>
                                          </p:stCondLst>
                                        </p:cTn>
                                        <p:tgtEl>
                                          <p:spTgt spid="303"/>
                                        </p:tgtEl>
                                        <p:attrNameLst>
                                          <p:attrName>style.visibility</p:attrName>
                                        </p:attrNameLst>
                                      </p:cBhvr>
                                      <p:to>
                                        <p:strVal val="visible"/>
                                      </p:to>
                                    </p:set>
                                    <p:anim calcmode="lin" valueType="num">
                                      <p:cBhvr additive="repl">
                                        <p:cTn id="145" dur="1000" fill="hold"/>
                                        <p:tgtEl>
                                          <p:spTgt spid="303"/>
                                        </p:tgtEl>
                                        <p:attrNameLst>
                                          <p:attrName>ppt_w</p:attrName>
                                        </p:attrNameLst>
                                      </p:cBhvr>
                                      <p:tavLst>
                                        <p:tav tm="0">
                                          <p:val>
                                            <p:fltVal val="0"/>
                                          </p:val>
                                        </p:tav>
                                        <p:tav tm="100000">
                                          <p:val>
                                            <p:strVal val="#ppt_w"/>
                                          </p:val>
                                        </p:tav>
                                      </p:tavLst>
                                    </p:anim>
                                    <p:anim calcmode="lin" valueType="num">
                                      <p:cBhvr additive="repl">
                                        <p:cTn id="146" dur="1000" fill="hold"/>
                                        <p:tgtEl>
                                          <p:spTgt spid="303"/>
                                        </p:tgtEl>
                                        <p:attrNameLst>
                                          <p:attrName>ppt_h</p:attrName>
                                        </p:attrNameLst>
                                      </p:cBhvr>
                                      <p:tavLst>
                                        <p:tav tm="0">
                                          <p:val>
                                            <p:fltVal val="0"/>
                                          </p:val>
                                        </p:tav>
                                        <p:tav tm="100000">
                                          <p:val>
                                            <p:strVal val="#ppt_h"/>
                                          </p:val>
                                        </p:tav>
                                      </p:tavLst>
                                    </p:anim>
                                    <p:anim calcmode="lin" valueType="num">
                                      <p:cBhvr additive="repl">
                                        <p:cTn id="147" dur="1000" fill="hold"/>
                                        <p:tgtEl>
                                          <p:spTgt spid="303"/>
                                        </p:tgtEl>
                                        <p:attrNameLst>
                                          <p:attrName>r</p:attrName>
                                        </p:attrNameLst>
                                      </p:cBhvr>
                                      <p:tavLst>
                                        <p:tav tm="0">
                                          <p:val>
                                            <p:strVal val="90"/>
                                          </p:val>
                                        </p:tav>
                                        <p:tav tm="100000">
                                          <p:val>
                                            <p:strVal val="0"/>
                                          </p:val>
                                        </p:tav>
                                      </p:tavLst>
                                    </p:anim>
                                    <p:animEffect filter="fade" transition="in">
                                      <p:cBhvr additive="repl">
                                        <p:cTn id="148"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762120" y="12193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Calibri"/>
              </a:rPr>
              <a:t>真正有所作为的人，必定是严格按照纪律来约束自己的人，不遵守纪律的学生怎样都不会是一个优秀的学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380880" y="30492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Calibri"/>
              </a:rPr>
              <a:t>一个学校、一个班级，有那么多的学生，如果上课纪律很乱，可以乱说话，可以随意迟到、旷课，那么这样就会影响到每一个学生，大家会逐渐在这样的环境中丧失前进的动力，会逐渐泯灭了上进心。因此，不遵守纪律的同学，所影响的不仅仅是自己，而是破坏我们班级，我们整体的团结、奋进的气氛。这是我们坚决不能够允许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457200" y="380880"/>
            <a:ext cx="8534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Calibri"/>
              </a:rPr>
              <a:t>讲究纪律，不是说不要大家休息和放松，而是说休息和放松要按照要求去做，换句话说，就是要做到该做什么的时候，必须做什么，不该做什么的时候，就坚决不能够做。要把自觉的遵守纪律，看成是提高自己的前提，坚决按照纪律来约束自己的行为。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TextBox 3"/>
          <p:cNvSpPr/>
          <p:nvPr/>
        </p:nvSpPr>
        <p:spPr>
          <a:xfrm>
            <a:off x="4082040" y="2898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Calibri"/>
              </a:rPr>
              <a:t>学习生活中，有哪一些纪律需要我们去遵守的？</a:t>
            </a:r>
            <a:endParaRPr b="0" lang="en-US" sz="3200" spc="-1" strike="noStrike">
              <a:solidFill>
                <a:srgbClr val="000000"/>
              </a:solidFill>
              <a:latin typeface="Arial"/>
            </a:endParaRPr>
          </a:p>
        </p:txBody>
      </p:sp>
      <p:sp>
        <p:nvSpPr>
          <p:cNvPr id="308" name="TextBox 1"/>
          <p:cNvSpPr/>
          <p:nvPr/>
        </p:nvSpPr>
        <p:spPr>
          <a:xfrm>
            <a:off x="3198240" y="119700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rPr>
              <a:t>正因为如此，我们才要遵守纪律，遵守学校的规章制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41">
                                  <p:stCondLst>
                                    <p:cond delay="0"/>
                                  </p:stCondLst>
                                  <p:iterate type="lt">
                                    <p:tmAbs val="50"/>
                                  </p:iterate>
                                  <p:childTnLst>
                                    <p:set>
                                      <p:cBhvr>
                                        <p:cTn id="154" dur="1" fill="hold">
                                          <p:stCondLst>
                                            <p:cond delay="0"/>
                                          </p:stCondLst>
                                        </p:cTn>
                                        <p:tgtEl>
                                          <p:spTgt spid="307"/>
                                        </p:tgtEl>
                                        <p:attrNameLst>
                                          <p:attrName>style.visibility</p:attrName>
                                        </p:attrNameLst>
                                      </p:cBhvr>
                                      <p:to>
                                        <p:strVal val="visible"/>
                                      </p:to>
                                    </p:set>
                                    <p:anim calcmode="lin" valueType="num">
                                      <p:cBhvr additive="repl">
                                        <p:cTn id="155" dur="500" fill="hold"/>
                                        <p:tgtEl>
                                          <p:spTgt spid="3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307"/>
                                        </p:tgtEl>
                                        <p:attrNameLst>
                                          <p:attrName>ppt_y</p:attrName>
                                        </p:attrNameLst>
                                      </p:cBhvr>
                                      <p:tavLst>
                                        <p:tav tm="0">
                                          <p:val>
                                            <p:strVal val="#ppt_y"/>
                                          </p:val>
                                        </p:tav>
                                        <p:tav tm="100000">
                                          <p:val>
                                            <p:strVal val="#ppt_y"/>
                                          </p:val>
                                        </p:tav>
                                      </p:tavLst>
                                    </p:anim>
                                    <p:anim calcmode="lin" valueType="num">
                                      <p:cBhvr additive="repl">
                                        <p:cTn id="157" dur="500" fill="hold"/>
                                        <p:tgtEl>
                                          <p:spTgt spid="3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3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23640" y="189000"/>
            <a:ext cx="84978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宋体"/>
              </a:rPr>
              <a:t>讨论时间</a:t>
            </a:r>
            <a:endParaRPr b="0" lang="en-US" sz="5400" spc="-1" strike="noStrike">
              <a:solidFill>
                <a:srgbClr val="003399"/>
              </a:solidFill>
              <a:latin typeface="Arial"/>
            </a:endParaRPr>
          </a:p>
        </p:txBody>
      </p:sp>
      <p:sp>
        <p:nvSpPr>
          <p:cNvPr id="310" name="TextBox 3"/>
          <p:cNvSpPr/>
          <p:nvPr/>
        </p:nvSpPr>
        <p:spPr>
          <a:xfrm>
            <a:off x="4052880" y="335772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Calibri"/>
              </a:rPr>
              <a:t>我想在坐的每一位同学对我们班的纪律情况也有一定的了解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4"/>
          <p:cNvSpPr/>
          <p:nvPr/>
        </p:nvSpPr>
        <p:spPr>
          <a:xfrm>
            <a:off x="1640880" y="3990960"/>
            <a:ext cx="438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Calibri"/>
              </a:rPr>
              <a:t>那么你们对我们班以后纪律方面有什么好的建议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47">
                                  <p:stCondLst>
                                    <p:cond delay="0"/>
                                  </p:stCondLst>
                                  <p:childTnLst>
                                    <p:set>
                                      <p:cBhvr>
                                        <p:cTn id="165" dur="1" fill="hold">
                                          <p:stCondLst>
                                            <p:cond delay="0"/>
                                          </p:stCondLst>
                                        </p:cTn>
                                        <p:tgtEl>
                                          <p:spTgt spid="309"/>
                                        </p:tgtEl>
                                        <p:attrNameLst>
                                          <p:attrName>style.visibility</p:attrName>
                                        </p:attrNameLst>
                                      </p:cBhvr>
                                      <p:to>
                                        <p:strVal val="visible"/>
                                      </p:to>
                                    </p:set>
                                    <p:animEffect filter="fade" transition="in">
                                      <p:cBhvr additive="repl">
                                        <p:cTn id="166" dur="1000"/>
                                        <p:tgtEl>
                                          <p:spTgt spid="309"/>
                                        </p:tgtEl>
                                      </p:cBhvr>
                                    </p:animEffect>
                                    <p:anim calcmode="lin" valueType="num">
                                      <p:cBhvr additive="repl">
                                        <p:cTn id="167" dur="1000" fill="hold"/>
                                        <p:tgtEl>
                                          <p:spTgt spid="309"/>
                                        </p:tgtEl>
                                        <p:attrNameLst>
                                          <p:attrName>ppt_x</p:attrName>
                                        </p:attrNameLst>
                                      </p:cBhvr>
                                      <p:tavLst>
                                        <p:tav tm="0">
                                          <p:val>
                                            <p:strVal val="#ppt_x"/>
                                          </p:val>
                                        </p:tav>
                                        <p:tav tm="100000">
                                          <p:val>
                                            <p:strVal val="#ppt_x"/>
                                          </p:val>
                                        </p:tav>
                                      </p:tavLst>
                                    </p:anim>
                                    <p:anim calcmode="lin" valueType="num">
                                      <p:cBhvr additive="repl">
                                        <p:cTn id="168" dur="1000" fill="hold"/>
                                        <p:tgtEl>
                                          <p:spTgt spid="309"/>
                                        </p:tgtEl>
                                        <p:attrNameLst>
                                          <p:attrName>ppt_y</p:attrName>
                                        </p:attrNameLst>
                                      </p:cBhvr>
                                      <p:tavLst>
                                        <p:tav tm="0">
                                          <p:val>
                                            <p:strVal val="#ppt_y-.1"/>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2">
                                  <p:stCondLst>
                                    <p:cond delay="0"/>
                                  </p:stCondLst>
                                  <p:childTnLst>
                                    <p:set>
                                      <p:cBhvr>
                                        <p:cTn id="172" dur="1" fill="hold">
                                          <p:stCondLst>
                                            <p:cond delay="0"/>
                                          </p:stCondLst>
                                        </p:cTn>
                                        <p:tgtEl>
                                          <p:spTgt spid="310"/>
                                        </p:tgtEl>
                                        <p:attrNameLst>
                                          <p:attrName>style.visibility</p:attrName>
                                        </p:attrNameLst>
                                      </p:cBhvr>
                                      <p:to>
                                        <p:strVal val="visible"/>
                                      </p:to>
                                    </p:set>
                                    <p:animEffect filter="fade" transition="in">
                                      <p:cBhvr additive="repl">
                                        <p:cTn id="173" dur="1000"/>
                                        <p:tgtEl>
                                          <p:spTgt spid="310"/>
                                        </p:tgtEl>
                                      </p:cBhvr>
                                    </p:animEffect>
                                    <p:anim calcmode="lin" valueType="num">
                                      <p:cBhvr additive="repl">
                                        <p:cTn id="174" dur="1000" fill="hold"/>
                                        <p:tgtEl>
                                          <p:spTgt spid="310"/>
                                        </p:tgtEl>
                                        <p:attrNameLst>
                                          <p:attrName>ppt_x</p:attrName>
                                        </p:attrNameLst>
                                      </p:cBhvr>
                                      <p:tavLst>
                                        <p:tav tm="0">
                                          <p:val>
                                            <p:strVal val="#ppt_x"/>
                                          </p:val>
                                        </p:tav>
                                        <p:tav tm="100000">
                                          <p:val>
                                            <p:strVal val="#ppt_x"/>
                                          </p:val>
                                        </p:tav>
                                      </p:tavLst>
                                    </p:anim>
                                    <p:anim calcmode="lin" valueType="num">
                                      <p:cBhvr additive="repl">
                                        <p:cTn id="175"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6">
                                  <p:stCondLst>
                                    <p:cond delay="0"/>
                                  </p:stCondLst>
                                  <p:iterate type="lt">
                                    <p:tmAbs val="100"/>
                                  </p:iterate>
                                  <p:childTnLst>
                                    <p:set>
                                      <p:cBhvr>
                                        <p:cTn id="179" dur="1" fill="hold">
                                          <p:stCondLst>
                                            <p:cond delay="0"/>
                                          </p:stCondLst>
                                        </p:cTn>
                                        <p:tgtEl>
                                          <p:spTgt spid="311"/>
                                        </p:tgtEl>
                                        <p:attrNameLst>
                                          <p:attrName>style.visibility</p:attrName>
                                        </p:attrNameLst>
                                      </p:cBhvr>
                                      <p:to>
                                        <p:strVal val="visible"/>
                                      </p:to>
                                    </p:set>
                                    <p:anim calcmode="lin" valueType="num" by="(-#ppt_w*2)">
                                      <p:cBhvr additive="repl">
                                        <p:cTn id="180" dur="500" autoRev="1" fill="hold">
                                          <p:stCondLst>
                                            <p:cond delay="0"/>
                                          </p:stCondLst>
                                        </p:cTn>
                                        <p:tgtEl>
                                          <p:spTgt spid="311"/>
                                        </p:tgtEl>
                                        <p:attrNameLst>
                                          <p:attrName>ppt_w</p:attrName>
                                        </p:attrNameLst>
                                      </p:cBhvr>
                                    </p:anim>
                                    <p:anim calcmode="lin" valueType="num" by="(#ppt_w*0.50)">
                                      <p:cBhvr additive="repl">
                                        <p:cTn id="181" dur="500" autoRev="1" fill="hold">
                                          <p:stCondLst>
                                            <p:cond delay="0"/>
                                          </p:stCondLst>
                                        </p:cTn>
                                        <p:tgtEl>
                                          <p:spTgt spid="311"/>
                                        </p:tgtEl>
                                        <p:attrNameLst>
                                          <p:attrName>ppt_x</p:attrName>
                                        </p:attrNameLst>
                                      </p:cBhvr>
                                    </p:anim>
                                    <p:anim calcmode="lin" valueType="num" from="(-#ppt_h/2)" to="(#ppt_y)">
                                      <p:cBhvr additive="repl">
                                        <p:cTn id="182" dur="1000" fill="hold">
                                          <p:stCondLst>
                                            <p:cond delay="0"/>
                                          </p:stCondLst>
                                        </p:cTn>
                                        <p:tgtEl>
                                          <p:spTgt spid="311"/>
                                        </p:tgtEl>
                                        <p:attrNameLst>
                                          <p:attrName>ppt_y</p:attrName>
                                        </p:attrNameLst>
                                      </p:cBhvr>
                                    </p:anim>
                                    <p:animRot by="21600000">
                                      <p:cBhvr>
                                        <p:cTn id="183" dur="1000" fill="hold">
                                          <p:stCondLst>
                                            <p:cond delay="0"/>
                                          </p:stCondLst>
                                        </p:cTn>
                                        <p:tgtEl>
                                          <p:spTgt spid="3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4360" y="5157720"/>
            <a:ext cx="82296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ff"/>
                </a:solidFill>
                <a:latin typeface="Calibri"/>
              </a:rPr>
              <a:t>什么是纪律？</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76"/>
                                        </p:tgtEl>
                                        <p:attrNameLst>
                                          <p:attrName>style.visibility</p:attrName>
                                        </p:attrNameLst>
                                      </p:cBhvr>
                                      <p:to>
                                        <p:strVal val="visible"/>
                                      </p:to>
                                    </p:set>
                                    <p:anim calcmode="lin" valueType="num">
                                      <p:cBhvr additive="repl">
                                        <p:cTn id="7" dur="500" fill="hold"/>
                                        <p:tgtEl>
                                          <p:spTgt spid="276"/>
                                        </p:tgtEl>
                                        <p:attrNameLst>
                                          <p:attrName>ppt_w</p:attrName>
                                        </p:attrNameLst>
                                      </p:cBhvr>
                                      <p:tavLst>
                                        <p:tav tm="0">
                                          <p:val>
                                            <p:fltVal val="0"/>
                                          </p:val>
                                        </p:tav>
                                        <p:tav tm="100000">
                                          <p:val>
                                            <p:strVal val="#ppt_w"/>
                                          </p:val>
                                        </p:tav>
                                      </p:tavLst>
                                    </p:anim>
                                    <p:anim calcmode="lin" valueType="num">
                                      <p:cBhvr additive="repl">
                                        <p:cTn id="8" dur="500" fill="hold"/>
                                        <p:tgtEl>
                                          <p:spTgt spid="276"/>
                                        </p:tgtEl>
                                        <p:attrNameLst>
                                          <p:attrName>ppt_h</p:attrName>
                                        </p:attrNameLst>
                                      </p:cBhvr>
                                      <p:tavLst>
                                        <p:tav tm="0">
                                          <p:val>
                                            <p:fltVal val="0"/>
                                          </p:val>
                                        </p:tav>
                                        <p:tav tm="100000">
                                          <p:val>
                                            <p:strVal val="#ppt_h"/>
                                          </p:val>
                                        </p:tav>
                                      </p:tavLst>
                                    </p:anim>
                                    <p:animEffect filter="fade" transition="in">
                                      <p:cBhvr additive="repl">
                                        <p:cTn id="9"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标题 3"/>
          <p:cNvSpPr/>
          <p:nvPr/>
        </p:nvSpPr>
        <p:spPr>
          <a:xfrm>
            <a:off x="179280" y="409680"/>
            <a:ext cx="54356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rPr>
              <a:t>一般来说：</a:t>
            </a:r>
            <a:endParaRPr b="0" lang="en-US" sz="3300" spc="-1" strike="noStrike">
              <a:solidFill>
                <a:srgbClr val="000000"/>
              </a:solidFill>
              <a:latin typeface="Arial"/>
            </a:endParaRPr>
          </a:p>
        </p:txBody>
      </p:sp>
      <p:sp>
        <p:nvSpPr>
          <p:cNvPr id="278" name="TextBox 4"/>
          <p:cNvSpPr/>
          <p:nvPr/>
        </p:nvSpPr>
        <p:spPr>
          <a:xfrm>
            <a:off x="1063080" y="1057320"/>
            <a:ext cx="182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1</a:t>
            </a:r>
            <a:r>
              <a:rPr b="1" lang="zh-CN" sz="2400" spc="-1" strike="noStrike">
                <a:solidFill>
                  <a:srgbClr val="000000"/>
                </a:solidFill>
                <a:latin typeface="Calibri"/>
              </a:rPr>
              <a:t>．纪律是指惩罚</a:t>
            </a:r>
            <a:r>
              <a:rPr b="1" lang="zh-CN" sz="1800" spc="-1" strike="noStrike">
                <a:solidFill>
                  <a:srgbClr val="000000"/>
                </a:solidFill>
                <a:latin typeface="Calibri"/>
              </a:rPr>
              <a:t>；</a:t>
            </a:r>
            <a:endParaRPr b="0" lang="en-US" sz="1800" spc="-1" strike="noStrike">
              <a:solidFill>
                <a:srgbClr val="000000"/>
              </a:solidFill>
              <a:latin typeface="Arial"/>
            </a:endParaRPr>
          </a:p>
        </p:txBody>
      </p:sp>
      <p:sp>
        <p:nvSpPr>
          <p:cNvPr id="279" name="TextBox 5"/>
          <p:cNvSpPr/>
          <p:nvPr/>
        </p:nvSpPr>
        <p:spPr>
          <a:xfrm>
            <a:off x="2066400" y="1519200"/>
            <a:ext cx="479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2</a:t>
            </a:r>
            <a:r>
              <a:rPr b="1" lang="zh-CN" sz="2400" spc="-1" strike="noStrike">
                <a:solidFill>
                  <a:srgbClr val="000000"/>
                </a:solidFill>
                <a:latin typeface="Calibri"/>
              </a:rPr>
              <a:t>．纪律是指通过施加外来约束达到纠正行为目的手段；</a:t>
            </a:r>
            <a:endParaRPr b="0" lang="en-US" sz="2400" spc="-1" strike="noStrike">
              <a:solidFill>
                <a:srgbClr val="000000"/>
              </a:solidFill>
              <a:latin typeface="Arial"/>
            </a:endParaRPr>
          </a:p>
        </p:txBody>
      </p:sp>
      <p:sp>
        <p:nvSpPr>
          <p:cNvPr id="280" name="TextBox 6"/>
          <p:cNvSpPr/>
          <p:nvPr/>
        </p:nvSpPr>
        <p:spPr>
          <a:xfrm>
            <a:off x="3558960" y="1981080"/>
            <a:ext cx="55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3</a:t>
            </a:r>
            <a:r>
              <a:rPr b="1" lang="zh-CN" sz="2400" spc="-1" strike="noStrike">
                <a:solidFill>
                  <a:srgbClr val="000000"/>
                </a:solidFill>
                <a:latin typeface="Calibri"/>
              </a:rPr>
              <a:t>．纪律是指对自身行为起作用的内在约束力。</a:t>
            </a:r>
            <a:endParaRPr b="0" lang="en-US" sz="2400" spc="-1" strike="noStrike">
              <a:solidFill>
                <a:srgbClr val="000000"/>
              </a:solidFill>
              <a:latin typeface="Arial"/>
            </a:endParaRPr>
          </a:p>
        </p:txBody>
      </p:sp>
      <p:sp>
        <p:nvSpPr>
          <p:cNvPr id="281" name="Text Box 8"/>
          <p:cNvSpPr/>
          <p:nvPr/>
        </p:nvSpPr>
        <p:spPr>
          <a:xfrm>
            <a:off x="609480" y="2971800"/>
            <a:ext cx="777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 </a:t>
            </a:r>
            <a:r>
              <a:rPr b="1" lang="zh-CN" sz="2800" spc="-1" strike="noStrike">
                <a:solidFill>
                  <a:srgbClr val="ff0000"/>
                </a:solidFill>
                <a:latin typeface="Calibri"/>
              </a:rPr>
              <a:t>纪律就是为维护集体利益并保证工作进行而要求成员必须遵守的规章、条文。纪律做为一种人们的行为规则，是伴随着人类社会的产生而产生，伴随着人类社会的发展而发展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6" presetSubtype="21">
                                  <p:stCondLst>
                                    <p:cond delay="0"/>
                                  </p:stCondLst>
                                  <p:childTnLst>
                                    <p:set>
                                      <p:cBhvr>
                                        <p:cTn id="15" dur="1" fill="hold">
                                          <p:stCondLst>
                                            <p:cond delay="0"/>
                                          </p:stCondLst>
                                        </p:cTn>
                                        <p:tgtEl>
                                          <p:spTgt spid="277"/>
                                        </p:tgtEl>
                                        <p:attrNameLst>
                                          <p:attrName>style.visibility</p:attrName>
                                        </p:attrNameLst>
                                      </p:cBhvr>
                                      <p:to>
                                        <p:strVal val="visible"/>
                                      </p:to>
                                    </p:set>
                                    <p:animEffect filter="barn(inVertical)" transition="in">
                                      <p:cBhvr additive="repl">
                                        <p:cTn id="16" dur="500"/>
                                        <p:tgtEl>
                                          <p:spTgt spid="27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78"/>
                                        </p:tgtEl>
                                        <p:attrNameLst>
                                          <p:attrName>style.visibility</p:attrName>
                                        </p:attrNameLst>
                                      </p:cBhvr>
                                      <p:to>
                                        <p:strVal val="visible"/>
                                      </p:to>
                                    </p:set>
                                    <p:anim calcmode="lin" valueType="num">
                                      <p:cBhvr additive="base">
                                        <p:cTn id="21" dur="500" fill="hold"/>
                                        <p:tgtEl>
                                          <p:spTgt spid="278"/>
                                        </p:tgtEl>
                                        <p:attrNameLst>
                                          <p:attrName>ppt_x</p:attrName>
                                        </p:attrNameLst>
                                      </p:cBhvr>
                                      <p:tavLst>
                                        <p:tav tm="0">
                                          <p:val>
                                            <p:strVal val="#ppt_x"/>
                                          </p:val>
                                        </p:tav>
                                        <p:tav tm="100000">
                                          <p:val>
                                            <p:strVal val="#ppt_x"/>
                                          </p:val>
                                        </p:tav>
                                      </p:tavLst>
                                    </p:anim>
                                    <p:anim calcmode="lin" valueType="num">
                                      <p:cBhvr additive="base">
                                        <p:cTn id="22"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79"/>
                                        </p:tgtEl>
                                        <p:attrNameLst>
                                          <p:attrName>style.visibility</p:attrName>
                                        </p:attrNameLst>
                                      </p:cBhvr>
                                      <p:to>
                                        <p:strVal val="visible"/>
                                      </p:to>
                                    </p:set>
                                    <p:anim calcmode="lin" valueType="num">
                                      <p:cBhvr additive="base">
                                        <p:cTn id="27" dur="500" fill="hold"/>
                                        <p:tgtEl>
                                          <p:spTgt spid="279"/>
                                        </p:tgtEl>
                                        <p:attrNameLst>
                                          <p:attrName>ppt_x</p:attrName>
                                        </p:attrNameLst>
                                      </p:cBhvr>
                                      <p:tavLst>
                                        <p:tav tm="0">
                                          <p:val>
                                            <p:strVal val="#ppt_x"/>
                                          </p:val>
                                        </p:tav>
                                        <p:tav tm="100000">
                                          <p:val>
                                            <p:strVal val="#ppt_x"/>
                                          </p:val>
                                        </p:tav>
                                      </p:tavLst>
                                    </p:anim>
                                    <p:anim calcmode="lin" valueType="num">
                                      <p:cBhvr additive="base">
                                        <p:cTn id="28"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80"/>
                                        </p:tgtEl>
                                        <p:attrNameLst>
                                          <p:attrName>style.visibility</p:attrName>
                                        </p:attrNameLst>
                                      </p:cBhvr>
                                      <p:to>
                                        <p:strVal val="visible"/>
                                      </p:to>
                                    </p:set>
                                    <p:anim calcmode="lin" valueType="num">
                                      <p:cBhvr additive="base">
                                        <p:cTn id="33" dur="500" fill="hold"/>
                                        <p:tgtEl>
                                          <p:spTgt spid="280"/>
                                        </p:tgtEl>
                                        <p:attrNameLst>
                                          <p:attrName>ppt_x</p:attrName>
                                        </p:attrNameLst>
                                      </p:cBhvr>
                                      <p:tavLst>
                                        <p:tav tm="0">
                                          <p:val>
                                            <p:strVal val="#ppt_x"/>
                                          </p:val>
                                        </p:tav>
                                        <p:tav tm="100000">
                                          <p:val>
                                            <p:strVal val="#ppt_x"/>
                                          </p:val>
                                        </p:tav>
                                      </p:tavLst>
                                    </p:anim>
                                    <p:anim calcmode="lin" valueType="num">
                                      <p:cBhvr additive="base">
                                        <p:cTn id="34"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281"/>
                                        </p:tgtEl>
                                        <p:attrNameLst>
                                          <p:attrName>style.visibility</p:attrName>
                                        </p:attrNameLst>
                                      </p:cBhvr>
                                      <p:to>
                                        <p:strVal val="visible"/>
                                      </p:to>
                                    </p:set>
                                    <p:anim calcmode="lin" valueType="num">
                                      <p:cBhvr additive="repl">
                                        <p:cTn id="39" dur="1000" fill="hold"/>
                                        <p:tgtEl>
                                          <p:spTgt spid="281"/>
                                        </p:tgtEl>
                                        <p:attrNameLst>
                                          <p:attrName>ppt_w</p:attrName>
                                        </p:attrNameLst>
                                      </p:cBhvr>
                                      <p:tavLst>
                                        <p:tav tm="0">
                                          <p:val>
                                            <p:strVal val="#ppt_w+.3"/>
                                          </p:val>
                                        </p:tav>
                                        <p:tav tm="100000">
                                          <p:val>
                                            <p:strVal val="#ppt_w"/>
                                          </p:val>
                                        </p:tav>
                                      </p:tavLst>
                                    </p:anim>
                                    <p:anim calcmode="lin" valueType="num">
                                      <p:cBhvr additive="repl">
                                        <p:cTn id="40" dur="1000" fill="hold"/>
                                        <p:tgtEl>
                                          <p:spTgt spid="281"/>
                                        </p:tgtEl>
                                        <p:attrNameLst>
                                          <p:attrName>ppt_h</p:attrName>
                                        </p:attrNameLst>
                                      </p:cBhvr>
                                      <p:tavLst>
                                        <p:tav tm="0">
                                          <p:val>
                                            <p:strVal val="#ppt_h"/>
                                          </p:val>
                                        </p:tav>
                                        <p:tav tm="100000">
                                          <p:val>
                                            <p:strVal val="#ppt_h"/>
                                          </p:val>
                                        </p:tav>
                                      </p:tavLst>
                                    </p:anim>
                                    <p:animEffect filter="fade" transition="in">
                                      <p:cBhvr additive="repl">
                                        <p:cTn id="41"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2" name=""/>
          <p:cNvSpPr/>
          <p:nvPr/>
        </p:nvSpPr>
        <p:spPr>
          <a:xfrm>
            <a:off x="1547640" y="549360"/>
            <a:ext cx="734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84360" y="549360"/>
            <a:ext cx="7812000" cy="16534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    </a:t>
            </a:r>
            <a:r>
              <a:rPr b="0" lang="zh-CN" sz="3000" spc="-1" strike="noStrike">
                <a:solidFill>
                  <a:srgbClr val="ffffff"/>
                </a:solidFill>
                <a:latin typeface="Tahoma"/>
              </a:rPr>
              <a:t>有一次，</a:t>
            </a:r>
            <a:r>
              <a:rPr b="0" lang="zh-CN" sz="3000" spc="-1" strike="noStrike" u="sng">
                <a:solidFill>
                  <a:srgbClr val="ffcc66"/>
                </a:solidFill>
                <a:uFillTx/>
                <a:latin typeface="Tahoma"/>
                <a:hlinkClick r:id="rId1"/>
              </a:rPr>
              <a:t>列宁</a:t>
            </a:r>
            <a:r>
              <a:rPr b="0" lang="zh-CN" sz="3000" spc="-1" strike="noStrike">
                <a:solidFill>
                  <a:srgbClr val="ffffff"/>
                </a:solidFill>
                <a:latin typeface="Tahoma"/>
              </a:rPr>
              <a:t>到一个地方开会。走到会场门口，被卫兵挡住了，要检查他的证件。后边走来一个留小胡子的人，向卫兵说：“这是列宁同志，快放他进去！”卫兵回答说：“我没见过列宁同志。再说，不管是谁，都要检查的，这是纪律。”列宁出示了自己的证件，卫兵一看果然是列宁，</a:t>
            </a:r>
            <a:endParaRPr b="0" lang="en-US" sz="30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gn="just">
              <a:lnSpc>
                <a:spcPct val="1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马上敬礼说：“对不起，列宁同志，请您进会场吧！”列宁握着卫兵的手说：“我们每个人都要遵守革命的法规，卫兵同志，你履行了自己的职责，做得很对。”列宁自觉遵守纪律的行为和卫兵一丝不苟的精神，都充分体现了社会纪律的高度自觉性。</a:t>
            </a:r>
            <a:r>
              <a:rPr b="0" lang="zh-CN" sz="3200" spc="-1" strike="noStrike">
                <a:solidFill>
                  <a:srgbClr val="ffff00"/>
                </a:solidFill>
                <a:latin typeface="Tahoma"/>
              </a:rPr>
              <a:t> </a:t>
            </a:r>
            <a:endParaRPr b="0" lang="en-US" sz="3200" spc="-1" strike="noStrike">
              <a:solidFill>
                <a:srgbClr val="ffffff"/>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fill="hold">
                                          <p:stCondLst>
                                            <p:cond delay="0"/>
                                          </p:stCondLst>
                                        </p:cTn>
                                        <p:tgtEl>
                                          <p:spTgt spid="284">
                                            <p:txEl>
                                              <p:pRg st="0" end="0"/>
                                            </p:txEl>
                                          </p:spTgt>
                                        </p:tgtEl>
                                        <p:attrNameLst>
                                          <p:attrName>style.visibility</p:attrName>
                                        </p:attrNameLst>
                                      </p:cBhvr>
                                      <p:to>
                                        <p:strVal val="visible"/>
                                      </p:to>
                                    </p:set>
                                    <p:anim calcmode="lin" valueType="num">
                                      <p:cBhvr additive="base">
                                        <p:cTn id="48" dur="1000" fill="hold">
                                          <p:stCondLst>
                                            <p:cond delay="0"/>
                                          </p:stCondLst>
                                        </p:cTn>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stCondLst>
                                            <p:cond delay="0"/>
                                          </p:stCondLst>
                                        </p:cTn>
                                        <p:tgtEl>
                                          <p:spTgt spid="2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5" name=""/>
          <p:cNvSpPr/>
          <p:nvPr/>
        </p:nvSpPr>
        <p:spPr>
          <a:xfrm>
            <a:off x="324000" y="692280"/>
            <a:ext cx="8640720" cy="8247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    </a:t>
            </a:r>
            <a:r>
              <a:rPr b="0" lang="zh-CN" sz="3000" spc="-1" strike="noStrike">
                <a:solidFill>
                  <a:srgbClr val="ffffff"/>
                </a:solidFill>
                <a:latin typeface="Tahoma"/>
              </a:rPr>
              <a:t>春秋末期，伟大的军事家孙武离开齐国后，来到吴国，吴王为了检验他兵法的适用性，便召集了后宫美女一百八十人交给孙武操练，自己反复宣布命令：“一、不许混乱队伍；二、不许笑语喧哗；三、不许故意违反军令。”然后申明训练规矩，令听从鼓声指挥。训练过程中，众后宫美女见孙武那副认真样子，</a:t>
            </a:r>
            <a:endParaRPr b="0" lang="en-US" sz="3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gn="just">
              <a:lnSpc>
                <a:spcPct val="1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觉得有些好玩，倚仗吴王对自己的宠爱，不听鼓声约束，有的索性趴在地上不动。孙武见此情景，毅然斩掉了吴王宠爱的两个后宫美女。其余众美女全都大惊失色，惊恐万分，个个都打起精神，再不像刚才那样嘻嘻哈哈，嬉笑打闹，自始至终都井然有序，寂然无声。 </a:t>
            </a:r>
            <a:endParaRPr b="0" lang="en-US" sz="3200" spc="-1" strike="noStrike">
              <a:solidFill>
                <a:srgbClr val="ffffff"/>
              </a:solidFill>
              <a:latin typeface="Tahoma"/>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86">
                                            <p:txEl>
                                              <p:pRg st="0" end="0"/>
                                            </p:txEl>
                                          </p:spTgt>
                                        </p:tgtEl>
                                        <p:attrNameLst>
                                          <p:attrName>style.visibility</p:attrName>
                                        </p:attrNameLst>
                                      </p:cBhvr>
                                      <p:to>
                                        <p:strVal val="visible"/>
                                      </p:to>
                                    </p:set>
                                    <p:animEffect filter="randombar(horizontal)" transition="in">
                                      <p:cBhvr additive="repl">
                                        <p:cTn id="56" dur="500"/>
                                        <p:tgtEl>
                                          <p:spTgt spid="2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7" name=""/>
          <p:cNvSpPr/>
          <p:nvPr/>
        </p:nvSpPr>
        <p:spPr>
          <a:xfrm>
            <a:off x="250920" y="189000"/>
            <a:ext cx="8569080" cy="946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次，周恩来去北戴河，需要看世界地图和一些书籍。工作人员给北戴河文化馆打电话，说有位领导要看世界地图和其他一些书籍。接电话的小黄回答：“我们有规定，图书不外借，要看请自己来。”周恩来便冒雨到图书馆借书。小黄一见是周总理，心里很懊悔，总理和蔼的说：“无论谁都要遵守制度。” </a:t>
            </a:r>
            <a:endParaRPr b="0" lang="en-US" sz="32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8" name=""/>
          <p:cNvSpPr/>
          <p:nvPr/>
        </p:nvSpPr>
        <p:spPr>
          <a:xfrm>
            <a:off x="684360" y="2060640"/>
            <a:ext cx="734508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通过几则故事，大家对纪律有什么新的感悟？</a:t>
            </a:r>
            <a:endParaRPr b="0" lang="en-US" sz="4000" spc="-1" strike="noStrike">
              <a:solidFill>
                <a:srgbClr val="000000"/>
              </a:solidFill>
              <a:latin typeface="Arial"/>
            </a:endParaRPr>
          </a:p>
        </p:txBody>
      </p:sp>
      <p:sp>
        <p:nvSpPr>
          <p:cNvPr id="289" name=""/>
          <p:cNvSpPr/>
          <p:nvPr/>
        </p:nvSpPr>
        <p:spPr>
          <a:xfrm>
            <a:off x="611280" y="54936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问一问：</a:t>
            </a:r>
            <a:endParaRPr b="0" lang="en-US" sz="44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12-10T06:02:51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